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CEC-AF7E-4661-987C-13EC1A59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3FA-AC72-4CEF-BEF7-02B813B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9BE-B5B8-477C-9FE3-DC6D4C0C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412-3897-4B62-A40D-A3176FE2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AB06-E84E-4867-87E1-373AAE32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F65-AC8C-4517-B10E-C1E9692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0EB-4EC0-470C-95E0-98DF495C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8E3-A5C8-4642-BFC1-F906241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A1CB-E7FE-4BBE-918E-5E145629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F5C8-174E-41B4-9C41-F08B0D6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8AB2-F8D4-4787-8CCE-89B0CA47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DB8-4B9A-4646-8FDE-D637B4D1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49C-C3E5-4421-B371-741BA95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D7A-FFB9-4BE1-983B-B8968A85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303A-69E2-4F44-B06E-13E035B6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2ED-328C-4143-A641-DBCF2829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D963-BF19-435F-90BF-69F5BB1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87E-1D9D-4FDF-933D-6F812F2E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77D-70AC-4504-B61A-EBF2FA7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24E-6630-4315-BC53-F4105DDD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B5B-491A-4C21-A20C-2BB054A2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82C-2EC3-476C-9546-80E2334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5E7-0280-4C6B-B579-215B3E2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CB0-09F6-4291-BFF6-B769DCD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050-4C84-4E93-811D-364B1F3D96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5FB-80F0-4B18-8114-A9C630B95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index.htm;jsessionid=JN7wTf4MPwNYpL90S3gFnpLQFGfkQnFNmGSxdHGNNSXyWwDyrvXb!24920775" TargetMode="External"/><Relationship Id="rId2" Type="http://schemas.openxmlformats.org/officeDocument/2006/relationships/hyperlink" Target="http://www.classzone.com/cz/index.htm;jsessionid=JN7wTf4MPwNYpL90S3gFnpLQFGfkQnFNmGSxdHGNNSXyWwDyrvXb!24920775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Opener: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Complete the following problems involving whole numb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9 + 83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 x 5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12 - 1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660760"/>
            <a:ext cx="1287360" cy="1482480"/>
          </a:xfrm>
          <a:custGeom>
            <a:avLst/>
            <a:gdLst/>
            <a:ahLst/>
            <a:rect l="l" t="t" r="r" b="b"/>
            <a:pathLst>
              <a:path w="3573" h="4118">
                <a:moveTo>
                  <a:pt x="4118" y="8186"/>
                </a:moveTo>
                <a:cubicBezTo>
                  <a:pt x="4256" y="8073"/>
                  <a:pt x="4298" y="8049"/>
                  <a:pt x="4440" y="8136"/>
                </a:cubicBezTo>
                <a:cubicBezTo>
                  <a:pt x="4440" y="8360"/>
                  <a:pt x="4376" y="8410"/>
                  <a:pt x="4167" y="8508"/>
                </a:cubicBezTo>
                <a:cubicBezTo>
                  <a:pt x="4223" y="8370"/>
                  <a:pt x="4335" y="8441"/>
                  <a:pt x="4440" y="8483"/>
                </a:cubicBezTo>
                <a:cubicBezTo>
                  <a:pt x="4396" y="8660"/>
                  <a:pt x="4199" y="8849"/>
                  <a:pt x="3969" y="8781"/>
                </a:cubicBezTo>
                <a:cubicBezTo>
                  <a:pt x="3969" y="8756"/>
                  <a:pt x="3969" y="8731"/>
                  <a:pt x="3969" y="8706"/>
                </a:cubicBezTo>
              </a:path>
              <a:path w="3573" h="4118">
                <a:moveTo>
                  <a:pt x="4911" y="7987"/>
                </a:moveTo>
                <a:cubicBezTo>
                  <a:pt x="4764" y="8008"/>
                  <a:pt x="4725" y="8073"/>
                  <a:pt x="4638" y="8186"/>
                </a:cubicBezTo>
                <a:cubicBezTo>
                  <a:pt x="4756" y="8332"/>
                  <a:pt x="4862" y="8367"/>
                  <a:pt x="4936" y="8533"/>
                </a:cubicBezTo>
                <a:cubicBezTo>
                  <a:pt x="4769" y="8611"/>
                  <a:pt x="4627" y="8623"/>
                  <a:pt x="4738" y="8384"/>
                </a:cubicBezTo>
                <a:cubicBezTo>
                  <a:pt x="4786" y="8282"/>
                  <a:pt x="4857" y="8212"/>
                  <a:pt x="4887" y="8111"/>
                </a:cubicBezTo>
              </a:path>
              <a:path w="3573" h="4118">
                <a:moveTo>
                  <a:pt x="5482" y="8136"/>
                </a:moveTo>
                <a:cubicBezTo>
                  <a:pt x="5474" y="8086"/>
                  <a:pt x="5459" y="8053"/>
                  <a:pt x="5432" y="8012"/>
                </a:cubicBezTo>
                <a:cubicBezTo>
                  <a:pt x="5373" y="8036"/>
                  <a:pt x="4939" y="8284"/>
                  <a:pt x="5209" y="8359"/>
                </a:cubicBezTo>
                <a:cubicBezTo>
                  <a:pt x="5349" y="8331"/>
                  <a:pt x="5402" y="8311"/>
                  <a:pt x="5457" y="8210"/>
                </a:cubicBezTo>
                <a:cubicBezTo>
                  <a:pt x="5465" y="8185"/>
                  <a:pt x="5474" y="8161"/>
                  <a:pt x="5482" y="8136"/>
                </a:cubicBezTo>
                <a:cubicBezTo>
                  <a:pt x="5482" y="8297"/>
                  <a:pt x="5455" y="8427"/>
                  <a:pt x="5432" y="8582"/>
                </a:cubicBezTo>
                <a:cubicBezTo>
                  <a:pt x="5432" y="8650"/>
                  <a:pt x="5435" y="8669"/>
                  <a:pt x="5407" y="8706"/>
                </a:cubicBezTo>
              </a:path>
              <a:path w="3573" h="4118">
                <a:moveTo>
                  <a:pt x="3448" y="9327"/>
                </a:moveTo>
                <a:cubicBezTo>
                  <a:pt x="3448" y="9468"/>
                  <a:pt x="3455" y="9888"/>
                  <a:pt x="3473" y="9748"/>
                </a:cubicBezTo>
                <a:cubicBezTo>
                  <a:pt x="3473" y="9723"/>
                  <a:pt x="3473" y="9699"/>
                  <a:pt x="3473" y="9674"/>
                </a:cubicBezTo>
              </a:path>
              <a:path w="3573" h="4118">
                <a:moveTo>
                  <a:pt x="3225" y="9475"/>
                </a:moveTo>
                <a:cubicBezTo>
                  <a:pt x="3352" y="9466"/>
                  <a:pt x="3494" y="9408"/>
                  <a:pt x="3621" y="9426"/>
                </a:cubicBezTo>
                <a:cubicBezTo>
                  <a:pt x="3646" y="9434"/>
                  <a:pt x="3671" y="9443"/>
                  <a:pt x="3696" y="9451"/>
                </a:cubicBezTo>
              </a:path>
              <a:path w="3573" h="4118">
                <a:moveTo>
                  <a:pt x="4415" y="9153"/>
                </a:moveTo>
                <a:cubicBezTo>
                  <a:pt x="4255" y="9172"/>
                  <a:pt x="4169" y="9197"/>
                  <a:pt x="4068" y="9327"/>
                </a:cubicBezTo>
                <a:cubicBezTo>
                  <a:pt x="4176" y="9381"/>
                  <a:pt x="4512" y="9464"/>
                  <a:pt x="4366" y="9624"/>
                </a:cubicBezTo>
                <a:cubicBezTo>
                  <a:pt x="4242" y="9707"/>
                  <a:pt x="4217" y="9756"/>
                  <a:pt x="4142" y="9674"/>
                </a:cubicBezTo>
                <a:cubicBezTo>
                  <a:pt x="4209" y="9509"/>
                  <a:pt x="4266" y="9351"/>
                  <a:pt x="4415" y="9252"/>
                </a:cubicBezTo>
              </a:path>
              <a:path w="3573" h="4118">
                <a:moveTo>
                  <a:pt x="4812" y="9153"/>
                </a:moveTo>
                <a:cubicBezTo>
                  <a:pt x="4818" y="9145"/>
                  <a:pt x="5025" y="8988"/>
                  <a:pt x="5035" y="9103"/>
                </a:cubicBezTo>
                <a:cubicBezTo>
                  <a:pt x="5005" y="9227"/>
                  <a:pt x="4980" y="9277"/>
                  <a:pt x="4887" y="9327"/>
                </a:cubicBezTo>
                <a:cubicBezTo>
                  <a:pt x="4870" y="9335"/>
                  <a:pt x="4854" y="9343"/>
                  <a:pt x="4837" y="9351"/>
                </a:cubicBezTo>
                <a:cubicBezTo>
                  <a:pt x="4939" y="9317"/>
                  <a:pt x="5047" y="9247"/>
                  <a:pt x="5060" y="9426"/>
                </a:cubicBezTo>
                <a:cubicBezTo>
                  <a:pt x="5070" y="9574"/>
                  <a:pt x="4718" y="9672"/>
                  <a:pt x="4614" y="9624"/>
                </a:cubicBezTo>
                <a:cubicBezTo>
                  <a:pt x="4622" y="9608"/>
                  <a:pt x="4630" y="9591"/>
                  <a:pt x="4638" y="9575"/>
                </a:cubicBezTo>
              </a:path>
              <a:path w="3573" h="4118">
                <a:moveTo>
                  <a:pt x="5383" y="9029"/>
                </a:moveTo>
                <a:cubicBezTo>
                  <a:pt x="5383" y="9232"/>
                  <a:pt x="5344" y="9401"/>
                  <a:pt x="5308" y="9599"/>
                </a:cubicBezTo>
                <a:cubicBezTo>
                  <a:pt x="5308" y="9607"/>
                  <a:pt x="5308" y="9616"/>
                  <a:pt x="5308" y="9624"/>
                </a:cubicBezTo>
              </a:path>
              <a:path w="3573" h="4118">
                <a:moveTo>
                  <a:pt x="3249" y="10071"/>
                </a:moveTo>
                <a:cubicBezTo>
                  <a:pt x="3639" y="9978"/>
                  <a:pt x="4014" y="9969"/>
                  <a:pt x="4415" y="9947"/>
                </a:cubicBezTo>
                <a:cubicBezTo>
                  <a:pt x="4784" y="9927"/>
                  <a:pt x="5139" y="9947"/>
                  <a:pt x="5507" y="9947"/>
                </a:cubicBezTo>
                <a:cubicBezTo>
                  <a:pt x="5515" y="9947"/>
                  <a:pt x="5523" y="9947"/>
                  <a:pt x="5531" y="9947"/>
                </a:cubicBezTo>
              </a:path>
              <a:path w="3573" h="4118">
                <a:moveTo>
                  <a:pt x="4837" y="7392"/>
                </a:moveTo>
                <a:cubicBezTo>
                  <a:pt x="4801" y="7404"/>
                  <a:pt x="4793" y="7518"/>
                  <a:pt x="4787" y="7565"/>
                </a:cubicBezTo>
                <a:cubicBezTo>
                  <a:pt x="4780" y="7619"/>
                  <a:pt x="4761" y="7698"/>
                  <a:pt x="4812" y="7665"/>
                </a:cubicBezTo>
              </a:path>
              <a:path w="3573" h="4118">
                <a:moveTo>
                  <a:pt x="5457" y="10220"/>
                </a:moveTo>
                <a:cubicBezTo>
                  <a:pt x="5377" y="10220"/>
                  <a:pt x="5352" y="10266"/>
                  <a:pt x="5333" y="10344"/>
                </a:cubicBezTo>
                <a:cubicBezTo>
                  <a:pt x="5321" y="10395"/>
                  <a:pt x="5333" y="10463"/>
                  <a:pt x="5333" y="10517"/>
                </a:cubicBezTo>
                <a:cubicBezTo>
                  <a:pt x="5388" y="10517"/>
                  <a:pt x="5488" y="10538"/>
                  <a:pt x="5531" y="10492"/>
                </a:cubicBezTo>
                <a:cubicBezTo>
                  <a:pt x="5572" y="10448"/>
                  <a:pt x="5606" y="10369"/>
                  <a:pt x="5631" y="10344"/>
                </a:cubicBezTo>
                <a:cubicBezTo>
                  <a:pt x="5652" y="10323"/>
                  <a:pt x="5660" y="10313"/>
                  <a:pt x="5631" y="10269"/>
                </a:cubicBezTo>
                <a:cubicBezTo>
                  <a:pt x="5602" y="10225"/>
                  <a:pt x="5554" y="10220"/>
                  <a:pt x="5507" y="10220"/>
                </a:cubicBezTo>
                <a:cubicBezTo>
                  <a:pt x="5482" y="10220"/>
                  <a:pt x="5474" y="10220"/>
                  <a:pt x="5457" y="10220"/>
                </a:cubicBezTo>
              </a:path>
              <a:path w="3573" h="4118">
                <a:moveTo>
                  <a:pt x="4118" y="7689"/>
                </a:moveTo>
                <a:cubicBezTo>
                  <a:pt x="4118" y="7623"/>
                  <a:pt x="4118" y="7772"/>
                  <a:pt x="4118" y="7838"/>
                </a:cubicBezTo>
                <a:cubicBezTo>
                  <a:pt x="4118" y="7871"/>
                  <a:pt x="4118" y="7905"/>
                  <a:pt x="4118" y="7938"/>
                </a:cubicBezTo>
                <a:cubicBezTo>
                  <a:pt x="4118" y="8088"/>
                  <a:pt x="4142" y="7742"/>
                  <a:pt x="4142" y="7739"/>
                </a:cubicBezTo>
                <a:cubicBezTo>
                  <a:pt x="4142" y="7714"/>
                  <a:pt x="4142" y="7690"/>
                  <a:pt x="4142" y="7665"/>
                </a:cubicBezTo>
              </a:path>
              <a:path w="3573" h="4118">
                <a:moveTo>
                  <a:pt x="4663" y="10294"/>
                </a:moveTo>
                <a:cubicBezTo>
                  <a:pt x="4663" y="10236"/>
                  <a:pt x="4676" y="10224"/>
                  <a:pt x="4713" y="10195"/>
                </a:cubicBezTo>
                <a:cubicBezTo>
                  <a:pt x="4757" y="10161"/>
                  <a:pt x="4784" y="10160"/>
                  <a:pt x="4837" y="10195"/>
                </a:cubicBezTo>
                <a:cubicBezTo>
                  <a:pt x="4910" y="10244"/>
                  <a:pt x="4839" y="10362"/>
                  <a:pt x="4812" y="10418"/>
                </a:cubicBezTo>
                <a:cubicBezTo>
                  <a:pt x="4766" y="10513"/>
                  <a:pt x="4710" y="10548"/>
                  <a:pt x="4663" y="10641"/>
                </a:cubicBezTo>
                <a:cubicBezTo>
                  <a:pt x="4655" y="10658"/>
                  <a:pt x="4646" y="10674"/>
                  <a:pt x="4638" y="10691"/>
                </a:cubicBezTo>
                <a:cubicBezTo>
                  <a:pt x="4649" y="10606"/>
                  <a:pt x="4676" y="10579"/>
                  <a:pt x="4738" y="10517"/>
                </a:cubicBezTo>
                <a:cubicBezTo>
                  <a:pt x="4821" y="10517"/>
                  <a:pt x="4833" y="10606"/>
                  <a:pt x="4887" y="10666"/>
                </a:cubicBezTo>
                <a:cubicBezTo>
                  <a:pt x="4903" y="10683"/>
                  <a:pt x="4920" y="10699"/>
                  <a:pt x="4936" y="10716"/>
                </a:cubicBezTo>
                <a:cubicBezTo>
                  <a:pt x="5002" y="10683"/>
                  <a:pt x="5025" y="10615"/>
                  <a:pt x="5060" y="10592"/>
                </a:cubicBezTo>
              </a:path>
              <a:path w="3573" h="4118">
                <a:moveTo>
                  <a:pt x="4118" y="10244"/>
                </a:moveTo>
                <a:cubicBezTo>
                  <a:pt x="4130" y="10207"/>
                  <a:pt x="4140" y="10215"/>
                  <a:pt x="4167" y="10195"/>
                </a:cubicBezTo>
                <a:cubicBezTo>
                  <a:pt x="4195" y="10174"/>
                  <a:pt x="4243" y="10160"/>
                  <a:pt x="4266" y="10195"/>
                </a:cubicBezTo>
                <a:cubicBezTo>
                  <a:pt x="4290" y="10231"/>
                  <a:pt x="4291" y="10271"/>
                  <a:pt x="4291" y="10319"/>
                </a:cubicBezTo>
                <a:cubicBezTo>
                  <a:pt x="4291" y="10380"/>
                  <a:pt x="4242" y="10410"/>
                  <a:pt x="4192" y="10418"/>
                </a:cubicBezTo>
                <a:cubicBezTo>
                  <a:pt x="4138" y="10427"/>
                  <a:pt x="4142" y="10457"/>
                  <a:pt x="4118" y="10492"/>
                </a:cubicBezTo>
                <a:cubicBezTo>
                  <a:pt x="4082" y="10546"/>
                  <a:pt x="4054" y="10601"/>
                  <a:pt x="4043" y="10666"/>
                </a:cubicBezTo>
                <a:cubicBezTo>
                  <a:pt x="4043" y="10683"/>
                  <a:pt x="4043" y="10699"/>
                  <a:pt x="4043" y="10716"/>
                </a:cubicBezTo>
                <a:cubicBezTo>
                  <a:pt x="4054" y="10670"/>
                  <a:pt x="4080" y="10635"/>
                  <a:pt x="4118" y="10616"/>
                </a:cubicBezTo>
                <a:cubicBezTo>
                  <a:pt x="4163" y="10634"/>
                  <a:pt x="4196" y="10675"/>
                  <a:pt x="4217" y="10691"/>
                </a:cubicBezTo>
                <a:cubicBezTo>
                  <a:pt x="4268" y="10729"/>
                  <a:pt x="4366" y="10736"/>
                  <a:pt x="4415" y="10691"/>
                </a:cubicBezTo>
                <a:cubicBezTo>
                  <a:pt x="4443" y="10666"/>
                  <a:pt x="4482" y="10608"/>
                  <a:pt x="4514" y="10567"/>
                </a:cubicBezTo>
              </a:path>
              <a:path w="3573" h="4118">
                <a:moveTo>
                  <a:pt x="3572" y="10393"/>
                </a:moveTo>
                <a:cubicBezTo>
                  <a:pt x="3572" y="10327"/>
                  <a:pt x="3564" y="10273"/>
                  <a:pt x="3597" y="10220"/>
                </a:cubicBezTo>
                <a:cubicBezTo>
                  <a:pt x="3584" y="10308"/>
                  <a:pt x="3555" y="10403"/>
                  <a:pt x="3547" y="10492"/>
                </a:cubicBezTo>
                <a:cubicBezTo>
                  <a:pt x="3537" y="10610"/>
                  <a:pt x="3524" y="10736"/>
                  <a:pt x="3497" y="10840"/>
                </a:cubicBezTo>
                <a:cubicBezTo>
                  <a:pt x="3497" y="10864"/>
                  <a:pt x="3497" y="10872"/>
                  <a:pt x="3497" y="10840"/>
                </a:cubicBezTo>
              </a:path>
              <a:path w="3573" h="4118">
                <a:moveTo>
                  <a:pt x="3795" y="10815"/>
                </a:moveTo>
                <a:cubicBezTo>
                  <a:pt x="3873" y="10892"/>
                  <a:pt x="3856" y="10986"/>
                  <a:pt x="3820" y="11088"/>
                </a:cubicBezTo>
                <a:cubicBezTo>
                  <a:pt x="3778" y="11170"/>
                  <a:pt x="3778" y="11195"/>
                  <a:pt x="3721" y="11212"/>
                </a:cubicBezTo>
              </a:path>
              <a:path w="3573" h="4118">
                <a:moveTo>
                  <a:pt x="3274" y="11311"/>
                </a:moveTo>
                <a:cubicBezTo>
                  <a:pt x="3310" y="11331"/>
                  <a:pt x="3402" y="11391"/>
                  <a:pt x="3473" y="11410"/>
                </a:cubicBezTo>
                <a:cubicBezTo>
                  <a:pt x="3686" y="11468"/>
                  <a:pt x="3897" y="11499"/>
                  <a:pt x="4118" y="11509"/>
                </a:cubicBezTo>
                <a:cubicBezTo>
                  <a:pt x="4338" y="11519"/>
                  <a:pt x="4595" y="11525"/>
                  <a:pt x="4812" y="11485"/>
                </a:cubicBezTo>
                <a:cubicBezTo>
                  <a:pt x="5018" y="11447"/>
                  <a:pt x="5235" y="11382"/>
                  <a:pt x="5432" y="11311"/>
                </a:cubicBezTo>
                <a:cubicBezTo>
                  <a:pt x="5591" y="11253"/>
                  <a:pt x="5812" y="11181"/>
                  <a:pt x="5953" y="11088"/>
                </a:cubicBezTo>
                <a:cubicBezTo>
                  <a:pt x="6075" y="11008"/>
                  <a:pt x="6182" y="10892"/>
                  <a:pt x="6251" y="10765"/>
                </a:cubicBezTo>
                <a:cubicBezTo>
                  <a:pt x="6310" y="10656"/>
                  <a:pt x="6351" y="10518"/>
                  <a:pt x="6325" y="10393"/>
                </a:cubicBezTo>
                <a:cubicBezTo>
                  <a:pt x="6308" y="10313"/>
                  <a:pt x="6245" y="10228"/>
                  <a:pt x="6176" y="10170"/>
                </a:cubicBezTo>
                <a:cubicBezTo>
                  <a:pt x="6116" y="10120"/>
                  <a:pt x="6002" y="10092"/>
                  <a:pt x="5928" y="10071"/>
                </a:cubicBezTo>
                <a:cubicBezTo>
                  <a:pt x="5867" y="10054"/>
                  <a:pt x="5792" y="10008"/>
                  <a:pt x="5730" y="9996"/>
                </a:cubicBezTo>
                <a:cubicBezTo>
                  <a:pt x="5660" y="9982"/>
                  <a:pt x="5577" y="9976"/>
                  <a:pt x="5507" y="9971"/>
                </a:cubicBezTo>
                <a:cubicBezTo>
                  <a:pt x="5408" y="9964"/>
                  <a:pt x="5305" y="9953"/>
                  <a:pt x="5209" y="9947"/>
                </a:cubicBezTo>
                <a:cubicBezTo>
                  <a:pt x="4888" y="9925"/>
                  <a:pt x="4560" y="9952"/>
                  <a:pt x="4242" y="9971"/>
                </a:cubicBezTo>
                <a:cubicBezTo>
                  <a:pt x="4084" y="9980"/>
                  <a:pt x="3926" y="9992"/>
                  <a:pt x="3770" y="9996"/>
                </a:cubicBezTo>
                <a:cubicBezTo>
                  <a:pt x="3655" y="9999"/>
                  <a:pt x="3558" y="9991"/>
                  <a:pt x="3448" y="10021"/>
                </a:cubicBezTo>
                <a:cubicBezTo>
                  <a:pt x="3326" y="10054"/>
                  <a:pt x="3209" y="10082"/>
                  <a:pt x="3101" y="10145"/>
                </a:cubicBezTo>
                <a:cubicBezTo>
                  <a:pt x="3025" y="10189"/>
                  <a:pt x="2917" y="10257"/>
                  <a:pt x="2877" y="10319"/>
                </a:cubicBezTo>
                <a:cubicBezTo>
                  <a:pt x="2834" y="10386"/>
                  <a:pt x="2768" y="10483"/>
                  <a:pt x="2753" y="10567"/>
                </a:cubicBezTo>
                <a:cubicBezTo>
                  <a:pt x="2734" y="10670"/>
                  <a:pt x="2763" y="10796"/>
                  <a:pt x="2803" y="10889"/>
                </a:cubicBezTo>
                <a:cubicBezTo>
                  <a:pt x="2836" y="10967"/>
                  <a:pt x="2883" y="11041"/>
                  <a:pt x="2927" y="11112"/>
                </a:cubicBezTo>
                <a:cubicBezTo>
                  <a:pt x="2982" y="11201"/>
                  <a:pt x="3084" y="11282"/>
                  <a:pt x="3175" y="11336"/>
                </a:cubicBezTo>
                <a:cubicBezTo>
                  <a:pt x="3264" y="11389"/>
                  <a:pt x="3360" y="11400"/>
                  <a:pt x="3448" y="11435"/>
                </a:cubicBezTo>
                <a:cubicBezTo>
                  <a:pt x="3497" y="11460"/>
                  <a:pt x="3514" y="11469"/>
                  <a:pt x="354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960" y="3419640"/>
            <a:ext cx="6715080" cy="1573200"/>
          </a:xfrm>
          <a:custGeom>
            <a:avLst/>
            <a:gdLst/>
            <a:ahLst/>
            <a:rect l="l" t="t" r="r" b="b"/>
            <a:pathLst>
              <a:path w="18654" h="4367">
                <a:moveTo>
                  <a:pt x="1935" y="13841"/>
                </a:moveTo>
                <a:cubicBezTo>
                  <a:pt x="1935" y="13849"/>
                  <a:pt x="1935" y="13858"/>
                  <a:pt x="1935" y="13866"/>
                </a:cubicBezTo>
              </a:path>
              <a:path w="18654" h="4367">
                <a:moveTo>
                  <a:pt x="11683" y="9500"/>
                </a:moveTo>
                <a:cubicBezTo>
                  <a:pt x="11606" y="9717"/>
                  <a:pt x="11568" y="9942"/>
                  <a:pt x="11460" y="10145"/>
                </a:cubicBezTo>
              </a:path>
              <a:path w="18654" h="4367">
                <a:moveTo>
                  <a:pt x="13469" y="10691"/>
                </a:moveTo>
                <a:cubicBezTo>
                  <a:pt x="13469" y="10666"/>
                  <a:pt x="13469" y="10658"/>
                  <a:pt x="13494" y="10666"/>
                </a:cubicBezTo>
              </a:path>
              <a:path w="18654" h="4367">
                <a:moveTo>
                  <a:pt x="13494" y="10666"/>
                </a:moveTo>
                <a:lnTo>
                  <a:pt x="13494" y="10666"/>
                </a:lnTo>
              </a:path>
              <a:path w="18654" h="4367">
                <a:moveTo>
                  <a:pt x="13494" y="10666"/>
                </a:moveTo>
                <a:lnTo>
                  <a:pt x="13494" y="10666"/>
                </a:lnTo>
              </a:path>
              <a:path w="18654" h="4367">
                <a:moveTo>
                  <a:pt x="15900" y="11633"/>
                </a:moveTo>
                <a:cubicBezTo>
                  <a:pt x="15900" y="11641"/>
                  <a:pt x="15900" y="11650"/>
                  <a:pt x="15900" y="11658"/>
                </a:cubicBezTo>
              </a:path>
              <a:path w="18654" h="4367">
                <a:moveTo>
                  <a:pt x="20513" y="9872"/>
                </a:moveTo>
                <a:cubicBezTo>
                  <a:pt x="20544" y="9998"/>
                  <a:pt x="20547" y="10132"/>
                  <a:pt x="20563" y="10269"/>
                </a:cubicBezTo>
                <a:cubicBezTo>
                  <a:pt x="20581" y="10360"/>
                  <a:pt x="20590" y="10367"/>
                  <a:pt x="20588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8960" y="2820960"/>
            <a:ext cx="955800" cy="1554120"/>
          </a:xfrm>
          <a:custGeom>
            <a:avLst/>
            <a:gdLst/>
            <a:ahLst/>
            <a:rect l="l" t="t" r="r" b="b"/>
            <a:pathLst>
              <a:path w="2655" h="4317">
                <a:moveTo>
                  <a:pt x="12452" y="8533"/>
                </a:moveTo>
                <a:cubicBezTo>
                  <a:pt x="12476" y="8698"/>
                  <a:pt x="12477" y="8860"/>
                  <a:pt x="12477" y="9029"/>
                </a:cubicBezTo>
                <a:cubicBezTo>
                  <a:pt x="12477" y="9095"/>
                  <a:pt x="12477" y="9161"/>
                  <a:pt x="12477" y="9227"/>
                </a:cubicBezTo>
              </a:path>
              <a:path w="2655" h="4317">
                <a:moveTo>
                  <a:pt x="12774" y="8533"/>
                </a:moveTo>
                <a:cubicBezTo>
                  <a:pt x="12697" y="8533"/>
                  <a:pt x="13094" y="8533"/>
                  <a:pt x="13097" y="8533"/>
                </a:cubicBezTo>
                <a:cubicBezTo>
                  <a:pt x="13222" y="8533"/>
                  <a:pt x="13250" y="8541"/>
                  <a:pt x="13320" y="8508"/>
                </a:cubicBezTo>
                <a:cubicBezTo>
                  <a:pt x="13320" y="8685"/>
                  <a:pt x="13220" y="8837"/>
                  <a:pt x="13171" y="9004"/>
                </a:cubicBezTo>
                <a:cubicBezTo>
                  <a:pt x="13153" y="9095"/>
                  <a:pt x="13144" y="9102"/>
                  <a:pt x="13146" y="9153"/>
                </a:cubicBezTo>
              </a:path>
              <a:path w="2655" h="4317">
                <a:moveTo>
                  <a:pt x="11385" y="9550"/>
                </a:moveTo>
                <a:cubicBezTo>
                  <a:pt x="11494" y="9709"/>
                  <a:pt x="11656" y="9881"/>
                  <a:pt x="11708" y="10071"/>
                </a:cubicBezTo>
                <a:cubicBezTo>
                  <a:pt x="11708" y="10120"/>
                  <a:pt x="11708" y="10136"/>
                  <a:pt x="11708" y="10071"/>
                </a:cubicBezTo>
              </a:path>
              <a:path w="2655" h="4317">
                <a:moveTo>
                  <a:pt x="13271" y="9451"/>
                </a:moveTo>
                <a:cubicBezTo>
                  <a:pt x="13332" y="9451"/>
                  <a:pt x="13206" y="9462"/>
                  <a:pt x="13146" y="9475"/>
                </a:cubicBezTo>
                <a:cubicBezTo>
                  <a:pt x="13040" y="9498"/>
                  <a:pt x="13028" y="9515"/>
                  <a:pt x="13022" y="9624"/>
                </a:cubicBezTo>
                <a:cubicBezTo>
                  <a:pt x="13022" y="9666"/>
                  <a:pt x="13022" y="9674"/>
                  <a:pt x="13022" y="9699"/>
                </a:cubicBezTo>
                <a:cubicBezTo>
                  <a:pt x="13111" y="9699"/>
                  <a:pt x="13208" y="9649"/>
                  <a:pt x="13295" y="9674"/>
                </a:cubicBezTo>
                <a:cubicBezTo>
                  <a:pt x="13486" y="9729"/>
                  <a:pt x="13431" y="9927"/>
                  <a:pt x="13320" y="10021"/>
                </a:cubicBezTo>
                <a:cubicBezTo>
                  <a:pt x="13216" y="10109"/>
                  <a:pt x="13112" y="10059"/>
                  <a:pt x="12998" y="10046"/>
                </a:cubicBezTo>
              </a:path>
              <a:path w="2655" h="4317">
                <a:moveTo>
                  <a:pt x="11609" y="10443"/>
                </a:moveTo>
                <a:cubicBezTo>
                  <a:pt x="11925" y="10427"/>
                  <a:pt x="12233" y="10395"/>
                  <a:pt x="12551" y="10393"/>
                </a:cubicBezTo>
                <a:cubicBezTo>
                  <a:pt x="13031" y="10390"/>
                  <a:pt x="13510" y="10393"/>
                  <a:pt x="13990" y="10393"/>
                </a:cubicBezTo>
              </a:path>
              <a:path w="2655" h="4317">
                <a:moveTo>
                  <a:pt x="13444" y="10691"/>
                </a:moveTo>
                <a:cubicBezTo>
                  <a:pt x="13452" y="10691"/>
                  <a:pt x="13461" y="10691"/>
                  <a:pt x="13469" y="10691"/>
                </a:cubicBezTo>
                <a:cubicBezTo>
                  <a:pt x="13626" y="10652"/>
                  <a:pt x="13340" y="10712"/>
                  <a:pt x="13320" y="10716"/>
                </a:cubicBezTo>
                <a:cubicBezTo>
                  <a:pt x="13295" y="10716"/>
                  <a:pt x="13287" y="10716"/>
                  <a:pt x="13271" y="10716"/>
                </a:cubicBezTo>
                <a:cubicBezTo>
                  <a:pt x="13271" y="10797"/>
                  <a:pt x="13253" y="10862"/>
                  <a:pt x="13246" y="10939"/>
                </a:cubicBezTo>
                <a:cubicBezTo>
                  <a:pt x="13246" y="10947"/>
                  <a:pt x="13246" y="10956"/>
                  <a:pt x="13246" y="10964"/>
                </a:cubicBezTo>
                <a:cubicBezTo>
                  <a:pt x="13288" y="10950"/>
                  <a:pt x="13349" y="10902"/>
                  <a:pt x="13419" y="10889"/>
                </a:cubicBezTo>
                <a:cubicBezTo>
                  <a:pt x="13504" y="10873"/>
                  <a:pt x="13579" y="10991"/>
                  <a:pt x="13593" y="11063"/>
                </a:cubicBezTo>
                <a:cubicBezTo>
                  <a:pt x="13617" y="11186"/>
                  <a:pt x="13537" y="11326"/>
                  <a:pt x="13419" y="11361"/>
                </a:cubicBezTo>
                <a:cubicBezTo>
                  <a:pt x="13357" y="11379"/>
                  <a:pt x="13208" y="11352"/>
                  <a:pt x="13171" y="11286"/>
                </a:cubicBezTo>
                <a:cubicBezTo>
                  <a:pt x="13171" y="11261"/>
                  <a:pt x="13171" y="11253"/>
                  <a:pt x="13146" y="11261"/>
                </a:cubicBezTo>
              </a:path>
              <a:path w="2655" h="4317">
                <a:moveTo>
                  <a:pt x="12229" y="7913"/>
                </a:moveTo>
                <a:cubicBezTo>
                  <a:pt x="12170" y="7893"/>
                  <a:pt x="12254" y="7858"/>
                  <a:pt x="12303" y="7838"/>
                </a:cubicBezTo>
                <a:cubicBezTo>
                  <a:pt x="12311" y="7838"/>
                  <a:pt x="12320" y="7838"/>
                  <a:pt x="12328" y="7838"/>
                </a:cubicBezTo>
                <a:cubicBezTo>
                  <a:pt x="12401" y="7947"/>
                  <a:pt x="12359" y="7972"/>
                  <a:pt x="12278" y="8062"/>
                </a:cubicBezTo>
                <a:cubicBezTo>
                  <a:pt x="12262" y="8095"/>
                  <a:pt x="12371" y="8031"/>
                  <a:pt x="12402" y="8161"/>
                </a:cubicBezTo>
                <a:cubicBezTo>
                  <a:pt x="12436" y="8305"/>
                  <a:pt x="12281" y="8327"/>
                  <a:pt x="12179" y="8334"/>
                </a:cubicBezTo>
                <a:cubicBezTo>
                  <a:pt x="12154" y="8334"/>
                  <a:pt x="12146" y="8334"/>
                  <a:pt x="12154" y="8310"/>
                </a:cubicBezTo>
              </a:path>
              <a:path w="2655" h="4317">
                <a:moveTo>
                  <a:pt x="12626" y="10864"/>
                </a:moveTo>
                <a:cubicBezTo>
                  <a:pt x="12611" y="10804"/>
                  <a:pt x="12586" y="10815"/>
                  <a:pt x="12526" y="10815"/>
                </a:cubicBezTo>
                <a:cubicBezTo>
                  <a:pt x="12444" y="10815"/>
                  <a:pt x="12353" y="10839"/>
                  <a:pt x="12303" y="10914"/>
                </a:cubicBezTo>
                <a:cubicBezTo>
                  <a:pt x="12279" y="10949"/>
                  <a:pt x="12263" y="11007"/>
                  <a:pt x="12303" y="11038"/>
                </a:cubicBezTo>
                <a:cubicBezTo>
                  <a:pt x="12414" y="11124"/>
                  <a:pt x="12550" y="11164"/>
                  <a:pt x="12626" y="11286"/>
                </a:cubicBezTo>
                <a:cubicBezTo>
                  <a:pt x="12655" y="11333"/>
                  <a:pt x="12654" y="11480"/>
                  <a:pt x="12601" y="11509"/>
                </a:cubicBezTo>
                <a:cubicBezTo>
                  <a:pt x="12545" y="11540"/>
                  <a:pt x="12461" y="11555"/>
                  <a:pt x="12427" y="11485"/>
                </a:cubicBezTo>
                <a:cubicBezTo>
                  <a:pt x="12394" y="11417"/>
                  <a:pt x="12389" y="11318"/>
                  <a:pt x="12452" y="11261"/>
                </a:cubicBezTo>
                <a:cubicBezTo>
                  <a:pt x="12474" y="11241"/>
                  <a:pt x="12595" y="11180"/>
                  <a:pt x="12601" y="11162"/>
                </a:cubicBezTo>
                <a:cubicBezTo>
                  <a:pt x="12616" y="11121"/>
                  <a:pt x="12640" y="11087"/>
                  <a:pt x="12650" y="11063"/>
                </a:cubicBezTo>
                <a:cubicBezTo>
                  <a:pt x="12668" y="11019"/>
                  <a:pt x="12650" y="10936"/>
                  <a:pt x="12650" y="10889"/>
                </a:cubicBezTo>
              </a:path>
              <a:path w="2655" h="4317">
                <a:moveTo>
                  <a:pt x="12303" y="12005"/>
                </a:moveTo>
                <a:cubicBezTo>
                  <a:pt x="12393" y="12020"/>
                  <a:pt x="12498" y="12048"/>
                  <a:pt x="12601" y="12055"/>
                </a:cubicBezTo>
                <a:cubicBezTo>
                  <a:pt x="12866" y="12072"/>
                  <a:pt x="13113" y="12032"/>
                  <a:pt x="13370" y="12005"/>
                </a:cubicBezTo>
                <a:cubicBezTo>
                  <a:pt x="13507" y="11991"/>
                  <a:pt x="13692" y="11985"/>
                  <a:pt x="13816" y="11906"/>
                </a:cubicBezTo>
                <a:cubicBezTo>
                  <a:pt x="13952" y="11820"/>
                  <a:pt x="13964" y="11758"/>
                  <a:pt x="13990" y="11609"/>
                </a:cubicBezTo>
                <a:cubicBezTo>
                  <a:pt x="14017" y="11452"/>
                  <a:pt x="14028" y="11365"/>
                  <a:pt x="14015" y="11212"/>
                </a:cubicBezTo>
                <a:cubicBezTo>
                  <a:pt x="14008" y="11122"/>
                  <a:pt x="14011" y="11020"/>
                  <a:pt x="13965" y="10939"/>
                </a:cubicBezTo>
                <a:cubicBezTo>
                  <a:pt x="13910" y="10842"/>
                  <a:pt x="13781" y="10776"/>
                  <a:pt x="13692" y="10716"/>
                </a:cubicBezTo>
                <a:cubicBezTo>
                  <a:pt x="13596" y="10652"/>
                  <a:pt x="13481" y="10601"/>
                  <a:pt x="13370" y="10567"/>
                </a:cubicBezTo>
                <a:cubicBezTo>
                  <a:pt x="13250" y="10530"/>
                  <a:pt x="13122" y="10502"/>
                  <a:pt x="12998" y="10492"/>
                </a:cubicBezTo>
                <a:cubicBezTo>
                  <a:pt x="12871" y="10481"/>
                  <a:pt x="12697" y="10485"/>
                  <a:pt x="12576" y="10517"/>
                </a:cubicBezTo>
                <a:cubicBezTo>
                  <a:pt x="12419" y="10559"/>
                  <a:pt x="12223" y="10609"/>
                  <a:pt x="12080" y="10691"/>
                </a:cubicBezTo>
                <a:cubicBezTo>
                  <a:pt x="11955" y="10763"/>
                  <a:pt x="11792" y="10892"/>
                  <a:pt x="11708" y="11013"/>
                </a:cubicBezTo>
                <a:cubicBezTo>
                  <a:pt x="11617" y="11144"/>
                  <a:pt x="11589" y="11304"/>
                  <a:pt x="11609" y="11460"/>
                </a:cubicBezTo>
                <a:cubicBezTo>
                  <a:pt x="11627" y="11599"/>
                  <a:pt x="11661" y="11709"/>
                  <a:pt x="11733" y="11832"/>
                </a:cubicBezTo>
                <a:cubicBezTo>
                  <a:pt x="11813" y="11969"/>
                  <a:pt x="11896" y="11997"/>
                  <a:pt x="12030" y="12055"/>
                </a:cubicBezTo>
                <a:cubicBezTo>
                  <a:pt x="12172" y="12116"/>
                  <a:pt x="12320" y="12126"/>
                  <a:pt x="12477" y="12129"/>
                </a:cubicBezTo>
                <a:cubicBezTo>
                  <a:pt x="12550" y="12131"/>
                  <a:pt x="12480" y="12144"/>
                  <a:pt x="12601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91200" y="2874960"/>
            <a:ext cx="1206720" cy="1625760"/>
          </a:xfrm>
          <a:custGeom>
            <a:avLst/>
            <a:gdLst/>
            <a:ahLst/>
            <a:rect l="l" t="t" r="r" b="b"/>
            <a:pathLst>
              <a:path w="3350" h="4516">
                <a:moveTo>
                  <a:pt x="20638" y="8682"/>
                </a:moveTo>
                <a:cubicBezTo>
                  <a:pt x="20628" y="8632"/>
                  <a:pt x="20619" y="8575"/>
                  <a:pt x="20588" y="8558"/>
                </a:cubicBezTo>
                <a:cubicBezTo>
                  <a:pt x="20534" y="8529"/>
                  <a:pt x="20455" y="8475"/>
                  <a:pt x="20389" y="8483"/>
                </a:cubicBezTo>
                <a:cubicBezTo>
                  <a:pt x="20295" y="8495"/>
                  <a:pt x="20193" y="8617"/>
                  <a:pt x="20166" y="8706"/>
                </a:cubicBezTo>
                <a:cubicBezTo>
                  <a:pt x="20142" y="8786"/>
                  <a:pt x="20174" y="8889"/>
                  <a:pt x="20265" y="8905"/>
                </a:cubicBezTo>
                <a:cubicBezTo>
                  <a:pt x="20344" y="8919"/>
                  <a:pt x="20489" y="8911"/>
                  <a:pt x="20563" y="8880"/>
                </a:cubicBezTo>
                <a:cubicBezTo>
                  <a:pt x="20600" y="8864"/>
                  <a:pt x="20620" y="8842"/>
                  <a:pt x="20638" y="8806"/>
                </a:cubicBezTo>
                <a:cubicBezTo>
                  <a:pt x="20650" y="8782"/>
                  <a:pt x="20638" y="8580"/>
                  <a:pt x="20638" y="8632"/>
                </a:cubicBezTo>
                <a:cubicBezTo>
                  <a:pt x="20638" y="8808"/>
                  <a:pt x="20658" y="8978"/>
                  <a:pt x="20662" y="9153"/>
                </a:cubicBezTo>
                <a:cubicBezTo>
                  <a:pt x="20664" y="9251"/>
                  <a:pt x="20669" y="9272"/>
                  <a:pt x="20687" y="9327"/>
                </a:cubicBezTo>
              </a:path>
              <a:path w="3350" h="4516">
                <a:moveTo>
                  <a:pt x="21010" y="8607"/>
                </a:moveTo>
                <a:cubicBezTo>
                  <a:pt x="21010" y="8759"/>
                  <a:pt x="21011" y="8903"/>
                  <a:pt x="21034" y="9054"/>
                </a:cubicBezTo>
                <a:cubicBezTo>
                  <a:pt x="21042" y="9109"/>
                  <a:pt x="21040" y="9287"/>
                  <a:pt x="21084" y="9302"/>
                </a:cubicBezTo>
              </a:path>
              <a:path w="3350" h="4516">
                <a:moveTo>
                  <a:pt x="21307" y="8682"/>
                </a:moveTo>
                <a:cubicBezTo>
                  <a:pt x="21360" y="8615"/>
                  <a:pt x="21380" y="8579"/>
                  <a:pt x="21481" y="8558"/>
                </a:cubicBezTo>
                <a:cubicBezTo>
                  <a:pt x="21573" y="8538"/>
                  <a:pt x="21634" y="8552"/>
                  <a:pt x="21679" y="8632"/>
                </a:cubicBezTo>
                <a:cubicBezTo>
                  <a:pt x="21712" y="8690"/>
                  <a:pt x="21659" y="8805"/>
                  <a:pt x="21630" y="8855"/>
                </a:cubicBezTo>
                <a:cubicBezTo>
                  <a:pt x="21549" y="8994"/>
                  <a:pt x="21459" y="9081"/>
                  <a:pt x="21357" y="9203"/>
                </a:cubicBezTo>
                <a:cubicBezTo>
                  <a:pt x="21306" y="9265"/>
                  <a:pt x="21275" y="9307"/>
                  <a:pt x="21258" y="9376"/>
                </a:cubicBezTo>
                <a:cubicBezTo>
                  <a:pt x="21318" y="9308"/>
                  <a:pt x="21374" y="9221"/>
                  <a:pt x="21456" y="9178"/>
                </a:cubicBezTo>
                <a:cubicBezTo>
                  <a:pt x="21513" y="9148"/>
                  <a:pt x="21596" y="9241"/>
                  <a:pt x="21654" y="9252"/>
                </a:cubicBezTo>
                <a:cubicBezTo>
                  <a:pt x="21729" y="9266"/>
                  <a:pt x="21787" y="9231"/>
                  <a:pt x="21853" y="9203"/>
                </a:cubicBezTo>
              </a:path>
              <a:path w="3350" h="4516">
                <a:moveTo>
                  <a:pt x="19422" y="10096"/>
                </a:moveTo>
                <a:cubicBezTo>
                  <a:pt x="19600" y="10096"/>
                  <a:pt x="19767" y="10095"/>
                  <a:pt x="19943" y="10071"/>
                </a:cubicBezTo>
              </a:path>
              <a:path w="3350" h="4516">
                <a:moveTo>
                  <a:pt x="21059" y="9872"/>
                </a:moveTo>
                <a:cubicBezTo>
                  <a:pt x="20990" y="9983"/>
                  <a:pt x="20932" y="10132"/>
                  <a:pt x="20960" y="10269"/>
                </a:cubicBezTo>
                <a:cubicBezTo>
                  <a:pt x="20999" y="10463"/>
                  <a:pt x="21175" y="10457"/>
                  <a:pt x="21307" y="10344"/>
                </a:cubicBezTo>
                <a:cubicBezTo>
                  <a:pt x="21457" y="10216"/>
                  <a:pt x="21378" y="10089"/>
                  <a:pt x="21258" y="9996"/>
                </a:cubicBezTo>
                <a:cubicBezTo>
                  <a:pt x="21185" y="9939"/>
                  <a:pt x="21123" y="9922"/>
                  <a:pt x="21034" y="9922"/>
                </a:cubicBezTo>
              </a:path>
              <a:path w="3350" h="4516">
                <a:moveTo>
                  <a:pt x="21853" y="9922"/>
                </a:moveTo>
                <a:cubicBezTo>
                  <a:pt x="21853" y="9870"/>
                  <a:pt x="21875" y="9785"/>
                  <a:pt x="21828" y="9748"/>
                </a:cubicBezTo>
                <a:cubicBezTo>
                  <a:pt x="21734" y="9674"/>
                  <a:pt x="21593" y="9693"/>
                  <a:pt x="21530" y="9798"/>
                </a:cubicBezTo>
                <a:cubicBezTo>
                  <a:pt x="21487" y="9871"/>
                  <a:pt x="21504" y="9957"/>
                  <a:pt x="21530" y="10021"/>
                </a:cubicBezTo>
                <a:cubicBezTo>
                  <a:pt x="21729" y="10009"/>
                  <a:pt x="21712" y="9974"/>
                  <a:pt x="21828" y="9847"/>
                </a:cubicBezTo>
                <a:cubicBezTo>
                  <a:pt x="21836" y="9847"/>
                  <a:pt x="21845" y="9847"/>
                  <a:pt x="21853" y="9847"/>
                </a:cubicBezTo>
                <a:cubicBezTo>
                  <a:pt x="21853" y="9982"/>
                  <a:pt x="21871" y="10111"/>
                  <a:pt x="21878" y="10244"/>
                </a:cubicBezTo>
                <a:cubicBezTo>
                  <a:pt x="21878" y="10352"/>
                  <a:pt x="21878" y="10360"/>
                  <a:pt x="21878" y="10418"/>
                </a:cubicBezTo>
              </a:path>
              <a:path w="3350" h="4516">
                <a:moveTo>
                  <a:pt x="19720" y="10840"/>
                </a:moveTo>
                <a:cubicBezTo>
                  <a:pt x="19916" y="10804"/>
                  <a:pt x="20087" y="10792"/>
                  <a:pt x="20290" y="10790"/>
                </a:cubicBezTo>
                <a:cubicBezTo>
                  <a:pt x="20786" y="10785"/>
                  <a:pt x="21282" y="10746"/>
                  <a:pt x="21779" y="10765"/>
                </a:cubicBezTo>
                <a:cubicBezTo>
                  <a:pt x="22045" y="10775"/>
                  <a:pt x="22306" y="10790"/>
                  <a:pt x="22572" y="10790"/>
                </a:cubicBezTo>
              </a:path>
              <a:path w="3350" h="4516">
                <a:moveTo>
                  <a:pt x="20836" y="8657"/>
                </a:moveTo>
                <a:cubicBezTo>
                  <a:pt x="20814" y="8679"/>
                  <a:pt x="20838" y="8761"/>
                  <a:pt x="20886" y="8806"/>
                </a:cubicBezTo>
                <a:cubicBezTo>
                  <a:pt x="20948" y="8864"/>
                  <a:pt x="20987" y="8948"/>
                  <a:pt x="21059" y="9004"/>
                </a:cubicBezTo>
                <a:cubicBezTo>
                  <a:pt x="21089" y="9027"/>
                  <a:pt x="21124" y="9049"/>
                  <a:pt x="21158" y="9079"/>
                </a:cubicBezTo>
                <a:cubicBezTo>
                  <a:pt x="21173" y="9092"/>
                  <a:pt x="21207" y="9152"/>
                  <a:pt x="21208" y="9153"/>
                </a:cubicBezTo>
                <a:cubicBezTo>
                  <a:pt x="21208" y="9178"/>
                  <a:pt x="21208" y="9186"/>
                  <a:pt x="21233" y="9178"/>
                </a:cubicBezTo>
              </a:path>
              <a:path w="3350" h="4516">
                <a:moveTo>
                  <a:pt x="20985" y="7987"/>
                </a:moveTo>
                <a:cubicBezTo>
                  <a:pt x="20956" y="7997"/>
                  <a:pt x="20925" y="8043"/>
                  <a:pt x="20910" y="8086"/>
                </a:cubicBezTo>
                <a:cubicBezTo>
                  <a:pt x="20895" y="8132"/>
                  <a:pt x="20866" y="8186"/>
                  <a:pt x="20861" y="8235"/>
                </a:cubicBezTo>
                <a:cubicBezTo>
                  <a:pt x="20855" y="8290"/>
                  <a:pt x="20856" y="8325"/>
                  <a:pt x="20910" y="8359"/>
                </a:cubicBezTo>
                <a:cubicBezTo>
                  <a:pt x="20965" y="8393"/>
                  <a:pt x="20973" y="8374"/>
                  <a:pt x="21034" y="8359"/>
                </a:cubicBezTo>
                <a:cubicBezTo>
                  <a:pt x="21072" y="8350"/>
                  <a:pt x="21095" y="8317"/>
                  <a:pt x="21109" y="8310"/>
                </a:cubicBezTo>
                <a:cubicBezTo>
                  <a:pt x="21131" y="8299"/>
                  <a:pt x="21147" y="8270"/>
                  <a:pt x="21158" y="8235"/>
                </a:cubicBezTo>
                <a:cubicBezTo>
                  <a:pt x="21176" y="8177"/>
                  <a:pt x="21146" y="8109"/>
                  <a:pt x="21134" y="8086"/>
                </a:cubicBezTo>
                <a:cubicBezTo>
                  <a:pt x="21112" y="8042"/>
                  <a:pt x="21105" y="8032"/>
                  <a:pt x="21059" y="8012"/>
                </a:cubicBezTo>
                <a:cubicBezTo>
                  <a:pt x="21007" y="7989"/>
                  <a:pt x="20989" y="7987"/>
                  <a:pt x="20935" y="7987"/>
                </a:cubicBezTo>
              </a:path>
              <a:path w="3350" h="4516">
                <a:moveTo>
                  <a:pt x="21357" y="8806"/>
                </a:moveTo>
                <a:cubicBezTo>
                  <a:pt x="21357" y="8868"/>
                  <a:pt x="21338" y="8903"/>
                  <a:pt x="21332" y="8954"/>
                </a:cubicBezTo>
                <a:cubicBezTo>
                  <a:pt x="21327" y="8998"/>
                  <a:pt x="21347" y="9016"/>
                  <a:pt x="21357" y="9054"/>
                </a:cubicBezTo>
              </a:path>
              <a:path w="3350" h="4516">
                <a:moveTo>
                  <a:pt x="21828" y="11162"/>
                </a:moveTo>
                <a:cubicBezTo>
                  <a:pt x="21778" y="11162"/>
                  <a:pt x="21905" y="11096"/>
                  <a:pt x="21927" y="11088"/>
                </a:cubicBezTo>
                <a:cubicBezTo>
                  <a:pt x="21973" y="11072"/>
                  <a:pt x="22042" y="11082"/>
                  <a:pt x="22076" y="11112"/>
                </a:cubicBezTo>
                <a:cubicBezTo>
                  <a:pt x="22158" y="11184"/>
                  <a:pt x="22024" y="11264"/>
                  <a:pt x="21977" y="11311"/>
                </a:cubicBezTo>
                <a:cubicBezTo>
                  <a:pt x="21938" y="11350"/>
                  <a:pt x="21937" y="11367"/>
                  <a:pt x="21903" y="11361"/>
                </a:cubicBezTo>
                <a:cubicBezTo>
                  <a:pt x="21989" y="11361"/>
                  <a:pt x="22055" y="11336"/>
                  <a:pt x="22101" y="11410"/>
                </a:cubicBezTo>
                <a:cubicBezTo>
                  <a:pt x="22131" y="11457"/>
                  <a:pt x="22185" y="11578"/>
                  <a:pt x="22151" y="11633"/>
                </a:cubicBezTo>
                <a:cubicBezTo>
                  <a:pt x="22090" y="11729"/>
                  <a:pt x="22016" y="11752"/>
                  <a:pt x="21927" y="11782"/>
                </a:cubicBezTo>
                <a:cubicBezTo>
                  <a:pt x="21848" y="11809"/>
                  <a:pt x="21848" y="11775"/>
                  <a:pt x="21779" y="11757"/>
                </a:cubicBezTo>
              </a:path>
              <a:path w="3350" h="4516">
                <a:moveTo>
                  <a:pt x="21258" y="11063"/>
                </a:moveTo>
                <a:cubicBezTo>
                  <a:pt x="21327" y="11087"/>
                  <a:pt x="21257" y="11146"/>
                  <a:pt x="21233" y="11187"/>
                </a:cubicBezTo>
                <a:cubicBezTo>
                  <a:pt x="21144" y="11342"/>
                  <a:pt x="21137" y="11414"/>
                  <a:pt x="21158" y="11584"/>
                </a:cubicBezTo>
                <a:cubicBezTo>
                  <a:pt x="21166" y="11654"/>
                  <a:pt x="21220" y="11711"/>
                  <a:pt x="21307" y="11708"/>
                </a:cubicBezTo>
                <a:cubicBezTo>
                  <a:pt x="21409" y="11704"/>
                  <a:pt x="21478" y="11592"/>
                  <a:pt x="21506" y="11509"/>
                </a:cubicBezTo>
                <a:cubicBezTo>
                  <a:pt x="21557" y="11359"/>
                  <a:pt x="21482" y="11324"/>
                  <a:pt x="21406" y="11212"/>
                </a:cubicBezTo>
                <a:cubicBezTo>
                  <a:pt x="21355" y="11137"/>
                  <a:pt x="21375" y="11184"/>
                  <a:pt x="21332" y="11088"/>
                </a:cubicBezTo>
              </a:path>
              <a:path w="3350" h="4516">
                <a:moveTo>
                  <a:pt x="20687" y="11187"/>
                </a:moveTo>
                <a:cubicBezTo>
                  <a:pt x="20715" y="11159"/>
                  <a:pt x="20724" y="11145"/>
                  <a:pt x="20712" y="11112"/>
                </a:cubicBezTo>
                <a:cubicBezTo>
                  <a:pt x="20599" y="11087"/>
                  <a:pt x="20498" y="11060"/>
                  <a:pt x="20414" y="11162"/>
                </a:cubicBezTo>
                <a:cubicBezTo>
                  <a:pt x="20385" y="11197"/>
                  <a:pt x="20334" y="11289"/>
                  <a:pt x="20365" y="11336"/>
                </a:cubicBezTo>
                <a:cubicBezTo>
                  <a:pt x="20434" y="11441"/>
                  <a:pt x="20558" y="11473"/>
                  <a:pt x="20638" y="11559"/>
                </a:cubicBezTo>
                <a:cubicBezTo>
                  <a:pt x="20695" y="11620"/>
                  <a:pt x="20736" y="11678"/>
                  <a:pt x="20687" y="11757"/>
                </a:cubicBezTo>
                <a:cubicBezTo>
                  <a:pt x="20662" y="11797"/>
                  <a:pt x="20560" y="11827"/>
                  <a:pt x="20513" y="11807"/>
                </a:cubicBezTo>
                <a:cubicBezTo>
                  <a:pt x="20459" y="11784"/>
                  <a:pt x="20464" y="11730"/>
                  <a:pt x="20464" y="11683"/>
                </a:cubicBezTo>
                <a:cubicBezTo>
                  <a:pt x="20464" y="11612"/>
                  <a:pt x="20480" y="11596"/>
                  <a:pt x="20513" y="11534"/>
                </a:cubicBezTo>
                <a:cubicBezTo>
                  <a:pt x="20548" y="11468"/>
                  <a:pt x="20596" y="11398"/>
                  <a:pt x="20638" y="11336"/>
                </a:cubicBezTo>
                <a:cubicBezTo>
                  <a:pt x="20656" y="11310"/>
                  <a:pt x="20707" y="11270"/>
                  <a:pt x="20712" y="11261"/>
                </a:cubicBezTo>
                <a:cubicBezTo>
                  <a:pt x="20725" y="11236"/>
                  <a:pt x="20712" y="11166"/>
                  <a:pt x="20712" y="11137"/>
                </a:cubicBezTo>
              </a:path>
              <a:path w="3350" h="4516">
                <a:moveTo>
                  <a:pt x="20290" y="12477"/>
                </a:moveTo>
                <a:cubicBezTo>
                  <a:pt x="20309" y="12481"/>
                  <a:pt x="20379" y="12506"/>
                  <a:pt x="20439" y="12502"/>
                </a:cubicBezTo>
                <a:cubicBezTo>
                  <a:pt x="20573" y="12492"/>
                  <a:pt x="20700" y="12477"/>
                  <a:pt x="20836" y="12477"/>
                </a:cubicBezTo>
                <a:cubicBezTo>
                  <a:pt x="20974" y="12477"/>
                  <a:pt x="21123" y="12519"/>
                  <a:pt x="21258" y="12502"/>
                </a:cubicBezTo>
                <a:cubicBezTo>
                  <a:pt x="21367" y="12488"/>
                  <a:pt x="21467" y="12482"/>
                  <a:pt x="21580" y="12477"/>
                </a:cubicBezTo>
                <a:cubicBezTo>
                  <a:pt x="21699" y="12471"/>
                  <a:pt x="21812" y="12455"/>
                  <a:pt x="21927" y="12427"/>
                </a:cubicBezTo>
                <a:cubicBezTo>
                  <a:pt x="22032" y="12402"/>
                  <a:pt x="22124" y="12363"/>
                  <a:pt x="22225" y="12328"/>
                </a:cubicBezTo>
                <a:cubicBezTo>
                  <a:pt x="22333" y="12290"/>
                  <a:pt x="22434" y="12247"/>
                  <a:pt x="22523" y="12179"/>
                </a:cubicBezTo>
                <a:cubicBezTo>
                  <a:pt x="22591" y="12127"/>
                  <a:pt x="22662" y="12041"/>
                  <a:pt x="22696" y="11956"/>
                </a:cubicBezTo>
                <a:cubicBezTo>
                  <a:pt x="22735" y="11860"/>
                  <a:pt x="22761" y="11760"/>
                  <a:pt x="22771" y="11658"/>
                </a:cubicBezTo>
                <a:cubicBezTo>
                  <a:pt x="22779" y="11577"/>
                  <a:pt x="22772" y="11508"/>
                  <a:pt x="22746" y="11435"/>
                </a:cubicBezTo>
                <a:cubicBezTo>
                  <a:pt x="22680" y="11250"/>
                  <a:pt x="22585" y="11138"/>
                  <a:pt x="22423" y="11038"/>
                </a:cubicBezTo>
                <a:cubicBezTo>
                  <a:pt x="22344" y="10989"/>
                  <a:pt x="22269" y="10944"/>
                  <a:pt x="22175" y="10914"/>
                </a:cubicBezTo>
                <a:cubicBezTo>
                  <a:pt x="21965" y="10847"/>
                  <a:pt x="21725" y="10795"/>
                  <a:pt x="21506" y="10790"/>
                </a:cubicBezTo>
                <a:cubicBezTo>
                  <a:pt x="21166" y="10782"/>
                  <a:pt x="20827" y="10797"/>
                  <a:pt x="20489" y="10815"/>
                </a:cubicBezTo>
                <a:cubicBezTo>
                  <a:pt x="20311" y="10824"/>
                  <a:pt x="20163" y="10859"/>
                  <a:pt x="19993" y="10914"/>
                </a:cubicBezTo>
                <a:cubicBezTo>
                  <a:pt x="19874" y="10952"/>
                  <a:pt x="19731" y="11022"/>
                  <a:pt x="19645" y="11112"/>
                </a:cubicBezTo>
                <a:cubicBezTo>
                  <a:pt x="19591" y="11168"/>
                  <a:pt x="19517" y="11287"/>
                  <a:pt x="19496" y="11361"/>
                </a:cubicBezTo>
                <a:cubicBezTo>
                  <a:pt x="19459" y="11493"/>
                  <a:pt x="19469" y="11620"/>
                  <a:pt x="19496" y="11757"/>
                </a:cubicBezTo>
                <a:cubicBezTo>
                  <a:pt x="19519" y="11874"/>
                  <a:pt x="19565" y="12001"/>
                  <a:pt x="19621" y="12105"/>
                </a:cubicBezTo>
                <a:cubicBezTo>
                  <a:pt x="19670" y="12197"/>
                  <a:pt x="19742" y="12243"/>
                  <a:pt x="19819" y="12303"/>
                </a:cubicBezTo>
                <a:cubicBezTo>
                  <a:pt x="19912" y="12375"/>
                  <a:pt x="20007" y="12361"/>
                  <a:pt x="20117" y="12378"/>
                </a:cubicBezTo>
                <a:cubicBezTo>
                  <a:pt x="20271" y="12402"/>
                  <a:pt x="20407" y="12448"/>
                  <a:pt x="20563" y="12452"/>
                </a:cubicBezTo>
                <a:cubicBezTo>
                  <a:pt x="20604" y="12453"/>
                  <a:pt x="20646" y="12452"/>
                  <a:pt x="206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tens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ourse 1 - September 6, 201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0960" y="4875120"/>
            <a:ext cx="4206960" cy="206640"/>
          </a:xfrm>
          <a:custGeom>
            <a:avLst/>
            <a:gdLst/>
            <a:ahLst/>
            <a:rect l="l" t="t" r="r" b="b"/>
            <a:pathLst>
              <a:path w="11684" h="572">
                <a:moveTo>
                  <a:pt x="13171" y="13915"/>
                </a:moveTo>
                <a:cubicBezTo>
                  <a:pt x="13275" y="14019"/>
                  <a:pt x="13317" y="14093"/>
                  <a:pt x="13469" y="14089"/>
                </a:cubicBezTo>
                <a:cubicBezTo>
                  <a:pt x="13585" y="14086"/>
                  <a:pt x="13654" y="13978"/>
                  <a:pt x="13717" y="13915"/>
                </a:cubicBezTo>
                <a:cubicBezTo>
                  <a:pt x="13795" y="13989"/>
                  <a:pt x="13792" y="14047"/>
                  <a:pt x="13940" y="14064"/>
                </a:cubicBezTo>
                <a:cubicBezTo>
                  <a:pt x="14159" y="14089"/>
                  <a:pt x="14368" y="13995"/>
                  <a:pt x="14585" y="14015"/>
                </a:cubicBezTo>
                <a:cubicBezTo>
                  <a:pt x="14692" y="14025"/>
                  <a:pt x="14724" y="14099"/>
                  <a:pt x="14833" y="14114"/>
                </a:cubicBezTo>
                <a:cubicBezTo>
                  <a:pt x="15030" y="14142"/>
                  <a:pt x="15156" y="13977"/>
                  <a:pt x="15329" y="13965"/>
                </a:cubicBezTo>
                <a:cubicBezTo>
                  <a:pt x="15413" y="13959"/>
                  <a:pt x="15514" y="14045"/>
                  <a:pt x="15627" y="14064"/>
                </a:cubicBezTo>
                <a:cubicBezTo>
                  <a:pt x="15839" y="14100"/>
                  <a:pt x="16148" y="13882"/>
                  <a:pt x="16321" y="13940"/>
                </a:cubicBezTo>
                <a:cubicBezTo>
                  <a:pt x="16446" y="13982"/>
                  <a:pt x="16410" y="14046"/>
                  <a:pt x="16594" y="14039"/>
                </a:cubicBezTo>
                <a:cubicBezTo>
                  <a:pt x="16736" y="14034"/>
                  <a:pt x="16878" y="13925"/>
                  <a:pt x="17016" y="13940"/>
                </a:cubicBezTo>
                <a:cubicBezTo>
                  <a:pt x="17176" y="13957"/>
                  <a:pt x="17228" y="14009"/>
                  <a:pt x="17413" y="13990"/>
                </a:cubicBezTo>
                <a:cubicBezTo>
                  <a:pt x="17559" y="13975"/>
                  <a:pt x="17837" y="13886"/>
                  <a:pt x="17983" y="13940"/>
                </a:cubicBezTo>
                <a:cubicBezTo>
                  <a:pt x="18096" y="13982"/>
                  <a:pt x="18100" y="14050"/>
                  <a:pt x="18256" y="14064"/>
                </a:cubicBezTo>
                <a:cubicBezTo>
                  <a:pt x="18472" y="14084"/>
                  <a:pt x="18662" y="14007"/>
                  <a:pt x="18876" y="14015"/>
                </a:cubicBezTo>
                <a:cubicBezTo>
                  <a:pt x="19021" y="14021"/>
                  <a:pt x="19168" y="14051"/>
                  <a:pt x="19323" y="14039"/>
                </a:cubicBezTo>
                <a:cubicBezTo>
                  <a:pt x="19384" y="14034"/>
                  <a:pt x="19456" y="14021"/>
                  <a:pt x="19521" y="14015"/>
                </a:cubicBezTo>
              </a:path>
              <a:path w="11684" h="572">
                <a:moveTo>
                  <a:pt x="7863" y="13891"/>
                </a:moveTo>
                <a:cubicBezTo>
                  <a:pt x="7941" y="13954"/>
                  <a:pt x="7950" y="13965"/>
                  <a:pt x="8037" y="14015"/>
                </a:cubicBezTo>
                <a:cubicBezTo>
                  <a:pt x="8247" y="14136"/>
                  <a:pt x="8352" y="13959"/>
                  <a:pt x="8483" y="13816"/>
                </a:cubicBezTo>
                <a:cubicBezTo>
                  <a:pt x="8491" y="13808"/>
                  <a:pt x="8500" y="13799"/>
                  <a:pt x="8508" y="13791"/>
                </a:cubicBezTo>
                <a:cubicBezTo>
                  <a:pt x="8596" y="13862"/>
                  <a:pt x="8628" y="13954"/>
                  <a:pt x="8781" y="13965"/>
                </a:cubicBezTo>
                <a:cubicBezTo>
                  <a:pt x="8969" y="13978"/>
                  <a:pt x="9088" y="13866"/>
                  <a:pt x="9227" y="13767"/>
                </a:cubicBezTo>
                <a:cubicBezTo>
                  <a:pt x="9359" y="13861"/>
                  <a:pt x="9327" y="13950"/>
                  <a:pt x="9550" y="13915"/>
                </a:cubicBezTo>
                <a:cubicBezTo>
                  <a:pt x="9767" y="13880"/>
                  <a:pt x="10045" y="13609"/>
                  <a:pt x="10244" y="13618"/>
                </a:cubicBezTo>
                <a:cubicBezTo>
                  <a:pt x="10326" y="13622"/>
                  <a:pt x="10433" y="13733"/>
                  <a:pt x="10592" y="13717"/>
                </a:cubicBezTo>
                <a:cubicBezTo>
                  <a:pt x="10753" y="13700"/>
                  <a:pt x="11116" y="13516"/>
                  <a:pt x="11261" y="13543"/>
                </a:cubicBezTo>
                <a:cubicBezTo>
                  <a:pt x="11486" y="13586"/>
                  <a:pt x="11490" y="13766"/>
                  <a:pt x="11832" y="13717"/>
                </a:cubicBezTo>
                <a:cubicBezTo>
                  <a:pt x="11989" y="13694"/>
                  <a:pt x="12146" y="13664"/>
                  <a:pt x="12303" y="13643"/>
                </a:cubicBezTo>
                <a:cubicBezTo>
                  <a:pt x="12332" y="13738"/>
                  <a:pt x="12270" y="13848"/>
                  <a:pt x="12427" y="13866"/>
                </a:cubicBezTo>
                <a:cubicBezTo>
                  <a:pt x="12589" y="13885"/>
                  <a:pt x="12767" y="13742"/>
                  <a:pt x="12923" y="13816"/>
                </a:cubicBezTo>
                <a:cubicBezTo>
                  <a:pt x="13120" y="13909"/>
                  <a:pt x="13027" y="14064"/>
                  <a:pt x="13345" y="14064"/>
                </a:cubicBezTo>
                <a:cubicBezTo>
                  <a:pt x="13403" y="14064"/>
                  <a:pt x="13499" y="14043"/>
                  <a:pt x="1356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endParaRPr b="0" lang="en-US" sz="2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thematical process +, -, x, 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lculate mathematical value;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ymbols representing a value  ex: 15x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hows what operation needs to be done first (  ) or brackets [ 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800" spc="-1" strike="noStrike">
                <a:solidFill>
                  <a:srgbClr val="9ca8a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120" y="2054160"/>
            <a:ext cx="6303960" cy="1160640"/>
          </a:xfrm>
          <a:custGeom>
            <a:avLst/>
            <a:gdLst/>
            <a:ahLst/>
            <a:rect l="l" t="t" r="r" b="b"/>
            <a:pathLst>
              <a:path w="17513" h="3226">
                <a:moveTo>
                  <a:pt x="1141" y="5879"/>
                </a:moveTo>
                <a:cubicBezTo>
                  <a:pt x="1150" y="5886"/>
                  <a:pt x="1279" y="5991"/>
                  <a:pt x="1339" y="6028"/>
                </a:cubicBezTo>
                <a:cubicBezTo>
                  <a:pt x="1477" y="6114"/>
                  <a:pt x="1592" y="6076"/>
                  <a:pt x="1712" y="5978"/>
                </a:cubicBezTo>
                <a:cubicBezTo>
                  <a:pt x="1753" y="5936"/>
                  <a:pt x="1761" y="5928"/>
                  <a:pt x="1786" y="5904"/>
                </a:cubicBezTo>
                <a:cubicBezTo>
                  <a:pt x="1862" y="5960"/>
                  <a:pt x="1954" y="6053"/>
                  <a:pt x="2059" y="6077"/>
                </a:cubicBezTo>
                <a:cubicBezTo>
                  <a:pt x="2193" y="6107"/>
                  <a:pt x="2293" y="5929"/>
                  <a:pt x="2406" y="5904"/>
                </a:cubicBezTo>
                <a:cubicBezTo>
                  <a:pt x="2500" y="5884"/>
                  <a:pt x="2470" y="5939"/>
                  <a:pt x="2580" y="5978"/>
                </a:cubicBezTo>
                <a:cubicBezTo>
                  <a:pt x="2792" y="6053"/>
                  <a:pt x="2942" y="5964"/>
                  <a:pt x="3101" y="5829"/>
                </a:cubicBezTo>
                <a:cubicBezTo>
                  <a:pt x="3125" y="5804"/>
                  <a:pt x="3133" y="5795"/>
                  <a:pt x="3150" y="5779"/>
                </a:cubicBezTo>
                <a:cubicBezTo>
                  <a:pt x="3280" y="5875"/>
                  <a:pt x="3289" y="5930"/>
                  <a:pt x="3473" y="5904"/>
                </a:cubicBezTo>
                <a:cubicBezTo>
                  <a:pt x="3618" y="5884"/>
                  <a:pt x="3710" y="5741"/>
                  <a:pt x="3845" y="5730"/>
                </a:cubicBezTo>
                <a:cubicBezTo>
                  <a:pt x="3930" y="5723"/>
                  <a:pt x="3924" y="5812"/>
                  <a:pt x="4018" y="5829"/>
                </a:cubicBezTo>
                <a:cubicBezTo>
                  <a:pt x="4173" y="5857"/>
                  <a:pt x="4274" y="5722"/>
                  <a:pt x="4390" y="5730"/>
                </a:cubicBezTo>
                <a:cubicBezTo>
                  <a:pt x="4487" y="5737"/>
                  <a:pt x="4539" y="5898"/>
                  <a:pt x="4638" y="5928"/>
                </a:cubicBezTo>
                <a:cubicBezTo>
                  <a:pt x="4819" y="5982"/>
                  <a:pt x="4973" y="5807"/>
                  <a:pt x="5135" y="5829"/>
                </a:cubicBezTo>
                <a:cubicBezTo>
                  <a:pt x="5247" y="5844"/>
                  <a:pt x="5304" y="5959"/>
                  <a:pt x="5432" y="5978"/>
                </a:cubicBezTo>
                <a:cubicBezTo>
                  <a:pt x="5627" y="6007"/>
                  <a:pt x="5733" y="5846"/>
                  <a:pt x="5879" y="5755"/>
                </a:cubicBezTo>
                <a:cubicBezTo>
                  <a:pt x="5887" y="5755"/>
                  <a:pt x="5896" y="5755"/>
                  <a:pt x="5904" y="5755"/>
                </a:cubicBezTo>
                <a:cubicBezTo>
                  <a:pt x="6088" y="5980"/>
                  <a:pt x="6224" y="5854"/>
                  <a:pt x="6474" y="5804"/>
                </a:cubicBezTo>
                <a:cubicBezTo>
                  <a:pt x="6508" y="5797"/>
                  <a:pt x="6513" y="5809"/>
                  <a:pt x="6548" y="5804"/>
                </a:cubicBezTo>
              </a:path>
              <a:path w="17513" h="3226">
                <a:moveTo>
                  <a:pt x="1736" y="8930"/>
                </a:moveTo>
                <a:cubicBezTo>
                  <a:pt x="1744" y="8930"/>
                  <a:pt x="1753" y="8930"/>
                  <a:pt x="1761" y="8930"/>
                </a:cubicBezTo>
              </a:path>
              <a:path w="17513" h="3226">
                <a:moveTo>
                  <a:pt x="2084" y="6747"/>
                </a:moveTo>
                <a:cubicBezTo>
                  <a:pt x="2113" y="6836"/>
                  <a:pt x="2085" y="6827"/>
                  <a:pt x="2158" y="6921"/>
                </a:cubicBezTo>
                <a:cubicBezTo>
                  <a:pt x="2259" y="7049"/>
                  <a:pt x="2316" y="7050"/>
                  <a:pt x="2456" y="6995"/>
                </a:cubicBezTo>
                <a:cubicBezTo>
                  <a:pt x="2487" y="6983"/>
                  <a:pt x="2518" y="6931"/>
                  <a:pt x="2530" y="6921"/>
                </a:cubicBezTo>
                <a:cubicBezTo>
                  <a:pt x="2596" y="6996"/>
                  <a:pt x="2675" y="7138"/>
                  <a:pt x="2803" y="7119"/>
                </a:cubicBezTo>
                <a:cubicBezTo>
                  <a:pt x="2893" y="7106"/>
                  <a:pt x="2978" y="7010"/>
                  <a:pt x="3051" y="7045"/>
                </a:cubicBezTo>
                <a:cubicBezTo>
                  <a:pt x="3196" y="7114"/>
                  <a:pt x="3175" y="7217"/>
                  <a:pt x="3398" y="7144"/>
                </a:cubicBezTo>
                <a:cubicBezTo>
                  <a:pt x="3536" y="7099"/>
                  <a:pt x="3464" y="7098"/>
                  <a:pt x="3522" y="7069"/>
                </a:cubicBezTo>
                <a:cubicBezTo>
                  <a:pt x="3604" y="7160"/>
                  <a:pt x="3665" y="7218"/>
                  <a:pt x="3820" y="7218"/>
                </a:cubicBezTo>
                <a:cubicBezTo>
                  <a:pt x="3908" y="7218"/>
                  <a:pt x="4053" y="7111"/>
                  <a:pt x="4118" y="7119"/>
                </a:cubicBezTo>
                <a:cubicBezTo>
                  <a:pt x="4232" y="7133"/>
                  <a:pt x="4202" y="7228"/>
                  <a:pt x="4366" y="7193"/>
                </a:cubicBezTo>
                <a:cubicBezTo>
                  <a:pt x="4545" y="7155"/>
                  <a:pt x="4588" y="7034"/>
                  <a:pt x="4738" y="7094"/>
                </a:cubicBezTo>
                <a:cubicBezTo>
                  <a:pt x="4902" y="7160"/>
                  <a:pt x="5009" y="7141"/>
                  <a:pt x="5184" y="7069"/>
                </a:cubicBezTo>
                <a:cubicBezTo>
                  <a:pt x="5363" y="6995"/>
                  <a:pt x="5246" y="6993"/>
                  <a:pt x="5383" y="7045"/>
                </a:cubicBezTo>
                <a:cubicBezTo>
                  <a:pt x="5583" y="7121"/>
                  <a:pt x="5709" y="7037"/>
                  <a:pt x="5904" y="6970"/>
                </a:cubicBezTo>
                <a:cubicBezTo>
                  <a:pt x="6045" y="6922"/>
                  <a:pt x="5987" y="6992"/>
                  <a:pt x="6127" y="7045"/>
                </a:cubicBezTo>
                <a:cubicBezTo>
                  <a:pt x="6309" y="7114"/>
                  <a:pt x="6436" y="6954"/>
                  <a:pt x="6598" y="6970"/>
                </a:cubicBezTo>
                <a:cubicBezTo>
                  <a:pt x="6645" y="6975"/>
                  <a:pt x="6633" y="7024"/>
                  <a:pt x="6697" y="7045"/>
                </a:cubicBezTo>
                <a:cubicBezTo>
                  <a:pt x="6817" y="7085"/>
                  <a:pt x="6880" y="7032"/>
                  <a:pt x="6945" y="7020"/>
                </a:cubicBezTo>
                <a:cubicBezTo>
                  <a:pt x="6953" y="7020"/>
                  <a:pt x="6962" y="7020"/>
                  <a:pt x="6970" y="7020"/>
                </a:cubicBezTo>
              </a:path>
              <a:path w="17513" h="3226">
                <a:moveTo>
                  <a:pt x="2133" y="8136"/>
                </a:moveTo>
                <a:cubicBezTo>
                  <a:pt x="2144" y="8188"/>
                  <a:pt x="2133" y="8311"/>
                  <a:pt x="2208" y="8334"/>
                </a:cubicBezTo>
                <a:cubicBezTo>
                  <a:pt x="2283" y="8356"/>
                  <a:pt x="2396" y="8265"/>
                  <a:pt x="2456" y="8235"/>
                </a:cubicBezTo>
                <a:cubicBezTo>
                  <a:pt x="2485" y="8257"/>
                  <a:pt x="2469" y="8326"/>
                  <a:pt x="2555" y="8334"/>
                </a:cubicBezTo>
                <a:cubicBezTo>
                  <a:pt x="2600" y="8338"/>
                  <a:pt x="2684" y="8299"/>
                  <a:pt x="2729" y="8285"/>
                </a:cubicBezTo>
                <a:cubicBezTo>
                  <a:pt x="2756" y="8344"/>
                  <a:pt x="2788" y="8449"/>
                  <a:pt x="2877" y="8458"/>
                </a:cubicBezTo>
                <a:cubicBezTo>
                  <a:pt x="2965" y="8467"/>
                  <a:pt x="3038" y="8342"/>
                  <a:pt x="3101" y="8359"/>
                </a:cubicBezTo>
                <a:cubicBezTo>
                  <a:pt x="3261" y="8402"/>
                  <a:pt x="3287" y="8448"/>
                  <a:pt x="3473" y="8384"/>
                </a:cubicBezTo>
                <a:cubicBezTo>
                  <a:pt x="3604" y="8339"/>
                  <a:pt x="3568" y="8467"/>
                  <a:pt x="3696" y="8434"/>
                </a:cubicBezTo>
                <a:cubicBezTo>
                  <a:pt x="3790" y="8410"/>
                  <a:pt x="3867" y="8312"/>
                  <a:pt x="3919" y="8260"/>
                </a:cubicBezTo>
                <a:cubicBezTo>
                  <a:pt x="4019" y="8369"/>
                  <a:pt x="4055" y="8413"/>
                  <a:pt x="4242" y="8359"/>
                </a:cubicBezTo>
                <a:cubicBezTo>
                  <a:pt x="4309" y="8339"/>
                  <a:pt x="4445" y="8265"/>
                  <a:pt x="4514" y="8235"/>
                </a:cubicBezTo>
                <a:cubicBezTo>
                  <a:pt x="4577" y="8321"/>
                  <a:pt x="4513" y="8336"/>
                  <a:pt x="4663" y="8359"/>
                </a:cubicBezTo>
                <a:cubicBezTo>
                  <a:pt x="4827" y="8384"/>
                  <a:pt x="4943" y="8271"/>
                  <a:pt x="5035" y="8334"/>
                </a:cubicBezTo>
                <a:cubicBezTo>
                  <a:pt x="5142" y="8407"/>
                  <a:pt x="5157" y="8401"/>
                  <a:pt x="5283" y="8359"/>
                </a:cubicBezTo>
                <a:cubicBezTo>
                  <a:pt x="5370" y="8330"/>
                  <a:pt x="5363" y="8311"/>
                  <a:pt x="5432" y="8334"/>
                </a:cubicBezTo>
                <a:cubicBezTo>
                  <a:pt x="5589" y="8387"/>
                  <a:pt x="5589" y="8346"/>
                  <a:pt x="5755" y="8285"/>
                </a:cubicBezTo>
                <a:cubicBezTo>
                  <a:pt x="5763" y="8285"/>
                  <a:pt x="5771" y="8285"/>
                  <a:pt x="5779" y="8285"/>
                </a:cubicBezTo>
              </a:path>
              <a:path w="17513" h="3226">
                <a:moveTo>
                  <a:pt x="18653" y="6251"/>
                </a:moveTo>
                <a:cubicBezTo>
                  <a:pt x="18653" y="6259"/>
                  <a:pt x="18653" y="6268"/>
                  <a:pt x="1865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2054160"/>
            <a:ext cx="1374840" cy="49068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6396" y="6896"/>
                </a:moveTo>
                <a:cubicBezTo>
                  <a:pt x="16507" y="6966"/>
                  <a:pt x="16608" y="7051"/>
                  <a:pt x="16743" y="7069"/>
                </a:cubicBezTo>
                <a:cubicBezTo>
                  <a:pt x="16864" y="7086"/>
                  <a:pt x="16943" y="7010"/>
                  <a:pt x="17041" y="6995"/>
                </a:cubicBezTo>
                <a:cubicBezTo>
                  <a:pt x="17141" y="6980"/>
                  <a:pt x="17200" y="7028"/>
                  <a:pt x="17314" y="7045"/>
                </a:cubicBezTo>
                <a:cubicBezTo>
                  <a:pt x="17488" y="7070"/>
                  <a:pt x="17605" y="7026"/>
                  <a:pt x="17760" y="6970"/>
                </a:cubicBezTo>
                <a:cubicBezTo>
                  <a:pt x="17856" y="6936"/>
                  <a:pt x="17795" y="6942"/>
                  <a:pt x="17934" y="6995"/>
                </a:cubicBezTo>
                <a:cubicBezTo>
                  <a:pt x="18104" y="7059"/>
                  <a:pt x="18228" y="7084"/>
                  <a:pt x="18405" y="7020"/>
                </a:cubicBezTo>
                <a:cubicBezTo>
                  <a:pt x="18488" y="6990"/>
                  <a:pt x="18559" y="6934"/>
                  <a:pt x="18653" y="6945"/>
                </a:cubicBezTo>
                <a:cubicBezTo>
                  <a:pt x="18866" y="6971"/>
                  <a:pt x="18994" y="6995"/>
                  <a:pt x="19224" y="6945"/>
                </a:cubicBezTo>
                <a:cubicBezTo>
                  <a:pt x="19399" y="6907"/>
                  <a:pt x="19556" y="6853"/>
                  <a:pt x="19720" y="6796"/>
                </a:cubicBezTo>
                <a:cubicBezTo>
                  <a:pt x="19832" y="6757"/>
                  <a:pt x="19972" y="6732"/>
                  <a:pt x="20042" y="6623"/>
                </a:cubicBezTo>
                <a:cubicBezTo>
                  <a:pt x="20133" y="6481"/>
                  <a:pt x="20144" y="6299"/>
                  <a:pt x="20067" y="6152"/>
                </a:cubicBezTo>
                <a:cubicBezTo>
                  <a:pt x="20057" y="6133"/>
                  <a:pt x="20018" y="6094"/>
                  <a:pt x="19993" y="6052"/>
                </a:cubicBezTo>
                <a:cubicBezTo>
                  <a:pt x="19914" y="5919"/>
                  <a:pt x="19804" y="5809"/>
                  <a:pt x="19645" y="5779"/>
                </a:cubicBezTo>
                <a:cubicBezTo>
                  <a:pt x="19541" y="5759"/>
                  <a:pt x="19509" y="5809"/>
                  <a:pt x="19422" y="5804"/>
                </a:cubicBezTo>
                <a:cubicBezTo>
                  <a:pt x="19253" y="5795"/>
                  <a:pt x="19126" y="5722"/>
                  <a:pt x="18951" y="5779"/>
                </a:cubicBezTo>
                <a:cubicBezTo>
                  <a:pt x="18743" y="5847"/>
                  <a:pt x="18908" y="5844"/>
                  <a:pt x="18703" y="5755"/>
                </a:cubicBezTo>
                <a:cubicBezTo>
                  <a:pt x="18488" y="5661"/>
                  <a:pt x="18401" y="5770"/>
                  <a:pt x="18207" y="5779"/>
                </a:cubicBezTo>
                <a:cubicBezTo>
                  <a:pt x="18124" y="5783"/>
                  <a:pt x="18062" y="5752"/>
                  <a:pt x="17983" y="5730"/>
                </a:cubicBezTo>
                <a:cubicBezTo>
                  <a:pt x="17896" y="5706"/>
                  <a:pt x="17875" y="5726"/>
                  <a:pt x="17785" y="5730"/>
                </a:cubicBezTo>
                <a:cubicBezTo>
                  <a:pt x="17708" y="5733"/>
                  <a:pt x="17608" y="5713"/>
                  <a:pt x="17512" y="5705"/>
                </a:cubicBezTo>
                <a:cubicBezTo>
                  <a:pt x="17362" y="5693"/>
                  <a:pt x="17326" y="5758"/>
                  <a:pt x="17239" y="5779"/>
                </a:cubicBezTo>
                <a:cubicBezTo>
                  <a:pt x="17160" y="5798"/>
                  <a:pt x="17040" y="5754"/>
                  <a:pt x="16942" y="5779"/>
                </a:cubicBezTo>
                <a:cubicBezTo>
                  <a:pt x="16830" y="5807"/>
                  <a:pt x="16820" y="5940"/>
                  <a:pt x="16793" y="6028"/>
                </a:cubicBezTo>
                <a:cubicBezTo>
                  <a:pt x="16721" y="5995"/>
                  <a:pt x="16631" y="5902"/>
                  <a:pt x="16545" y="5928"/>
                </a:cubicBezTo>
                <a:cubicBezTo>
                  <a:pt x="16539" y="5930"/>
                  <a:pt x="16394" y="6147"/>
                  <a:pt x="16371" y="6176"/>
                </a:cubicBezTo>
                <a:cubicBezTo>
                  <a:pt x="16310" y="6255"/>
                  <a:pt x="16294" y="6330"/>
                  <a:pt x="16321" y="6449"/>
                </a:cubicBezTo>
                <a:cubicBezTo>
                  <a:pt x="16340" y="6536"/>
                  <a:pt x="16305" y="6607"/>
                  <a:pt x="16346" y="6697"/>
                </a:cubicBezTo>
                <a:cubicBezTo>
                  <a:pt x="16392" y="6799"/>
                  <a:pt x="16442" y="6801"/>
                  <a:pt x="16545" y="6796"/>
                </a:cubicBezTo>
                <a:cubicBezTo>
                  <a:pt x="16545" y="6788"/>
                  <a:pt x="16545" y="6780"/>
                  <a:pt x="1654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040" y="3357720"/>
            <a:ext cx="2349720" cy="268200"/>
          </a:xfrm>
          <a:custGeom>
            <a:avLst/>
            <a:gdLst/>
            <a:ahLst/>
            <a:rect l="l" t="t" r="r" b="b"/>
            <a:pathLst>
              <a:path w="6525" h="745">
                <a:moveTo>
                  <a:pt x="1116" y="10071"/>
                </a:moveTo>
                <a:cubicBezTo>
                  <a:pt x="1088" y="10062"/>
                  <a:pt x="1073" y="10014"/>
                  <a:pt x="1091" y="9971"/>
                </a:cubicBezTo>
                <a:cubicBezTo>
                  <a:pt x="1127" y="9885"/>
                  <a:pt x="1323" y="9910"/>
                  <a:pt x="1389" y="9897"/>
                </a:cubicBezTo>
                <a:cubicBezTo>
                  <a:pt x="1450" y="9885"/>
                  <a:pt x="1459" y="9872"/>
                  <a:pt x="1513" y="9872"/>
                </a:cubicBezTo>
              </a:path>
              <a:path w="6525" h="745">
                <a:moveTo>
                  <a:pt x="1736" y="9451"/>
                </a:moveTo>
                <a:cubicBezTo>
                  <a:pt x="1769" y="9453"/>
                  <a:pt x="1780" y="9414"/>
                  <a:pt x="1811" y="9426"/>
                </a:cubicBezTo>
                <a:cubicBezTo>
                  <a:pt x="1967" y="9486"/>
                  <a:pt x="1972" y="9557"/>
                  <a:pt x="2133" y="9475"/>
                </a:cubicBezTo>
                <a:cubicBezTo>
                  <a:pt x="2136" y="9473"/>
                  <a:pt x="2237" y="9390"/>
                  <a:pt x="2257" y="9376"/>
                </a:cubicBezTo>
                <a:cubicBezTo>
                  <a:pt x="2355" y="9464"/>
                  <a:pt x="2410" y="9553"/>
                  <a:pt x="2555" y="9550"/>
                </a:cubicBezTo>
                <a:cubicBezTo>
                  <a:pt x="2713" y="9547"/>
                  <a:pt x="2784" y="9353"/>
                  <a:pt x="2952" y="9376"/>
                </a:cubicBezTo>
                <a:cubicBezTo>
                  <a:pt x="3140" y="9401"/>
                  <a:pt x="3190" y="9542"/>
                  <a:pt x="3423" y="9475"/>
                </a:cubicBezTo>
                <a:cubicBezTo>
                  <a:pt x="3504" y="9452"/>
                  <a:pt x="3687" y="9291"/>
                  <a:pt x="3770" y="9327"/>
                </a:cubicBezTo>
                <a:cubicBezTo>
                  <a:pt x="3892" y="9380"/>
                  <a:pt x="3831" y="9519"/>
                  <a:pt x="3994" y="9525"/>
                </a:cubicBezTo>
                <a:cubicBezTo>
                  <a:pt x="4129" y="9530"/>
                  <a:pt x="4202" y="9429"/>
                  <a:pt x="4341" y="9475"/>
                </a:cubicBezTo>
                <a:cubicBezTo>
                  <a:pt x="4447" y="9510"/>
                  <a:pt x="4506" y="9662"/>
                  <a:pt x="4638" y="9674"/>
                </a:cubicBezTo>
                <a:cubicBezTo>
                  <a:pt x="4770" y="9686"/>
                  <a:pt x="4846" y="9457"/>
                  <a:pt x="4986" y="9475"/>
                </a:cubicBezTo>
                <a:cubicBezTo>
                  <a:pt x="5076" y="9486"/>
                  <a:pt x="5150" y="9590"/>
                  <a:pt x="5259" y="9599"/>
                </a:cubicBezTo>
                <a:cubicBezTo>
                  <a:pt x="5440" y="9614"/>
                  <a:pt x="5575" y="9385"/>
                  <a:pt x="5755" y="9475"/>
                </a:cubicBezTo>
                <a:cubicBezTo>
                  <a:pt x="5845" y="9520"/>
                  <a:pt x="5872" y="9606"/>
                  <a:pt x="5953" y="9649"/>
                </a:cubicBezTo>
                <a:cubicBezTo>
                  <a:pt x="6084" y="9719"/>
                  <a:pt x="6348" y="9582"/>
                  <a:pt x="6499" y="9575"/>
                </a:cubicBezTo>
                <a:cubicBezTo>
                  <a:pt x="6637" y="9569"/>
                  <a:pt x="6720" y="9587"/>
                  <a:pt x="6846" y="9525"/>
                </a:cubicBezTo>
                <a:cubicBezTo>
                  <a:pt x="6966" y="9466"/>
                  <a:pt x="7051" y="9461"/>
                  <a:pt x="7169" y="9426"/>
                </a:cubicBezTo>
                <a:cubicBezTo>
                  <a:pt x="7266" y="9397"/>
                  <a:pt x="7358" y="9344"/>
                  <a:pt x="7466" y="9327"/>
                </a:cubicBezTo>
                <a:cubicBezTo>
                  <a:pt x="7513" y="9320"/>
                  <a:pt x="7566" y="9329"/>
                  <a:pt x="7615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5840" y="3554280"/>
            <a:ext cx="5162400" cy="419400"/>
          </a:xfrm>
          <a:custGeom>
            <a:avLst/>
            <a:gdLst/>
            <a:ahLst/>
            <a:rect l="l" t="t" r="r" b="b"/>
            <a:pathLst>
              <a:path w="14338" h="1167">
                <a:moveTo>
                  <a:pt x="14337" y="10864"/>
                </a:moveTo>
                <a:lnTo>
                  <a:pt x="14337" y="10864"/>
                </a:lnTo>
              </a:path>
              <a:path w="14338" h="1167">
                <a:moveTo>
                  <a:pt x="15131" y="9872"/>
                </a:moveTo>
                <a:cubicBezTo>
                  <a:pt x="15123" y="9880"/>
                  <a:pt x="15114" y="9889"/>
                  <a:pt x="15106" y="9897"/>
                </a:cubicBezTo>
              </a:path>
              <a:path w="14338" h="1167">
                <a:moveTo>
                  <a:pt x="794" y="10319"/>
                </a:moveTo>
                <a:cubicBezTo>
                  <a:pt x="802" y="10319"/>
                  <a:pt x="811" y="10319"/>
                  <a:pt x="819" y="10319"/>
                </a:cubicBezTo>
              </a:path>
              <a:path w="14338" h="1167">
                <a:moveTo>
                  <a:pt x="1116" y="11013"/>
                </a:moveTo>
                <a:cubicBezTo>
                  <a:pt x="1108" y="11021"/>
                  <a:pt x="1099" y="11030"/>
                  <a:pt x="1091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96240" y="2009880"/>
            <a:ext cx="61920" cy="142920"/>
          </a:xfrm>
          <a:custGeom>
            <a:avLst/>
            <a:gdLst/>
            <a:ahLst/>
            <a:rect l="l" t="t" r="r" b="b"/>
            <a:pathLst>
              <a:path w="174" h="398">
                <a:moveTo>
                  <a:pt x="24507" y="5779"/>
                </a:moveTo>
                <a:cubicBezTo>
                  <a:pt x="24561" y="5844"/>
                  <a:pt x="24592" y="5895"/>
                  <a:pt x="24606" y="5978"/>
                </a:cubicBezTo>
              </a:path>
              <a:path w="174" h="398">
                <a:moveTo>
                  <a:pt x="24457" y="5606"/>
                </a:moveTo>
                <a:cubicBezTo>
                  <a:pt x="24435" y="5584"/>
                  <a:pt x="24424" y="5575"/>
                  <a:pt x="2445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29240" y="1911240"/>
            <a:ext cx="2679840" cy="1116000"/>
          </a:xfrm>
          <a:custGeom>
            <a:avLst/>
            <a:gdLst/>
            <a:ahLst/>
            <a:rect l="l" t="t" r="r" b="b"/>
            <a:pathLst>
              <a:path w="7443" h="3102">
                <a:moveTo>
                  <a:pt x="18306" y="8260"/>
                </a:moveTo>
                <a:cubicBezTo>
                  <a:pt x="18346" y="8307"/>
                  <a:pt x="18345" y="8320"/>
                  <a:pt x="18405" y="8334"/>
                </a:cubicBezTo>
                <a:cubicBezTo>
                  <a:pt x="18492" y="8355"/>
                  <a:pt x="18542" y="8282"/>
                  <a:pt x="18579" y="8260"/>
                </a:cubicBezTo>
                <a:cubicBezTo>
                  <a:pt x="18612" y="8291"/>
                  <a:pt x="18707" y="8395"/>
                  <a:pt x="18752" y="8409"/>
                </a:cubicBezTo>
                <a:cubicBezTo>
                  <a:pt x="18908" y="8457"/>
                  <a:pt x="18959" y="8329"/>
                  <a:pt x="19075" y="8310"/>
                </a:cubicBezTo>
                <a:cubicBezTo>
                  <a:pt x="19182" y="8292"/>
                  <a:pt x="19327" y="8409"/>
                  <a:pt x="19447" y="8409"/>
                </a:cubicBezTo>
                <a:cubicBezTo>
                  <a:pt x="19587" y="8409"/>
                  <a:pt x="19615" y="8336"/>
                  <a:pt x="19720" y="8310"/>
                </a:cubicBezTo>
                <a:cubicBezTo>
                  <a:pt x="19908" y="8264"/>
                  <a:pt x="20044" y="8341"/>
                  <a:pt x="20216" y="8210"/>
                </a:cubicBezTo>
                <a:cubicBezTo>
                  <a:pt x="20313" y="8136"/>
                  <a:pt x="20442" y="8140"/>
                  <a:pt x="20538" y="8062"/>
                </a:cubicBezTo>
                <a:cubicBezTo>
                  <a:pt x="20631" y="7986"/>
                  <a:pt x="20663" y="7879"/>
                  <a:pt x="20588" y="7789"/>
                </a:cubicBezTo>
                <a:cubicBezTo>
                  <a:pt x="20546" y="7740"/>
                  <a:pt x="20547" y="7781"/>
                  <a:pt x="20538" y="7714"/>
                </a:cubicBezTo>
                <a:cubicBezTo>
                  <a:pt x="20522" y="7587"/>
                  <a:pt x="20538" y="7522"/>
                  <a:pt x="20414" y="7441"/>
                </a:cubicBezTo>
                <a:cubicBezTo>
                  <a:pt x="20354" y="7402"/>
                  <a:pt x="20312" y="7378"/>
                  <a:pt x="20265" y="7342"/>
                </a:cubicBezTo>
                <a:cubicBezTo>
                  <a:pt x="20129" y="7238"/>
                  <a:pt x="20087" y="7261"/>
                  <a:pt x="19943" y="7268"/>
                </a:cubicBezTo>
                <a:cubicBezTo>
                  <a:pt x="19890" y="7271"/>
                  <a:pt x="19818" y="7219"/>
                  <a:pt x="19720" y="7193"/>
                </a:cubicBezTo>
                <a:cubicBezTo>
                  <a:pt x="19612" y="7164"/>
                  <a:pt x="19542" y="7262"/>
                  <a:pt x="19447" y="7243"/>
                </a:cubicBezTo>
                <a:cubicBezTo>
                  <a:pt x="19290" y="7211"/>
                  <a:pt x="19219" y="7219"/>
                  <a:pt x="19050" y="7243"/>
                </a:cubicBezTo>
                <a:cubicBezTo>
                  <a:pt x="18980" y="7253"/>
                  <a:pt x="18868" y="7191"/>
                  <a:pt x="18777" y="7218"/>
                </a:cubicBezTo>
                <a:cubicBezTo>
                  <a:pt x="18684" y="7245"/>
                  <a:pt x="18657" y="7293"/>
                  <a:pt x="18579" y="7293"/>
                </a:cubicBezTo>
                <a:cubicBezTo>
                  <a:pt x="18494" y="7293"/>
                  <a:pt x="18434" y="7245"/>
                  <a:pt x="18355" y="7317"/>
                </a:cubicBezTo>
                <a:cubicBezTo>
                  <a:pt x="18297" y="7370"/>
                  <a:pt x="18327" y="7424"/>
                  <a:pt x="18281" y="7441"/>
                </a:cubicBezTo>
                <a:cubicBezTo>
                  <a:pt x="18184" y="7476"/>
                  <a:pt x="18175" y="7426"/>
                  <a:pt x="18107" y="7516"/>
                </a:cubicBezTo>
                <a:cubicBezTo>
                  <a:pt x="18023" y="7627"/>
                  <a:pt x="18048" y="7654"/>
                  <a:pt x="18008" y="7689"/>
                </a:cubicBezTo>
                <a:cubicBezTo>
                  <a:pt x="17931" y="7756"/>
                  <a:pt x="17879" y="7836"/>
                  <a:pt x="17934" y="7938"/>
                </a:cubicBezTo>
                <a:cubicBezTo>
                  <a:pt x="17969" y="8002"/>
                  <a:pt x="17955" y="7902"/>
                  <a:pt x="17934" y="7938"/>
                </a:cubicBezTo>
                <a:cubicBezTo>
                  <a:pt x="17881" y="8030"/>
                  <a:pt x="17779" y="8166"/>
                  <a:pt x="17934" y="8235"/>
                </a:cubicBezTo>
                <a:cubicBezTo>
                  <a:pt x="18026" y="8276"/>
                  <a:pt x="18065" y="8182"/>
                  <a:pt x="18083" y="8186"/>
                </a:cubicBezTo>
                <a:cubicBezTo>
                  <a:pt x="18083" y="8186"/>
                  <a:pt x="18197" y="8255"/>
                  <a:pt x="18207" y="8260"/>
                </a:cubicBezTo>
              </a:path>
              <a:path w="7443" h="3102">
                <a:moveTo>
                  <a:pt x="20960" y="7193"/>
                </a:moveTo>
                <a:cubicBezTo>
                  <a:pt x="20881" y="7193"/>
                  <a:pt x="20851" y="7196"/>
                  <a:pt x="20811" y="7243"/>
                </a:cubicBezTo>
                <a:cubicBezTo>
                  <a:pt x="20907" y="7291"/>
                  <a:pt x="21038" y="7298"/>
                  <a:pt x="20985" y="7417"/>
                </a:cubicBezTo>
                <a:cubicBezTo>
                  <a:pt x="20939" y="7522"/>
                  <a:pt x="20882" y="7525"/>
                  <a:pt x="20786" y="7541"/>
                </a:cubicBezTo>
              </a:path>
              <a:path w="7443" h="3102">
                <a:moveTo>
                  <a:pt x="21158" y="7144"/>
                </a:moveTo>
                <a:cubicBezTo>
                  <a:pt x="21136" y="7242"/>
                  <a:pt x="21097" y="7392"/>
                  <a:pt x="21258" y="7392"/>
                </a:cubicBezTo>
                <a:cubicBezTo>
                  <a:pt x="21443" y="7392"/>
                  <a:pt x="21300" y="7318"/>
                  <a:pt x="21258" y="7293"/>
                </a:cubicBezTo>
                <a:cubicBezTo>
                  <a:pt x="21250" y="7285"/>
                  <a:pt x="21241" y="7276"/>
                  <a:pt x="21233" y="7268"/>
                </a:cubicBezTo>
              </a:path>
              <a:path w="7443" h="3102">
                <a:moveTo>
                  <a:pt x="21307" y="6921"/>
                </a:moveTo>
                <a:cubicBezTo>
                  <a:pt x="21370" y="7046"/>
                  <a:pt x="21446" y="7174"/>
                  <a:pt x="21506" y="7293"/>
                </a:cubicBezTo>
                <a:cubicBezTo>
                  <a:pt x="21506" y="7301"/>
                  <a:pt x="21506" y="7309"/>
                  <a:pt x="21506" y="7317"/>
                </a:cubicBezTo>
              </a:path>
              <a:path w="7443" h="3102">
                <a:moveTo>
                  <a:pt x="21605" y="7069"/>
                </a:moveTo>
                <a:cubicBezTo>
                  <a:pt x="21676" y="7134"/>
                  <a:pt x="21743" y="7227"/>
                  <a:pt x="21828" y="7193"/>
                </a:cubicBezTo>
                <a:cubicBezTo>
                  <a:pt x="21821" y="7126"/>
                  <a:pt x="21810" y="7062"/>
                  <a:pt x="21803" y="6995"/>
                </a:cubicBezTo>
              </a:path>
              <a:path w="7443" h="3102">
                <a:moveTo>
                  <a:pt x="21977" y="7045"/>
                </a:moveTo>
                <a:cubicBezTo>
                  <a:pt x="22027" y="6994"/>
                  <a:pt x="22076" y="6969"/>
                  <a:pt x="22076" y="6896"/>
                </a:cubicBezTo>
                <a:cubicBezTo>
                  <a:pt x="21983" y="6952"/>
                  <a:pt x="21916" y="7021"/>
                  <a:pt x="22051" y="7094"/>
                </a:cubicBezTo>
                <a:cubicBezTo>
                  <a:pt x="22126" y="7119"/>
                  <a:pt x="22150" y="7127"/>
                  <a:pt x="22200" y="7094"/>
                </a:cubicBezTo>
              </a:path>
              <a:path w="7443" h="3102">
                <a:moveTo>
                  <a:pt x="22523" y="6871"/>
                </a:moveTo>
                <a:cubicBezTo>
                  <a:pt x="22540" y="6818"/>
                  <a:pt x="22705" y="6778"/>
                  <a:pt x="22771" y="6747"/>
                </a:cubicBezTo>
              </a:path>
              <a:path w="7443" h="3102">
                <a:moveTo>
                  <a:pt x="22473" y="6648"/>
                </a:moveTo>
                <a:cubicBezTo>
                  <a:pt x="22589" y="6629"/>
                  <a:pt x="22699" y="6623"/>
                  <a:pt x="22820" y="6623"/>
                </a:cubicBezTo>
                <a:cubicBezTo>
                  <a:pt x="22911" y="6623"/>
                  <a:pt x="22849" y="6840"/>
                  <a:pt x="22845" y="6896"/>
                </a:cubicBezTo>
              </a:path>
              <a:path w="7443" h="3102">
                <a:moveTo>
                  <a:pt x="23093" y="6598"/>
                </a:moveTo>
                <a:cubicBezTo>
                  <a:pt x="23127" y="6571"/>
                  <a:pt x="23149" y="6557"/>
                  <a:pt x="23192" y="6548"/>
                </a:cubicBezTo>
                <a:cubicBezTo>
                  <a:pt x="23146" y="6548"/>
                  <a:pt x="23080" y="6534"/>
                  <a:pt x="23044" y="6573"/>
                </a:cubicBezTo>
                <a:cubicBezTo>
                  <a:pt x="22992" y="6628"/>
                  <a:pt x="22938" y="6776"/>
                  <a:pt x="23068" y="6772"/>
                </a:cubicBezTo>
                <a:cubicBezTo>
                  <a:pt x="23169" y="6747"/>
                  <a:pt x="23203" y="6738"/>
                  <a:pt x="23242" y="6672"/>
                </a:cubicBezTo>
              </a:path>
              <a:path w="7443" h="3102">
                <a:moveTo>
                  <a:pt x="23416" y="6449"/>
                </a:moveTo>
                <a:cubicBezTo>
                  <a:pt x="23314" y="6388"/>
                  <a:pt x="23309" y="6463"/>
                  <a:pt x="23292" y="6573"/>
                </a:cubicBezTo>
                <a:cubicBezTo>
                  <a:pt x="23292" y="6618"/>
                  <a:pt x="23288" y="6631"/>
                  <a:pt x="23316" y="6648"/>
                </a:cubicBezTo>
                <a:cubicBezTo>
                  <a:pt x="23401" y="6602"/>
                  <a:pt x="23416" y="6587"/>
                  <a:pt x="23465" y="6499"/>
                </a:cubicBezTo>
                <a:cubicBezTo>
                  <a:pt x="23465" y="6634"/>
                  <a:pt x="23482" y="6762"/>
                  <a:pt x="23490" y="6896"/>
                </a:cubicBezTo>
                <a:cubicBezTo>
                  <a:pt x="23490" y="6997"/>
                  <a:pt x="23470" y="7028"/>
                  <a:pt x="23540" y="7045"/>
                </a:cubicBezTo>
                <a:cubicBezTo>
                  <a:pt x="23690" y="6975"/>
                  <a:pt x="23784" y="6913"/>
                  <a:pt x="23664" y="6747"/>
                </a:cubicBezTo>
                <a:cubicBezTo>
                  <a:pt x="23639" y="6722"/>
                  <a:pt x="23614" y="6697"/>
                  <a:pt x="23589" y="6672"/>
                </a:cubicBezTo>
              </a:path>
              <a:path w="7443" h="3102">
                <a:moveTo>
                  <a:pt x="23614" y="6350"/>
                </a:moveTo>
                <a:cubicBezTo>
                  <a:pt x="23614" y="6454"/>
                  <a:pt x="23606" y="6486"/>
                  <a:pt x="23688" y="6524"/>
                </a:cubicBezTo>
                <a:cubicBezTo>
                  <a:pt x="23835" y="6592"/>
                  <a:pt x="23832" y="6371"/>
                  <a:pt x="23837" y="6276"/>
                </a:cubicBezTo>
                <a:cubicBezTo>
                  <a:pt x="23837" y="6268"/>
                  <a:pt x="23837" y="6259"/>
                  <a:pt x="23837" y="6251"/>
                </a:cubicBezTo>
                <a:cubicBezTo>
                  <a:pt x="23845" y="6292"/>
                  <a:pt x="23886" y="6421"/>
                  <a:pt x="23937" y="6424"/>
                </a:cubicBezTo>
                <a:cubicBezTo>
                  <a:pt x="23962" y="6416"/>
                  <a:pt x="23986" y="6408"/>
                  <a:pt x="24011" y="6400"/>
                </a:cubicBezTo>
              </a:path>
              <a:path w="7443" h="3102">
                <a:moveTo>
                  <a:pt x="24085" y="6028"/>
                </a:moveTo>
                <a:cubicBezTo>
                  <a:pt x="24022" y="6090"/>
                  <a:pt x="23848" y="6311"/>
                  <a:pt x="24061" y="6325"/>
                </a:cubicBezTo>
                <a:cubicBezTo>
                  <a:pt x="24215" y="6335"/>
                  <a:pt x="24179" y="6202"/>
                  <a:pt x="24185" y="6102"/>
                </a:cubicBezTo>
                <a:cubicBezTo>
                  <a:pt x="24184" y="6108"/>
                  <a:pt x="24179" y="6288"/>
                  <a:pt x="24234" y="6201"/>
                </a:cubicBezTo>
                <a:cubicBezTo>
                  <a:pt x="24242" y="6168"/>
                  <a:pt x="24251" y="6135"/>
                  <a:pt x="24259" y="6102"/>
                </a:cubicBezTo>
              </a:path>
              <a:path w="7443" h="3102">
                <a:moveTo>
                  <a:pt x="24135" y="5631"/>
                </a:moveTo>
                <a:cubicBezTo>
                  <a:pt x="24197" y="5786"/>
                  <a:pt x="24248" y="5957"/>
                  <a:pt x="24333" y="6102"/>
                </a:cubicBezTo>
                <a:cubicBezTo>
                  <a:pt x="24356" y="6125"/>
                  <a:pt x="24360" y="6133"/>
                  <a:pt x="24383" y="6127"/>
                </a:cubicBezTo>
              </a:path>
              <a:path w="7443" h="3102">
                <a:moveTo>
                  <a:pt x="24036" y="6003"/>
                </a:moveTo>
                <a:cubicBezTo>
                  <a:pt x="24144" y="5948"/>
                  <a:pt x="24257" y="5891"/>
                  <a:pt x="24358" y="5829"/>
                </a:cubicBezTo>
                <a:cubicBezTo>
                  <a:pt x="24386" y="5801"/>
                  <a:pt x="24400" y="5792"/>
                  <a:pt x="24433" y="5804"/>
                </a:cubicBezTo>
              </a:path>
              <a:path w="7443" h="3102">
                <a:moveTo>
                  <a:pt x="24730" y="5581"/>
                </a:moveTo>
                <a:cubicBezTo>
                  <a:pt x="24730" y="5515"/>
                  <a:pt x="24697" y="5720"/>
                  <a:pt x="24705" y="5755"/>
                </a:cubicBezTo>
                <a:cubicBezTo>
                  <a:pt x="24733" y="5881"/>
                  <a:pt x="24894" y="5751"/>
                  <a:pt x="24904" y="5680"/>
                </a:cubicBezTo>
                <a:cubicBezTo>
                  <a:pt x="24918" y="5582"/>
                  <a:pt x="24828" y="5549"/>
                  <a:pt x="24755" y="5531"/>
                </a:cubicBezTo>
                <a:cubicBezTo>
                  <a:pt x="24730" y="5531"/>
                  <a:pt x="24722" y="5531"/>
                  <a:pt x="24730" y="5556"/>
                </a:cubicBezTo>
              </a:path>
              <a:path w="7443" h="3102">
                <a:moveTo>
                  <a:pt x="24904" y="5507"/>
                </a:moveTo>
                <a:cubicBezTo>
                  <a:pt x="24931" y="5550"/>
                  <a:pt x="24962" y="5590"/>
                  <a:pt x="24978" y="5631"/>
                </a:cubicBezTo>
                <a:cubicBezTo>
                  <a:pt x="24963" y="5534"/>
                  <a:pt x="24960" y="5477"/>
                  <a:pt x="24978" y="5383"/>
                </a:cubicBezTo>
                <a:cubicBezTo>
                  <a:pt x="25000" y="5272"/>
                  <a:pt x="25109" y="5293"/>
                  <a:pt x="25177" y="5358"/>
                </a:cubicBezTo>
                <a:cubicBezTo>
                  <a:pt x="25222" y="5401"/>
                  <a:pt x="25287" y="5499"/>
                  <a:pt x="25301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02760" y="3411360"/>
            <a:ext cx="196560" cy="115920"/>
          </a:xfrm>
          <a:custGeom>
            <a:avLst/>
            <a:gdLst/>
            <a:ahLst/>
            <a:rect l="l" t="t" r="r" b="b"/>
            <a:pathLst>
              <a:path w="547" h="324">
                <a:moveTo>
                  <a:pt x="23391" y="9525"/>
                </a:moveTo>
                <a:cubicBezTo>
                  <a:pt x="23359" y="9605"/>
                  <a:pt x="23284" y="9764"/>
                  <a:pt x="23416" y="9798"/>
                </a:cubicBezTo>
                <a:cubicBezTo>
                  <a:pt x="23551" y="9833"/>
                  <a:pt x="23709" y="9680"/>
                  <a:pt x="23614" y="9550"/>
                </a:cubicBezTo>
                <a:cubicBezTo>
                  <a:pt x="23543" y="9502"/>
                  <a:pt x="23521" y="9486"/>
                  <a:pt x="23465" y="9475"/>
                </a:cubicBezTo>
              </a:path>
              <a:path w="547" h="324">
                <a:moveTo>
                  <a:pt x="23887" y="9649"/>
                </a:moveTo>
                <a:lnTo>
                  <a:pt x="23887" y="9649"/>
                </a:lnTo>
                <a:lnTo>
                  <a:pt x="23887" y="9649"/>
                </a:lnTo>
                <a:lnTo>
                  <a:pt x="23887" y="9649"/>
                </a:lnTo>
              </a:path>
              <a:path w="547" h="324">
                <a:moveTo>
                  <a:pt x="23887" y="9649"/>
                </a:moveTo>
                <a:lnTo>
                  <a:pt x="23887" y="96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8200" y="2982960"/>
            <a:ext cx="1982880" cy="723960"/>
          </a:xfrm>
          <a:custGeom>
            <a:avLst/>
            <a:gdLst/>
            <a:ahLst/>
            <a:rect l="l" t="t" r="r" b="b"/>
            <a:pathLst>
              <a:path w="5508" h="2010">
                <a:moveTo>
                  <a:pt x="19993" y="8830"/>
                </a:moveTo>
                <a:cubicBezTo>
                  <a:pt x="19926" y="8821"/>
                  <a:pt x="19952" y="8761"/>
                  <a:pt x="19869" y="8806"/>
                </a:cubicBezTo>
                <a:cubicBezTo>
                  <a:pt x="19775" y="8856"/>
                  <a:pt x="19642" y="9151"/>
                  <a:pt x="19695" y="9252"/>
                </a:cubicBezTo>
                <a:cubicBezTo>
                  <a:pt x="19757" y="9370"/>
                  <a:pt x="19836" y="9283"/>
                  <a:pt x="19918" y="9302"/>
                </a:cubicBezTo>
                <a:cubicBezTo>
                  <a:pt x="19926" y="9310"/>
                  <a:pt x="19935" y="9319"/>
                  <a:pt x="19943" y="9327"/>
                </a:cubicBezTo>
                <a:cubicBezTo>
                  <a:pt x="19951" y="9447"/>
                  <a:pt x="19905" y="9693"/>
                  <a:pt x="20067" y="9748"/>
                </a:cubicBezTo>
                <a:cubicBezTo>
                  <a:pt x="20198" y="9793"/>
                  <a:pt x="20554" y="9642"/>
                  <a:pt x="20638" y="9699"/>
                </a:cubicBezTo>
                <a:cubicBezTo>
                  <a:pt x="20674" y="9724"/>
                  <a:pt x="20694" y="9817"/>
                  <a:pt x="20737" y="9847"/>
                </a:cubicBezTo>
                <a:cubicBezTo>
                  <a:pt x="20960" y="10005"/>
                  <a:pt x="21266" y="9935"/>
                  <a:pt x="21506" y="9872"/>
                </a:cubicBezTo>
                <a:cubicBezTo>
                  <a:pt x="21602" y="9847"/>
                  <a:pt x="21762" y="9757"/>
                  <a:pt x="21878" y="9773"/>
                </a:cubicBezTo>
                <a:cubicBezTo>
                  <a:pt x="22069" y="9798"/>
                  <a:pt x="22213" y="9902"/>
                  <a:pt x="22423" y="9872"/>
                </a:cubicBezTo>
                <a:cubicBezTo>
                  <a:pt x="22615" y="9845"/>
                  <a:pt x="22793" y="9688"/>
                  <a:pt x="22944" y="9674"/>
                </a:cubicBezTo>
                <a:cubicBezTo>
                  <a:pt x="23123" y="9658"/>
                  <a:pt x="23336" y="9515"/>
                  <a:pt x="23391" y="9327"/>
                </a:cubicBezTo>
                <a:cubicBezTo>
                  <a:pt x="23410" y="9262"/>
                  <a:pt x="23347" y="9215"/>
                  <a:pt x="23366" y="9128"/>
                </a:cubicBezTo>
                <a:cubicBezTo>
                  <a:pt x="23404" y="8956"/>
                  <a:pt x="23516" y="8812"/>
                  <a:pt x="23465" y="8632"/>
                </a:cubicBezTo>
                <a:cubicBezTo>
                  <a:pt x="23454" y="8593"/>
                  <a:pt x="23411" y="8563"/>
                  <a:pt x="23391" y="8533"/>
                </a:cubicBezTo>
                <a:cubicBezTo>
                  <a:pt x="23266" y="8348"/>
                  <a:pt x="23089" y="8287"/>
                  <a:pt x="22870" y="8359"/>
                </a:cubicBezTo>
                <a:cubicBezTo>
                  <a:pt x="22820" y="8375"/>
                  <a:pt x="22662" y="8518"/>
                  <a:pt x="22622" y="8508"/>
                </a:cubicBezTo>
                <a:cubicBezTo>
                  <a:pt x="22475" y="8471"/>
                  <a:pt x="22511" y="8386"/>
                  <a:pt x="22299" y="8483"/>
                </a:cubicBezTo>
                <a:cubicBezTo>
                  <a:pt x="22120" y="8564"/>
                  <a:pt x="22014" y="8641"/>
                  <a:pt x="21828" y="8632"/>
                </a:cubicBezTo>
                <a:cubicBezTo>
                  <a:pt x="21657" y="8623"/>
                  <a:pt x="21574" y="8642"/>
                  <a:pt x="21406" y="8682"/>
                </a:cubicBezTo>
                <a:cubicBezTo>
                  <a:pt x="21320" y="8703"/>
                  <a:pt x="21151" y="8765"/>
                  <a:pt x="21059" y="8756"/>
                </a:cubicBezTo>
                <a:cubicBezTo>
                  <a:pt x="20945" y="8745"/>
                  <a:pt x="20953" y="8690"/>
                  <a:pt x="20836" y="8756"/>
                </a:cubicBezTo>
                <a:cubicBezTo>
                  <a:pt x="20750" y="8804"/>
                  <a:pt x="20745" y="8834"/>
                  <a:pt x="20662" y="8830"/>
                </a:cubicBezTo>
                <a:cubicBezTo>
                  <a:pt x="20582" y="8827"/>
                  <a:pt x="20494" y="8787"/>
                  <a:pt x="20414" y="8806"/>
                </a:cubicBezTo>
                <a:cubicBezTo>
                  <a:pt x="20295" y="8834"/>
                  <a:pt x="20230" y="8893"/>
                  <a:pt x="20117" y="8880"/>
                </a:cubicBezTo>
                <a:cubicBezTo>
                  <a:pt x="19938" y="8860"/>
                  <a:pt x="19767" y="8739"/>
                  <a:pt x="19596" y="8855"/>
                </a:cubicBezTo>
                <a:cubicBezTo>
                  <a:pt x="19533" y="8918"/>
                  <a:pt x="19516" y="8928"/>
                  <a:pt x="19496" y="8979"/>
                </a:cubicBezTo>
              </a:path>
              <a:path w="5508" h="2010">
                <a:moveTo>
                  <a:pt x="22969" y="9723"/>
                </a:moveTo>
                <a:cubicBezTo>
                  <a:pt x="22924" y="9738"/>
                  <a:pt x="22977" y="9880"/>
                  <a:pt x="22994" y="9922"/>
                </a:cubicBezTo>
                <a:cubicBezTo>
                  <a:pt x="23017" y="9945"/>
                  <a:pt x="23025" y="9956"/>
                  <a:pt x="23019" y="9922"/>
                </a:cubicBezTo>
                <a:cubicBezTo>
                  <a:pt x="22990" y="9834"/>
                  <a:pt x="22975" y="9806"/>
                  <a:pt x="22994" y="9723"/>
                </a:cubicBezTo>
                <a:cubicBezTo>
                  <a:pt x="23095" y="9723"/>
                  <a:pt x="23175" y="9737"/>
                  <a:pt x="23242" y="9823"/>
                </a:cubicBezTo>
                <a:cubicBezTo>
                  <a:pt x="23242" y="9851"/>
                  <a:pt x="23245" y="9861"/>
                  <a:pt x="23267" y="9872"/>
                </a:cubicBezTo>
              </a:path>
              <a:path w="5508" h="2010">
                <a:moveTo>
                  <a:pt x="23937" y="9376"/>
                </a:moveTo>
                <a:cubicBezTo>
                  <a:pt x="23958" y="9324"/>
                  <a:pt x="24028" y="9269"/>
                  <a:pt x="24061" y="9252"/>
                </a:cubicBezTo>
                <a:cubicBezTo>
                  <a:pt x="24069" y="9252"/>
                  <a:pt x="24077" y="9252"/>
                  <a:pt x="24085" y="9252"/>
                </a:cubicBezTo>
                <a:cubicBezTo>
                  <a:pt x="24055" y="9227"/>
                  <a:pt x="23939" y="9113"/>
                  <a:pt x="23887" y="9153"/>
                </a:cubicBezTo>
                <a:cubicBezTo>
                  <a:pt x="23807" y="9214"/>
                  <a:pt x="23764" y="9434"/>
                  <a:pt x="23912" y="9451"/>
                </a:cubicBezTo>
                <a:cubicBezTo>
                  <a:pt x="24035" y="9426"/>
                  <a:pt x="24076" y="9419"/>
                  <a:pt x="24110" y="9327"/>
                </a:cubicBezTo>
              </a:path>
              <a:path w="5508" h="2010">
                <a:moveTo>
                  <a:pt x="24160" y="9029"/>
                </a:moveTo>
                <a:cubicBezTo>
                  <a:pt x="24131" y="8941"/>
                  <a:pt x="24044" y="9094"/>
                  <a:pt x="24036" y="9128"/>
                </a:cubicBezTo>
                <a:cubicBezTo>
                  <a:pt x="24036" y="9206"/>
                  <a:pt x="24021" y="9224"/>
                  <a:pt x="24061" y="9252"/>
                </a:cubicBezTo>
                <a:cubicBezTo>
                  <a:pt x="24179" y="9274"/>
                  <a:pt x="24220" y="9255"/>
                  <a:pt x="24259" y="9128"/>
                </a:cubicBezTo>
                <a:cubicBezTo>
                  <a:pt x="24273" y="9085"/>
                  <a:pt x="24253" y="9061"/>
                  <a:pt x="24234" y="9029"/>
                </a:cubicBezTo>
                <a:cubicBezTo>
                  <a:pt x="24260" y="9184"/>
                  <a:pt x="24260" y="9341"/>
                  <a:pt x="24284" y="9500"/>
                </a:cubicBezTo>
                <a:cubicBezTo>
                  <a:pt x="24304" y="9601"/>
                  <a:pt x="24302" y="9621"/>
                  <a:pt x="24333" y="9674"/>
                </a:cubicBezTo>
                <a:cubicBezTo>
                  <a:pt x="24471" y="9639"/>
                  <a:pt x="24576" y="9516"/>
                  <a:pt x="24482" y="9351"/>
                </a:cubicBezTo>
                <a:cubicBezTo>
                  <a:pt x="24448" y="9291"/>
                  <a:pt x="24317" y="9252"/>
                  <a:pt x="24259" y="9227"/>
                </a:cubicBezTo>
              </a:path>
              <a:path w="5508" h="2010">
                <a:moveTo>
                  <a:pt x="24309" y="8905"/>
                </a:moveTo>
                <a:cubicBezTo>
                  <a:pt x="24309" y="8973"/>
                  <a:pt x="24297" y="9055"/>
                  <a:pt x="24358" y="9103"/>
                </a:cubicBezTo>
                <a:cubicBezTo>
                  <a:pt x="24456" y="9179"/>
                  <a:pt x="24536" y="9009"/>
                  <a:pt x="24532" y="8930"/>
                </a:cubicBezTo>
                <a:cubicBezTo>
                  <a:pt x="24524" y="8913"/>
                  <a:pt x="24515" y="8897"/>
                  <a:pt x="24507" y="8880"/>
                </a:cubicBezTo>
                <a:cubicBezTo>
                  <a:pt x="24507" y="8839"/>
                  <a:pt x="24521" y="8964"/>
                  <a:pt x="24557" y="9004"/>
                </a:cubicBezTo>
                <a:cubicBezTo>
                  <a:pt x="24613" y="9033"/>
                  <a:pt x="24637" y="9038"/>
                  <a:pt x="24681" y="9004"/>
                </a:cubicBezTo>
              </a:path>
              <a:path w="5508" h="2010">
                <a:moveTo>
                  <a:pt x="24755" y="8706"/>
                </a:moveTo>
                <a:cubicBezTo>
                  <a:pt x="24668" y="8724"/>
                  <a:pt x="24627" y="8812"/>
                  <a:pt x="24631" y="8905"/>
                </a:cubicBezTo>
                <a:cubicBezTo>
                  <a:pt x="24639" y="8921"/>
                  <a:pt x="24648" y="8938"/>
                  <a:pt x="24656" y="8954"/>
                </a:cubicBezTo>
                <a:cubicBezTo>
                  <a:pt x="24765" y="8941"/>
                  <a:pt x="24801" y="8893"/>
                  <a:pt x="24755" y="8781"/>
                </a:cubicBezTo>
                <a:cubicBezTo>
                  <a:pt x="24755" y="8789"/>
                  <a:pt x="24755" y="8798"/>
                  <a:pt x="24755" y="8806"/>
                </a:cubicBezTo>
                <a:cubicBezTo>
                  <a:pt x="24848" y="8873"/>
                  <a:pt x="24892" y="8773"/>
                  <a:pt x="24954" y="8706"/>
                </a:cubicBezTo>
              </a:path>
              <a:path w="5508" h="2010">
                <a:moveTo>
                  <a:pt x="24755" y="8285"/>
                </a:moveTo>
                <a:cubicBezTo>
                  <a:pt x="24780" y="8432"/>
                  <a:pt x="24861" y="8552"/>
                  <a:pt x="24929" y="8682"/>
                </a:cubicBezTo>
                <a:cubicBezTo>
                  <a:pt x="24981" y="8781"/>
                  <a:pt x="24986" y="8755"/>
                  <a:pt x="25003" y="8806"/>
                </a:cubicBezTo>
              </a:path>
              <a:path w="5508" h="2010">
                <a:moveTo>
                  <a:pt x="23713" y="9872"/>
                </a:moveTo>
                <a:cubicBezTo>
                  <a:pt x="23691" y="9807"/>
                  <a:pt x="23629" y="9863"/>
                  <a:pt x="23589" y="9897"/>
                </a:cubicBezTo>
                <a:cubicBezTo>
                  <a:pt x="23561" y="9925"/>
                  <a:pt x="23552" y="9938"/>
                  <a:pt x="23564" y="9971"/>
                </a:cubicBezTo>
                <a:cubicBezTo>
                  <a:pt x="23656" y="9989"/>
                  <a:pt x="23713" y="9971"/>
                  <a:pt x="23812" y="9947"/>
                </a:cubicBezTo>
                <a:cubicBezTo>
                  <a:pt x="23870" y="10003"/>
                  <a:pt x="23898" y="10063"/>
                  <a:pt x="23812" y="10120"/>
                </a:cubicBezTo>
                <a:cubicBezTo>
                  <a:pt x="23704" y="10192"/>
                  <a:pt x="23603" y="10157"/>
                  <a:pt x="23713" y="10046"/>
                </a:cubicBezTo>
              </a:path>
              <a:path w="5508" h="2010">
                <a:moveTo>
                  <a:pt x="23887" y="9773"/>
                </a:moveTo>
                <a:cubicBezTo>
                  <a:pt x="23929" y="9866"/>
                  <a:pt x="23953" y="9972"/>
                  <a:pt x="24036" y="10021"/>
                </a:cubicBezTo>
              </a:path>
              <a:path w="5508" h="2010">
                <a:moveTo>
                  <a:pt x="24259" y="9723"/>
                </a:moveTo>
                <a:cubicBezTo>
                  <a:pt x="24125" y="9745"/>
                  <a:pt x="24112" y="9804"/>
                  <a:pt x="24085" y="9922"/>
                </a:cubicBezTo>
                <a:cubicBezTo>
                  <a:pt x="24195" y="9977"/>
                  <a:pt x="24238" y="9934"/>
                  <a:pt x="24259" y="9823"/>
                </a:cubicBezTo>
                <a:cubicBezTo>
                  <a:pt x="24266" y="9788"/>
                  <a:pt x="24252" y="9762"/>
                  <a:pt x="24234" y="9798"/>
                </a:cubicBezTo>
                <a:cubicBezTo>
                  <a:pt x="24326" y="9910"/>
                  <a:pt x="24424" y="10027"/>
                  <a:pt x="24457" y="10170"/>
                </a:cubicBezTo>
                <a:cubicBezTo>
                  <a:pt x="24481" y="10277"/>
                  <a:pt x="24245" y="10342"/>
                  <a:pt x="24185" y="10269"/>
                </a:cubicBezTo>
                <a:cubicBezTo>
                  <a:pt x="24185" y="10244"/>
                  <a:pt x="24185" y="10220"/>
                  <a:pt x="24185" y="10195"/>
                </a:cubicBezTo>
              </a:path>
              <a:path w="5508" h="2010">
                <a:moveTo>
                  <a:pt x="24433" y="9723"/>
                </a:moveTo>
                <a:cubicBezTo>
                  <a:pt x="24473" y="9747"/>
                  <a:pt x="24461" y="9773"/>
                  <a:pt x="24507" y="9773"/>
                </a:cubicBezTo>
                <a:cubicBezTo>
                  <a:pt x="24499" y="9727"/>
                  <a:pt x="24427" y="9611"/>
                  <a:pt x="24482" y="9575"/>
                </a:cubicBezTo>
                <a:cubicBezTo>
                  <a:pt x="24527" y="9546"/>
                  <a:pt x="24639" y="9539"/>
                  <a:pt x="24681" y="9575"/>
                </a:cubicBezTo>
                <a:cubicBezTo>
                  <a:pt x="24735" y="9622"/>
                  <a:pt x="24746" y="9700"/>
                  <a:pt x="24780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00960" y="2340000"/>
            <a:ext cx="1393920" cy="723960"/>
          </a:xfrm>
          <a:custGeom>
            <a:avLst/>
            <a:gdLst/>
            <a:ahLst/>
            <a:rect l="l" t="t" r="r" b="b"/>
            <a:pathLst>
              <a:path w="3870" h="2010">
                <a:moveTo>
                  <a:pt x="24705" y="6499"/>
                </a:moveTo>
                <a:lnTo>
                  <a:pt x="24705" y="6499"/>
                </a:lnTo>
              </a:path>
              <a:path w="3870" h="2010">
                <a:moveTo>
                  <a:pt x="20836" y="8508"/>
                </a:moveTo>
                <a:lnTo>
                  <a:pt x="20836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77040" y="2214720"/>
            <a:ext cx="1859040" cy="947520"/>
          </a:xfrm>
          <a:custGeom>
            <a:avLst/>
            <a:gdLst/>
            <a:ahLst/>
            <a:rect l="l" t="t" r="r" b="b"/>
            <a:pathLst>
              <a:path w="5160" h="2630">
                <a:moveTo>
                  <a:pt x="23217" y="6945"/>
                </a:moveTo>
                <a:cubicBezTo>
                  <a:pt x="23287" y="6920"/>
                  <a:pt x="23369" y="6898"/>
                  <a:pt x="23440" y="6871"/>
                </a:cubicBezTo>
                <a:cubicBezTo>
                  <a:pt x="23476" y="6857"/>
                  <a:pt x="23529" y="6828"/>
                  <a:pt x="23564" y="6821"/>
                </a:cubicBezTo>
                <a:cubicBezTo>
                  <a:pt x="23635" y="6807"/>
                  <a:pt x="23640" y="6804"/>
                  <a:pt x="23688" y="6772"/>
                </a:cubicBezTo>
                <a:cubicBezTo>
                  <a:pt x="23723" y="6759"/>
                  <a:pt x="23780" y="6730"/>
                  <a:pt x="23812" y="6722"/>
                </a:cubicBezTo>
                <a:cubicBezTo>
                  <a:pt x="23859" y="6710"/>
                  <a:pt x="23888" y="6684"/>
                  <a:pt x="23937" y="6672"/>
                </a:cubicBezTo>
                <a:cubicBezTo>
                  <a:pt x="24019" y="6652"/>
                  <a:pt x="24010" y="6650"/>
                  <a:pt x="24061" y="6598"/>
                </a:cubicBezTo>
                <a:cubicBezTo>
                  <a:pt x="24088" y="6571"/>
                  <a:pt x="24149" y="6554"/>
                  <a:pt x="24185" y="6548"/>
                </a:cubicBezTo>
                <a:cubicBezTo>
                  <a:pt x="24221" y="6542"/>
                  <a:pt x="24256" y="6529"/>
                  <a:pt x="24284" y="6524"/>
                </a:cubicBezTo>
                <a:cubicBezTo>
                  <a:pt x="24335" y="6514"/>
                  <a:pt x="24365" y="6523"/>
                  <a:pt x="24408" y="6499"/>
                </a:cubicBezTo>
                <a:cubicBezTo>
                  <a:pt x="24430" y="6477"/>
                  <a:pt x="24435" y="6468"/>
                  <a:pt x="24457" y="6474"/>
                </a:cubicBezTo>
                <a:cubicBezTo>
                  <a:pt x="24476" y="6461"/>
                  <a:pt x="24518" y="6448"/>
                  <a:pt x="24557" y="6424"/>
                </a:cubicBezTo>
                <a:cubicBezTo>
                  <a:pt x="24579" y="6402"/>
                  <a:pt x="24584" y="6394"/>
                  <a:pt x="24606" y="6400"/>
                </a:cubicBezTo>
              </a:path>
              <a:path w="5160" h="2630">
                <a:moveTo>
                  <a:pt x="22597" y="7689"/>
                </a:moveTo>
                <a:cubicBezTo>
                  <a:pt x="22545" y="7689"/>
                  <a:pt x="22743" y="7636"/>
                  <a:pt x="22771" y="7615"/>
                </a:cubicBezTo>
                <a:cubicBezTo>
                  <a:pt x="22843" y="7562"/>
                  <a:pt x="22847" y="7534"/>
                  <a:pt x="22920" y="7516"/>
                </a:cubicBezTo>
              </a:path>
              <a:path w="5160" h="2630">
                <a:moveTo>
                  <a:pt x="22622" y="7466"/>
                </a:moveTo>
                <a:cubicBezTo>
                  <a:pt x="22718" y="7455"/>
                  <a:pt x="22803" y="7416"/>
                  <a:pt x="22895" y="7392"/>
                </a:cubicBezTo>
                <a:cubicBezTo>
                  <a:pt x="22903" y="7392"/>
                  <a:pt x="22912" y="7392"/>
                  <a:pt x="22920" y="7392"/>
                </a:cubicBezTo>
                <a:cubicBezTo>
                  <a:pt x="22920" y="7476"/>
                  <a:pt x="22940" y="7555"/>
                  <a:pt x="22944" y="7640"/>
                </a:cubicBezTo>
                <a:cubicBezTo>
                  <a:pt x="22944" y="7665"/>
                  <a:pt x="22944" y="7673"/>
                  <a:pt x="22944" y="7689"/>
                </a:cubicBezTo>
              </a:path>
              <a:path w="5160" h="2630">
                <a:moveTo>
                  <a:pt x="23143" y="7714"/>
                </a:moveTo>
                <a:cubicBezTo>
                  <a:pt x="23195" y="7693"/>
                  <a:pt x="23230" y="7652"/>
                  <a:pt x="23292" y="7640"/>
                </a:cubicBezTo>
                <a:cubicBezTo>
                  <a:pt x="23237" y="7605"/>
                  <a:pt x="23151" y="7533"/>
                  <a:pt x="23118" y="7565"/>
                </a:cubicBezTo>
                <a:cubicBezTo>
                  <a:pt x="23053" y="7629"/>
                  <a:pt x="23059" y="7767"/>
                  <a:pt x="23118" y="7838"/>
                </a:cubicBezTo>
                <a:cubicBezTo>
                  <a:pt x="23193" y="7928"/>
                  <a:pt x="23280" y="7870"/>
                  <a:pt x="23366" y="7838"/>
                </a:cubicBezTo>
                <a:cubicBezTo>
                  <a:pt x="23437" y="7814"/>
                  <a:pt x="23460" y="7807"/>
                  <a:pt x="23490" y="7764"/>
                </a:cubicBezTo>
              </a:path>
              <a:path w="5160" h="2630">
                <a:moveTo>
                  <a:pt x="23440" y="7491"/>
                </a:moveTo>
                <a:cubicBezTo>
                  <a:pt x="23523" y="7532"/>
                  <a:pt x="23560" y="7582"/>
                  <a:pt x="23664" y="7590"/>
                </a:cubicBezTo>
                <a:cubicBezTo>
                  <a:pt x="23672" y="7590"/>
                  <a:pt x="23680" y="7590"/>
                  <a:pt x="23688" y="7590"/>
                </a:cubicBezTo>
              </a:path>
              <a:path w="5160" h="2630">
                <a:moveTo>
                  <a:pt x="23540" y="7342"/>
                </a:moveTo>
                <a:cubicBezTo>
                  <a:pt x="23540" y="7436"/>
                  <a:pt x="23557" y="7522"/>
                  <a:pt x="23564" y="7615"/>
                </a:cubicBezTo>
                <a:cubicBezTo>
                  <a:pt x="23569" y="7683"/>
                  <a:pt x="23543" y="7783"/>
                  <a:pt x="23589" y="7813"/>
                </a:cubicBezTo>
              </a:path>
              <a:path w="5160" h="2630">
                <a:moveTo>
                  <a:pt x="23738" y="7466"/>
                </a:moveTo>
                <a:cubicBezTo>
                  <a:pt x="23757" y="7523"/>
                  <a:pt x="23800" y="7633"/>
                  <a:pt x="23837" y="7714"/>
                </a:cubicBezTo>
                <a:cubicBezTo>
                  <a:pt x="23868" y="7781"/>
                  <a:pt x="23860" y="7861"/>
                  <a:pt x="23912" y="7913"/>
                </a:cubicBezTo>
                <a:cubicBezTo>
                  <a:pt x="23920" y="7913"/>
                  <a:pt x="23929" y="7913"/>
                  <a:pt x="23937" y="7913"/>
                </a:cubicBezTo>
              </a:path>
              <a:path w="5160" h="2630">
                <a:moveTo>
                  <a:pt x="23639" y="7516"/>
                </a:moveTo>
                <a:cubicBezTo>
                  <a:pt x="23639" y="7454"/>
                  <a:pt x="23671" y="7407"/>
                  <a:pt x="23738" y="7392"/>
                </a:cubicBezTo>
                <a:cubicBezTo>
                  <a:pt x="23812" y="7392"/>
                  <a:pt x="23837" y="7392"/>
                  <a:pt x="23887" y="7392"/>
                </a:cubicBezTo>
                <a:cubicBezTo>
                  <a:pt x="23931" y="7495"/>
                  <a:pt x="23911" y="7535"/>
                  <a:pt x="23837" y="7615"/>
                </a:cubicBezTo>
                <a:cubicBezTo>
                  <a:pt x="23804" y="7651"/>
                  <a:pt x="23824" y="7652"/>
                  <a:pt x="23788" y="7665"/>
                </a:cubicBezTo>
              </a:path>
              <a:path w="5160" h="2630">
                <a:moveTo>
                  <a:pt x="23912" y="7317"/>
                </a:moveTo>
                <a:cubicBezTo>
                  <a:pt x="23962" y="7337"/>
                  <a:pt x="23994" y="7375"/>
                  <a:pt x="24036" y="7417"/>
                </a:cubicBezTo>
                <a:cubicBezTo>
                  <a:pt x="23970" y="7335"/>
                  <a:pt x="23996" y="7341"/>
                  <a:pt x="24011" y="7243"/>
                </a:cubicBezTo>
                <a:cubicBezTo>
                  <a:pt x="24024" y="7158"/>
                  <a:pt x="24017" y="7223"/>
                  <a:pt x="24036" y="7169"/>
                </a:cubicBezTo>
              </a:path>
              <a:path w="5160" h="2630">
                <a:moveTo>
                  <a:pt x="24061" y="7169"/>
                </a:moveTo>
                <a:cubicBezTo>
                  <a:pt x="24124" y="7169"/>
                  <a:pt x="24158" y="7161"/>
                  <a:pt x="24209" y="7144"/>
                </a:cubicBezTo>
                <a:cubicBezTo>
                  <a:pt x="24236" y="7135"/>
                  <a:pt x="24248" y="7087"/>
                  <a:pt x="24259" y="7045"/>
                </a:cubicBezTo>
                <a:cubicBezTo>
                  <a:pt x="24259" y="7037"/>
                  <a:pt x="24259" y="7028"/>
                  <a:pt x="24259" y="7020"/>
                </a:cubicBezTo>
                <a:cubicBezTo>
                  <a:pt x="24170" y="7020"/>
                  <a:pt x="24189" y="6999"/>
                  <a:pt x="24185" y="7119"/>
                </a:cubicBezTo>
                <a:cubicBezTo>
                  <a:pt x="24182" y="7201"/>
                  <a:pt x="24231" y="7293"/>
                  <a:pt x="24333" y="7293"/>
                </a:cubicBezTo>
                <a:cubicBezTo>
                  <a:pt x="24407" y="7293"/>
                  <a:pt x="24460" y="7224"/>
                  <a:pt x="24482" y="7169"/>
                </a:cubicBezTo>
              </a:path>
              <a:path w="5160" h="2630">
                <a:moveTo>
                  <a:pt x="24433" y="6871"/>
                </a:moveTo>
                <a:cubicBezTo>
                  <a:pt x="24404" y="6900"/>
                  <a:pt x="24392" y="6909"/>
                  <a:pt x="24383" y="6945"/>
                </a:cubicBezTo>
                <a:cubicBezTo>
                  <a:pt x="24443" y="6945"/>
                  <a:pt x="24481" y="6923"/>
                  <a:pt x="24532" y="6945"/>
                </a:cubicBezTo>
                <a:cubicBezTo>
                  <a:pt x="24677" y="7009"/>
                  <a:pt x="24517" y="7054"/>
                  <a:pt x="24482" y="7094"/>
                </a:cubicBezTo>
                <a:cubicBezTo>
                  <a:pt x="24482" y="7102"/>
                  <a:pt x="24482" y="7111"/>
                  <a:pt x="24482" y="7119"/>
                </a:cubicBezTo>
              </a:path>
              <a:path w="5160" h="2630">
                <a:moveTo>
                  <a:pt x="24606" y="6623"/>
                </a:moveTo>
                <a:cubicBezTo>
                  <a:pt x="24568" y="6693"/>
                  <a:pt x="24559" y="6725"/>
                  <a:pt x="24532" y="6796"/>
                </a:cubicBezTo>
                <a:cubicBezTo>
                  <a:pt x="24599" y="6796"/>
                  <a:pt x="24667" y="6759"/>
                  <a:pt x="24730" y="6772"/>
                </a:cubicBezTo>
                <a:cubicBezTo>
                  <a:pt x="24849" y="6796"/>
                  <a:pt x="24789" y="6917"/>
                  <a:pt x="24730" y="6970"/>
                </a:cubicBezTo>
                <a:cubicBezTo>
                  <a:pt x="24722" y="6970"/>
                  <a:pt x="24713" y="6970"/>
                  <a:pt x="24705" y="6970"/>
                </a:cubicBezTo>
              </a:path>
              <a:path w="5160" h="2630">
                <a:moveTo>
                  <a:pt x="24780" y="6548"/>
                </a:moveTo>
                <a:cubicBezTo>
                  <a:pt x="24837" y="6620"/>
                  <a:pt x="24873" y="6701"/>
                  <a:pt x="24929" y="6772"/>
                </a:cubicBezTo>
              </a:path>
              <a:path w="5160" h="2630">
                <a:moveTo>
                  <a:pt x="24954" y="6449"/>
                </a:moveTo>
                <a:cubicBezTo>
                  <a:pt x="24954" y="6516"/>
                  <a:pt x="24964" y="6566"/>
                  <a:pt x="25003" y="6623"/>
                </a:cubicBezTo>
                <a:cubicBezTo>
                  <a:pt x="25077" y="6730"/>
                  <a:pt x="25165" y="6578"/>
                  <a:pt x="25202" y="6524"/>
                </a:cubicBezTo>
                <a:cubicBezTo>
                  <a:pt x="25143" y="6489"/>
                  <a:pt x="25083" y="6461"/>
                  <a:pt x="25028" y="6424"/>
                </a:cubicBezTo>
              </a:path>
              <a:path w="5160" h="2630">
                <a:moveTo>
                  <a:pt x="25226" y="6400"/>
                </a:moveTo>
                <a:cubicBezTo>
                  <a:pt x="25267" y="6441"/>
                  <a:pt x="25289" y="6451"/>
                  <a:pt x="25301" y="6499"/>
                </a:cubicBezTo>
                <a:cubicBezTo>
                  <a:pt x="25301" y="6415"/>
                  <a:pt x="25244" y="6357"/>
                  <a:pt x="25226" y="6276"/>
                </a:cubicBezTo>
                <a:cubicBezTo>
                  <a:pt x="25209" y="6200"/>
                  <a:pt x="25357" y="6076"/>
                  <a:pt x="25375" y="6152"/>
                </a:cubicBezTo>
                <a:cubicBezTo>
                  <a:pt x="25375" y="6235"/>
                  <a:pt x="25375" y="6317"/>
                  <a:pt x="25375" y="6400"/>
                </a:cubicBezTo>
              </a:path>
              <a:path w="5160" h="2630">
                <a:moveTo>
                  <a:pt x="20241" y="8632"/>
                </a:moveTo>
                <a:cubicBezTo>
                  <a:pt x="20304" y="8616"/>
                  <a:pt x="20383" y="8576"/>
                  <a:pt x="20439" y="8533"/>
                </a:cubicBezTo>
                <a:cubicBezTo>
                  <a:pt x="20478" y="8494"/>
                  <a:pt x="20479" y="8477"/>
                  <a:pt x="20513" y="8483"/>
                </a:cubicBezTo>
                <a:cubicBezTo>
                  <a:pt x="20468" y="8466"/>
                  <a:pt x="20368" y="8408"/>
                  <a:pt x="20315" y="8434"/>
                </a:cubicBezTo>
                <a:cubicBezTo>
                  <a:pt x="20178" y="8502"/>
                  <a:pt x="20208" y="8608"/>
                  <a:pt x="20265" y="8706"/>
                </a:cubicBezTo>
                <a:cubicBezTo>
                  <a:pt x="20329" y="8817"/>
                  <a:pt x="20462" y="8795"/>
                  <a:pt x="20563" y="8731"/>
                </a:cubicBezTo>
                <a:cubicBezTo>
                  <a:pt x="20641" y="8682"/>
                  <a:pt x="20652" y="8654"/>
                  <a:pt x="20662" y="8582"/>
                </a:cubicBezTo>
              </a:path>
              <a:path w="5160" h="2630">
                <a:moveTo>
                  <a:pt x="20538" y="8409"/>
                </a:moveTo>
                <a:cubicBezTo>
                  <a:pt x="20590" y="8428"/>
                  <a:pt x="20752" y="8538"/>
                  <a:pt x="20811" y="8533"/>
                </a:cubicBezTo>
                <a:cubicBezTo>
                  <a:pt x="20819" y="8525"/>
                  <a:pt x="20828" y="8516"/>
                  <a:pt x="20836" y="8508"/>
                </a:cubicBezTo>
              </a:path>
              <a:path w="5160" h="2630">
                <a:moveTo>
                  <a:pt x="20836" y="8483"/>
                </a:moveTo>
                <a:cubicBezTo>
                  <a:pt x="20813" y="8438"/>
                  <a:pt x="20765" y="8381"/>
                  <a:pt x="20762" y="8334"/>
                </a:cubicBezTo>
                <a:cubicBezTo>
                  <a:pt x="20762" y="8293"/>
                  <a:pt x="20762" y="8285"/>
                  <a:pt x="20762" y="8260"/>
                </a:cubicBezTo>
              </a:path>
              <a:path w="5160" h="2630">
                <a:moveTo>
                  <a:pt x="21158" y="8136"/>
                </a:moveTo>
                <a:cubicBezTo>
                  <a:pt x="21076" y="8136"/>
                  <a:pt x="21034" y="8155"/>
                  <a:pt x="21034" y="8260"/>
                </a:cubicBezTo>
                <a:cubicBezTo>
                  <a:pt x="21034" y="8370"/>
                  <a:pt x="21077" y="8389"/>
                  <a:pt x="21158" y="8409"/>
                </a:cubicBezTo>
                <a:cubicBezTo>
                  <a:pt x="21206" y="8290"/>
                  <a:pt x="21195" y="8272"/>
                  <a:pt x="21158" y="8161"/>
                </a:cubicBezTo>
                <a:cubicBezTo>
                  <a:pt x="21158" y="8237"/>
                  <a:pt x="21214" y="8276"/>
                  <a:pt x="21282" y="8310"/>
                </a:cubicBezTo>
                <a:cubicBezTo>
                  <a:pt x="21343" y="8330"/>
                  <a:pt x="21357" y="8348"/>
                  <a:pt x="21382" y="8310"/>
                </a:cubicBezTo>
              </a:path>
              <a:path w="5160" h="2630">
                <a:moveTo>
                  <a:pt x="21134" y="7838"/>
                </a:moveTo>
                <a:cubicBezTo>
                  <a:pt x="21239" y="7955"/>
                  <a:pt x="21368" y="8081"/>
                  <a:pt x="21456" y="8210"/>
                </a:cubicBezTo>
                <a:cubicBezTo>
                  <a:pt x="21456" y="8235"/>
                  <a:pt x="21456" y="8243"/>
                  <a:pt x="21481" y="8235"/>
                </a:cubicBezTo>
              </a:path>
              <a:path w="5160" h="2630">
                <a:moveTo>
                  <a:pt x="21481" y="8012"/>
                </a:moveTo>
                <a:cubicBezTo>
                  <a:pt x="21497" y="8093"/>
                  <a:pt x="21513" y="8163"/>
                  <a:pt x="21580" y="8210"/>
                </a:cubicBezTo>
                <a:cubicBezTo>
                  <a:pt x="21597" y="8218"/>
                  <a:pt x="21613" y="8227"/>
                  <a:pt x="21630" y="8235"/>
                </a:cubicBezTo>
                <a:cubicBezTo>
                  <a:pt x="21702" y="8132"/>
                  <a:pt x="21722" y="8076"/>
                  <a:pt x="21654" y="7962"/>
                </a:cubicBezTo>
                <a:cubicBezTo>
                  <a:pt x="21646" y="7954"/>
                  <a:pt x="21638" y="7946"/>
                  <a:pt x="21630" y="7938"/>
                </a:cubicBezTo>
                <a:cubicBezTo>
                  <a:pt x="21670" y="8003"/>
                  <a:pt x="21795" y="8103"/>
                  <a:pt x="21878" y="8136"/>
                </a:cubicBezTo>
                <a:cubicBezTo>
                  <a:pt x="21894" y="8136"/>
                  <a:pt x="21911" y="8136"/>
                  <a:pt x="21927" y="8136"/>
                </a:cubicBezTo>
              </a:path>
              <a:path w="5160" h="2630">
                <a:moveTo>
                  <a:pt x="21977" y="7838"/>
                </a:moveTo>
                <a:cubicBezTo>
                  <a:pt x="21969" y="7830"/>
                  <a:pt x="21960" y="7821"/>
                  <a:pt x="21952" y="7813"/>
                </a:cubicBezTo>
                <a:cubicBezTo>
                  <a:pt x="21874" y="7813"/>
                  <a:pt x="21828" y="7912"/>
                  <a:pt x="21828" y="7987"/>
                </a:cubicBezTo>
                <a:cubicBezTo>
                  <a:pt x="21828" y="8105"/>
                  <a:pt x="21996" y="8064"/>
                  <a:pt x="22027" y="7987"/>
                </a:cubicBezTo>
                <a:cubicBezTo>
                  <a:pt x="22035" y="7954"/>
                  <a:pt x="22043" y="7921"/>
                  <a:pt x="22051" y="7888"/>
                </a:cubicBezTo>
                <a:cubicBezTo>
                  <a:pt x="21983" y="7912"/>
                  <a:pt x="22094" y="7980"/>
                  <a:pt x="22126" y="8012"/>
                </a:cubicBezTo>
              </a:path>
              <a:path w="5160" h="2630">
                <a:moveTo>
                  <a:pt x="21952" y="7541"/>
                </a:moveTo>
                <a:cubicBezTo>
                  <a:pt x="22039" y="7664"/>
                  <a:pt x="22184" y="7780"/>
                  <a:pt x="22250" y="7913"/>
                </a:cubicBezTo>
                <a:cubicBezTo>
                  <a:pt x="22250" y="7921"/>
                  <a:pt x="22250" y="7930"/>
                  <a:pt x="22250" y="7938"/>
                </a:cubicBezTo>
              </a:path>
              <a:path w="5160" h="2630">
                <a:moveTo>
                  <a:pt x="22002" y="7813"/>
                </a:moveTo>
                <a:cubicBezTo>
                  <a:pt x="22090" y="7769"/>
                  <a:pt x="22173" y="7729"/>
                  <a:pt x="22275" y="7689"/>
                </a:cubicBezTo>
                <a:cubicBezTo>
                  <a:pt x="22291" y="7681"/>
                  <a:pt x="22308" y="7673"/>
                  <a:pt x="22324" y="7665"/>
                </a:cubicBezTo>
              </a:path>
              <a:path w="5160" h="2630">
                <a:moveTo>
                  <a:pt x="22374" y="7689"/>
                </a:moveTo>
                <a:cubicBezTo>
                  <a:pt x="22419" y="7689"/>
                  <a:pt x="22442" y="7691"/>
                  <a:pt x="22448" y="7640"/>
                </a:cubicBezTo>
                <a:cubicBezTo>
                  <a:pt x="22456" y="7567"/>
                  <a:pt x="22411" y="7570"/>
                  <a:pt x="22349" y="7565"/>
                </a:cubicBezTo>
                <a:cubicBezTo>
                  <a:pt x="22291" y="7561"/>
                  <a:pt x="22265" y="7641"/>
                  <a:pt x="22275" y="7689"/>
                </a:cubicBezTo>
                <a:cubicBezTo>
                  <a:pt x="22287" y="7745"/>
                  <a:pt x="22356" y="7863"/>
                  <a:pt x="22423" y="7863"/>
                </a:cubicBezTo>
                <a:cubicBezTo>
                  <a:pt x="22492" y="7863"/>
                  <a:pt x="22562" y="7803"/>
                  <a:pt x="22622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3857760"/>
            <a:ext cx="2946240" cy="465120"/>
          </a:xfrm>
          <a:custGeom>
            <a:avLst/>
            <a:gdLst/>
            <a:ahLst/>
            <a:rect l="l" t="t" r="r" b="b"/>
            <a:pathLst>
              <a:path w="8186" h="1290">
                <a:moveTo>
                  <a:pt x="2084" y="10765"/>
                </a:moveTo>
                <a:cubicBezTo>
                  <a:pt x="2145" y="10832"/>
                  <a:pt x="2105" y="10869"/>
                  <a:pt x="2183" y="10914"/>
                </a:cubicBezTo>
                <a:cubicBezTo>
                  <a:pt x="2354" y="11012"/>
                  <a:pt x="2406" y="10894"/>
                  <a:pt x="2530" y="10790"/>
                </a:cubicBezTo>
                <a:cubicBezTo>
                  <a:pt x="2547" y="10765"/>
                  <a:pt x="2563" y="10741"/>
                  <a:pt x="2580" y="10716"/>
                </a:cubicBezTo>
                <a:cubicBezTo>
                  <a:pt x="2638" y="10752"/>
                  <a:pt x="2659" y="10878"/>
                  <a:pt x="2778" y="10840"/>
                </a:cubicBezTo>
                <a:cubicBezTo>
                  <a:pt x="2857" y="10787"/>
                  <a:pt x="2885" y="10767"/>
                  <a:pt x="2927" y="10716"/>
                </a:cubicBezTo>
                <a:cubicBezTo>
                  <a:pt x="3047" y="10842"/>
                  <a:pt x="3041" y="10887"/>
                  <a:pt x="3225" y="10939"/>
                </a:cubicBezTo>
                <a:cubicBezTo>
                  <a:pt x="3410" y="10991"/>
                  <a:pt x="3424" y="10863"/>
                  <a:pt x="3522" y="10790"/>
                </a:cubicBezTo>
                <a:cubicBezTo>
                  <a:pt x="3565" y="10872"/>
                  <a:pt x="3558" y="11068"/>
                  <a:pt x="3671" y="11088"/>
                </a:cubicBezTo>
                <a:cubicBezTo>
                  <a:pt x="3800" y="11111"/>
                  <a:pt x="3903" y="10872"/>
                  <a:pt x="3994" y="10889"/>
                </a:cubicBezTo>
                <a:cubicBezTo>
                  <a:pt x="4101" y="10908"/>
                  <a:pt x="4161" y="11022"/>
                  <a:pt x="4266" y="11063"/>
                </a:cubicBezTo>
                <a:cubicBezTo>
                  <a:pt x="4494" y="11153"/>
                  <a:pt x="4635" y="11001"/>
                  <a:pt x="4787" y="10864"/>
                </a:cubicBezTo>
                <a:cubicBezTo>
                  <a:pt x="4826" y="10945"/>
                  <a:pt x="4726" y="11115"/>
                  <a:pt x="4911" y="11088"/>
                </a:cubicBezTo>
                <a:cubicBezTo>
                  <a:pt x="5013" y="11073"/>
                  <a:pt x="5105" y="10958"/>
                  <a:pt x="5184" y="10914"/>
                </a:cubicBezTo>
                <a:cubicBezTo>
                  <a:pt x="5286" y="10963"/>
                  <a:pt x="5278" y="11087"/>
                  <a:pt x="5457" y="11063"/>
                </a:cubicBezTo>
                <a:cubicBezTo>
                  <a:pt x="5558" y="11049"/>
                  <a:pt x="5660" y="10904"/>
                  <a:pt x="5730" y="10840"/>
                </a:cubicBezTo>
                <a:cubicBezTo>
                  <a:pt x="5813" y="10912"/>
                  <a:pt x="5865" y="11035"/>
                  <a:pt x="6003" y="11038"/>
                </a:cubicBezTo>
                <a:cubicBezTo>
                  <a:pt x="6166" y="11041"/>
                  <a:pt x="6362" y="10868"/>
                  <a:pt x="6499" y="10790"/>
                </a:cubicBezTo>
                <a:cubicBezTo>
                  <a:pt x="6596" y="10944"/>
                  <a:pt x="6503" y="11032"/>
                  <a:pt x="6747" y="10988"/>
                </a:cubicBezTo>
                <a:cubicBezTo>
                  <a:pt x="6795" y="10979"/>
                  <a:pt x="6949" y="10848"/>
                  <a:pt x="6995" y="10815"/>
                </a:cubicBezTo>
                <a:cubicBezTo>
                  <a:pt x="7087" y="10903"/>
                  <a:pt x="7063" y="10997"/>
                  <a:pt x="7218" y="11038"/>
                </a:cubicBezTo>
                <a:cubicBezTo>
                  <a:pt x="7388" y="11083"/>
                  <a:pt x="7533" y="10907"/>
                  <a:pt x="7640" y="10815"/>
                </a:cubicBezTo>
                <a:cubicBezTo>
                  <a:pt x="7691" y="10864"/>
                  <a:pt x="7726" y="11024"/>
                  <a:pt x="7838" y="11013"/>
                </a:cubicBezTo>
                <a:cubicBezTo>
                  <a:pt x="7988" y="10998"/>
                  <a:pt x="8132" y="10866"/>
                  <a:pt x="8260" y="10790"/>
                </a:cubicBezTo>
                <a:cubicBezTo>
                  <a:pt x="8412" y="10928"/>
                  <a:pt x="8350" y="10968"/>
                  <a:pt x="8582" y="10964"/>
                </a:cubicBezTo>
                <a:cubicBezTo>
                  <a:pt x="8665" y="10962"/>
                  <a:pt x="8763" y="10877"/>
                  <a:pt x="8830" y="10840"/>
                </a:cubicBezTo>
                <a:cubicBezTo>
                  <a:pt x="8882" y="10907"/>
                  <a:pt x="8809" y="11026"/>
                  <a:pt x="8979" y="11013"/>
                </a:cubicBezTo>
                <a:cubicBezTo>
                  <a:pt x="9106" y="11003"/>
                  <a:pt x="9221" y="10897"/>
                  <a:pt x="9302" y="10840"/>
                </a:cubicBezTo>
                <a:cubicBezTo>
                  <a:pt x="9333" y="10869"/>
                  <a:pt x="9301" y="10966"/>
                  <a:pt x="9351" y="10964"/>
                </a:cubicBezTo>
                <a:cubicBezTo>
                  <a:pt x="9453" y="10960"/>
                  <a:pt x="9633" y="10802"/>
                  <a:pt x="9699" y="10815"/>
                </a:cubicBezTo>
                <a:cubicBezTo>
                  <a:pt x="9756" y="10826"/>
                  <a:pt x="9789" y="10933"/>
                  <a:pt x="9897" y="10939"/>
                </a:cubicBezTo>
                <a:cubicBezTo>
                  <a:pt x="10069" y="10948"/>
                  <a:pt x="10142" y="10838"/>
                  <a:pt x="10269" y="10765"/>
                </a:cubicBezTo>
              </a:path>
              <a:path w="8186" h="1290">
                <a:moveTo>
                  <a:pt x="6921" y="11981"/>
                </a:moveTo>
                <a:cubicBezTo>
                  <a:pt x="6931" y="11948"/>
                  <a:pt x="7023" y="11936"/>
                  <a:pt x="7069" y="11931"/>
                </a:cubicBezTo>
                <a:cubicBezTo>
                  <a:pt x="7186" y="11917"/>
                  <a:pt x="7297" y="11906"/>
                  <a:pt x="7417" y="11906"/>
                </a:cubicBezTo>
                <a:cubicBezTo>
                  <a:pt x="7522" y="11906"/>
                  <a:pt x="7613" y="11896"/>
                  <a:pt x="7714" y="11881"/>
                </a:cubicBezTo>
                <a:cubicBezTo>
                  <a:pt x="7825" y="11865"/>
                  <a:pt x="7949" y="11881"/>
                  <a:pt x="8062" y="11881"/>
                </a:cubicBezTo>
                <a:cubicBezTo>
                  <a:pt x="7978" y="11898"/>
                  <a:pt x="7903" y="11906"/>
                  <a:pt x="7813" y="11906"/>
                </a:cubicBezTo>
                <a:cubicBezTo>
                  <a:pt x="7729" y="11906"/>
                  <a:pt x="7618" y="11902"/>
                  <a:pt x="7541" y="11931"/>
                </a:cubicBezTo>
                <a:cubicBezTo>
                  <a:pt x="7482" y="11953"/>
                  <a:pt x="7402" y="11933"/>
                  <a:pt x="7342" y="11956"/>
                </a:cubicBezTo>
                <a:cubicBezTo>
                  <a:pt x="7278" y="11981"/>
                  <a:pt x="7212" y="11963"/>
                  <a:pt x="7144" y="11981"/>
                </a:cubicBezTo>
                <a:cubicBezTo>
                  <a:pt x="7091" y="11995"/>
                  <a:pt x="7074" y="12005"/>
                  <a:pt x="7020" y="12005"/>
                </a:cubicBezTo>
                <a:cubicBezTo>
                  <a:pt x="6973" y="12005"/>
                  <a:pt x="6970" y="12001"/>
                  <a:pt x="6921" y="11981"/>
                </a:cubicBezTo>
                <a:cubicBezTo>
                  <a:pt x="6846" y="11943"/>
                  <a:pt x="7062" y="11956"/>
                  <a:pt x="7069" y="11956"/>
                </a:cubicBezTo>
                <a:cubicBezTo>
                  <a:pt x="7176" y="11956"/>
                  <a:pt x="7267" y="11965"/>
                  <a:pt x="7367" y="11981"/>
                </a:cubicBezTo>
                <a:cubicBezTo>
                  <a:pt x="7519" y="12005"/>
                  <a:pt x="7694" y="11979"/>
                  <a:pt x="7838" y="11956"/>
                </a:cubicBezTo>
                <a:cubicBezTo>
                  <a:pt x="7903" y="11946"/>
                  <a:pt x="7956" y="11948"/>
                  <a:pt x="8012" y="11931"/>
                </a:cubicBezTo>
                <a:cubicBezTo>
                  <a:pt x="8037" y="11931"/>
                  <a:pt x="8045" y="11931"/>
                  <a:pt x="8062" y="11931"/>
                </a:cubicBezTo>
                <a:cubicBezTo>
                  <a:pt x="8041" y="11950"/>
                  <a:pt x="7840" y="11956"/>
                  <a:pt x="7739" y="11956"/>
                </a:cubicBezTo>
                <a:cubicBezTo>
                  <a:pt x="7473" y="11956"/>
                  <a:pt x="7144" y="11919"/>
                  <a:pt x="6896" y="11981"/>
                </a:cubicBezTo>
                <a:cubicBezTo>
                  <a:pt x="6888" y="11981"/>
                  <a:pt x="6879" y="11981"/>
                  <a:pt x="6871" y="11981"/>
                </a:cubicBezTo>
                <a:cubicBezTo>
                  <a:pt x="7063" y="11981"/>
                  <a:pt x="7251" y="11987"/>
                  <a:pt x="7441" y="11956"/>
                </a:cubicBezTo>
                <a:cubicBezTo>
                  <a:pt x="7582" y="11933"/>
                  <a:pt x="7724" y="11953"/>
                  <a:pt x="7863" y="11931"/>
                </a:cubicBezTo>
                <a:cubicBezTo>
                  <a:pt x="7919" y="11922"/>
                  <a:pt x="8037" y="11924"/>
                  <a:pt x="8086" y="11906"/>
                </a:cubicBezTo>
                <a:cubicBezTo>
                  <a:pt x="8114" y="11878"/>
                  <a:pt x="8128" y="11869"/>
                  <a:pt x="8161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62760" y="4010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42" y="11137"/>
                </a:moveTo>
                <a:lnTo>
                  <a:pt x="16842" y="111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1000" y="3911760"/>
            <a:ext cx="2144880" cy="490320"/>
          </a:xfrm>
          <a:custGeom>
            <a:avLst/>
            <a:gdLst/>
            <a:ahLst/>
            <a:rect l="l" t="t" r="r" b="b"/>
            <a:pathLst>
              <a:path w="5954" h="1366">
                <a:moveTo>
                  <a:pt x="12551" y="12005"/>
                </a:moveTo>
                <a:cubicBezTo>
                  <a:pt x="12598" y="12005"/>
                  <a:pt x="12630" y="12027"/>
                  <a:pt x="12675" y="12030"/>
                </a:cubicBezTo>
                <a:cubicBezTo>
                  <a:pt x="12867" y="12043"/>
                  <a:pt x="13061" y="12012"/>
                  <a:pt x="13246" y="12055"/>
                </a:cubicBezTo>
                <a:cubicBezTo>
                  <a:pt x="13355" y="12080"/>
                  <a:pt x="13505" y="12055"/>
                  <a:pt x="13618" y="12055"/>
                </a:cubicBezTo>
                <a:cubicBezTo>
                  <a:pt x="13562" y="12097"/>
                  <a:pt x="13492" y="12080"/>
                  <a:pt x="13419" y="12080"/>
                </a:cubicBezTo>
                <a:cubicBezTo>
                  <a:pt x="13329" y="12080"/>
                  <a:pt x="13301" y="12075"/>
                  <a:pt x="13221" y="12080"/>
                </a:cubicBezTo>
                <a:cubicBezTo>
                  <a:pt x="13125" y="12086"/>
                  <a:pt x="13042" y="12116"/>
                  <a:pt x="12948" y="12129"/>
                </a:cubicBezTo>
                <a:cubicBezTo>
                  <a:pt x="12861" y="12141"/>
                  <a:pt x="12761" y="12134"/>
                  <a:pt x="12675" y="12154"/>
                </a:cubicBezTo>
                <a:cubicBezTo>
                  <a:pt x="12623" y="12166"/>
                  <a:pt x="12606" y="12179"/>
                  <a:pt x="12551" y="12179"/>
                </a:cubicBezTo>
                <a:cubicBezTo>
                  <a:pt x="12518" y="12179"/>
                  <a:pt x="12502" y="12179"/>
                  <a:pt x="12477" y="12179"/>
                </a:cubicBezTo>
                <a:cubicBezTo>
                  <a:pt x="12558" y="12199"/>
                  <a:pt x="12627" y="12240"/>
                  <a:pt x="12725" y="12229"/>
                </a:cubicBezTo>
                <a:cubicBezTo>
                  <a:pt x="12835" y="12217"/>
                  <a:pt x="12964" y="12202"/>
                  <a:pt x="13072" y="12179"/>
                </a:cubicBezTo>
                <a:cubicBezTo>
                  <a:pt x="13133" y="12166"/>
                  <a:pt x="13261" y="12122"/>
                  <a:pt x="13320" y="12129"/>
                </a:cubicBezTo>
                <a:cubicBezTo>
                  <a:pt x="13367" y="12135"/>
                  <a:pt x="13394" y="12154"/>
                  <a:pt x="13444" y="12154"/>
                </a:cubicBezTo>
                <a:cubicBezTo>
                  <a:pt x="13452" y="12154"/>
                  <a:pt x="13461" y="12154"/>
                  <a:pt x="13469" y="12154"/>
                </a:cubicBezTo>
              </a:path>
              <a:path w="5954" h="1366">
                <a:moveTo>
                  <a:pt x="14039" y="11385"/>
                </a:moveTo>
                <a:cubicBezTo>
                  <a:pt x="14065" y="11463"/>
                  <a:pt x="14242" y="11372"/>
                  <a:pt x="14288" y="11361"/>
                </a:cubicBezTo>
                <a:cubicBezTo>
                  <a:pt x="14366" y="11342"/>
                  <a:pt x="14396" y="11336"/>
                  <a:pt x="14461" y="11336"/>
                </a:cubicBezTo>
              </a:path>
              <a:path w="5954" h="1366">
                <a:moveTo>
                  <a:pt x="15280" y="11361"/>
                </a:moveTo>
                <a:cubicBezTo>
                  <a:pt x="15177" y="11361"/>
                  <a:pt x="15158" y="11284"/>
                  <a:pt x="15032" y="11311"/>
                </a:cubicBezTo>
                <a:cubicBezTo>
                  <a:pt x="14799" y="11360"/>
                  <a:pt x="14877" y="11651"/>
                  <a:pt x="14932" y="11782"/>
                </a:cubicBezTo>
                <a:cubicBezTo>
                  <a:pt x="15183" y="11716"/>
                  <a:pt x="15161" y="11687"/>
                  <a:pt x="15280" y="11435"/>
                </a:cubicBezTo>
              </a:path>
              <a:path w="5954" h="1366">
                <a:moveTo>
                  <a:pt x="15156" y="10964"/>
                </a:moveTo>
                <a:cubicBezTo>
                  <a:pt x="15186" y="11115"/>
                  <a:pt x="15287" y="11259"/>
                  <a:pt x="15329" y="11410"/>
                </a:cubicBezTo>
                <a:cubicBezTo>
                  <a:pt x="15360" y="11523"/>
                  <a:pt x="15326" y="11637"/>
                  <a:pt x="15404" y="11559"/>
                </a:cubicBezTo>
              </a:path>
              <a:path w="5954" h="1366">
                <a:moveTo>
                  <a:pt x="15528" y="11212"/>
                </a:moveTo>
                <a:cubicBezTo>
                  <a:pt x="15398" y="11358"/>
                  <a:pt x="15421" y="11476"/>
                  <a:pt x="15478" y="11658"/>
                </a:cubicBezTo>
                <a:cubicBezTo>
                  <a:pt x="15586" y="11633"/>
                  <a:pt x="15876" y="11515"/>
                  <a:pt x="15726" y="11336"/>
                </a:cubicBezTo>
                <a:cubicBezTo>
                  <a:pt x="15637" y="11291"/>
                  <a:pt x="15614" y="11278"/>
                  <a:pt x="15553" y="11261"/>
                </a:cubicBezTo>
              </a:path>
              <a:path w="5954" h="1366">
                <a:moveTo>
                  <a:pt x="16768" y="11162"/>
                </a:moveTo>
                <a:cubicBezTo>
                  <a:pt x="16758" y="11035"/>
                  <a:pt x="16758" y="10929"/>
                  <a:pt x="16619" y="10889"/>
                </a:cubicBezTo>
                <a:cubicBezTo>
                  <a:pt x="16450" y="10840"/>
                  <a:pt x="16535" y="11214"/>
                  <a:pt x="16545" y="11261"/>
                </a:cubicBezTo>
                <a:cubicBezTo>
                  <a:pt x="16578" y="11418"/>
                  <a:pt x="16672" y="11528"/>
                  <a:pt x="16694" y="11683"/>
                </a:cubicBezTo>
              </a:path>
              <a:path w="5954" h="1366">
                <a:moveTo>
                  <a:pt x="16346" y="11485"/>
                </a:moveTo>
                <a:cubicBezTo>
                  <a:pt x="16465" y="11449"/>
                  <a:pt x="16824" y="11290"/>
                  <a:pt x="16942" y="11385"/>
                </a:cubicBezTo>
                <a:cubicBezTo>
                  <a:pt x="17009" y="11439"/>
                  <a:pt x="17037" y="11603"/>
                  <a:pt x="17066" y="11683"/>
                </a:cubicBezTo>
              </a:path>
              <a:path w="5954" h="1366">
                <a:moveTo>
                  <a:pt x="17214" y="11460"/>
                </a:moveTo>
                <a:cubicBezTo>
                  <a:pt x="17251" y="11533"/>
                  <a:pt x="17239" y="11566"/>
                  <a:pt x="17289" y="11559"/>
                </a:cubicBezTo>
                <a:cubicBezTo>
                  <a:pt x="17251" y="11474"/>
                  <a:pt x="17204" y="11377"/>
                  <a:pt x="17264" y="11286"/>
                </a:cubicBezTo>
                <a:cubicBezTo>
                  <a:pt x="17322" y="11198"/>
                  <a:pt x="17334" y="11212"/>
                  <a:pt x="17413" y="11212"/>
                </a:cubicBezTo>
              </a:path>
              <a:path w="5954" h="1366">
                <a:moveTo>
                  <a:pt x="17711" y="11162"/>
                </a:moveTo>
                <a:cubicBezTo>
                  <a:pt x="17664" y="11178"/>
                  <a:pt x="17533" y="11235"/>
                  <a:pt x="17587" y="11261"/>
                </a:cubicBezTo>
                <a:cubicBezTo>
                  <a:pt x="17691" y="11276"/>
                  <a:pt x="17898" y="11218"/>
                  <a:pt x="17909" y="11385"/>
                </a:cubicBezTo>
                <a:cubicBezTo>
                  <a:pt x="17921" y="11567"/>
                  <a:pt x="17706" y="11565"/>
                  <a:pt x="17587" y="11534"/>
                </a:cubicBezTo>
                <a:cubicBezTo>
                  <a:pt x="17570" y="11526"/>
                  <a:pt x="17554" y="11517"/>
                  <a:pt x="17537" y="11509"/>
                </a:cubicBezTo>
              </a:path>
              <a:path w="5954" h="1366">
                <a:moveTo>
                  <a:pt x="18033" y="10864"/>
                </a:moveTo>
                <a:cubicBezTo>
                  <a:pt x="18104" y="11058"/>
                  <a:pt x="18181" y="11243"/>
                  <a:pt x="18256" y="11435"/>
                </a:cubicBezTo>
                <a:cubicBezTo>
                  <a:pt x="18264" y="11460"/>
                  <a:pt x="18273" y="11484"/>
                  <a:pt x="18281" y="11509"/>
                </a:cubicBezTo>
              </a:path>
              <a:path w="5954" h="1366">
                <a:moveTo>
                  <a:pt x="17909" y="11237"/>
                </a:moveTo>
                <a:cubicBezTo>
                  <a:pt x="18073" y="11207"/>
                  <a:pt x="18239" y="11172"/>
                  <a:pt x="18405" y="11162"/>
                </a:cubicBezTo>
                <a:cubicBezTo>
                  <a:pt x="18413" y="11162"/>
                  <a:pt x="18422" y="11162"/>
                  <a:pt x="1843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about what’s wrong with the following situation…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26000" y="3160800"/>
            <a:ext cx="2616120" cy="2189160"/>
          </a:xfrm>
          <a:custGeom>
            <a:avLst/>
            <a:gdLst/>
            <a:ahLst/>
            <a:rect l="l" t="t" r="r" b="b"/>
            <a:pathLst>
              <a:path w="7269" h="6078">
                <a:moveTo>
                  <a:pt x="14337" y="13767"/>
                </a:moveTo>
                <a:cubicBezTo>
                  <a:pt x="14312" y="13767"/>
                  <a:pt x="14304" y="13767"/>
                  <a:pt x="14312" y="13791"/>
                </a:cubicBezTo>
              </a:path>
              <a:path w="7269" h="6078">
                <a:moveTo>
                  <a:pt x="14759" y="14560"/>
                </a:moveTo>
                <a:cubicBezTo>
                  <a:pt x="14779" y="14675"/>
                  <a:pt x="14784" y="14744"/>
                  <a:pt x="14759" y="14858"/>
                </a:cubicBezTo>
              </a:path>
              <a:path w="7269" h="6078">
                <a:moveTo>
                  <a:pt x="16297" y="13866"/>
                </a:moveTo>
                <a:cubicBezTo>
                  <a:pt x="16366" y="14024"/>
                  <a:pt x="16345" y="14193"/>
                  <a:pt x="16371" y="14362"/>
                </a:cubicBezTo>
                <a:cubicBezTo>
                  <a:pt x="16390" y="14419"/>
                  <a:pt x="16399" y="14426"/>
                  <a:pt x="16396" y="14461"/>
                </a:cubicBezTo>
              </a:path>
              <a:path w="7269" h="6078">
                <a:moveTo>
                  <a:pt x="12849" y="8880"/>
                </a:moveTo>
                <a:cubicBezTo>
                  <a:pt x="12988" y="8949"/>
                  <a:pt x="13116" y="9225"/>
                  <a:pt x="13146" y="9376"/>
                </a:cubicBezTo>
                <a:cubicBezTo>
                  <a:pt x="13200" y="9646"/>
                  <a:pt x="13081" y="9928"/>
                  <a:pt x="12898" y="10120"/>
                </a:cubicBezTo>
                <a:cubicBezTo>
                  <a:pt x="12890" y="10120"/>
                  <a:pt x="12882" y="10120"/>
                  <a:pt x="12874" y="10120"/>
                </a:cubicBezTo>
              </a:path>
              <a:path w="7269" h="6078">
                <a:moveTo>
                  <a:pt x="19075" y="8855"/>
                </a:moveTo>
                <a:cubicBezTo>
                  <a:pt x="19252" y="8819"/>
                  <a:pt x="19416" y="8802"/>
                  <a:pt x="19596" y="8781"/>
                </a:cubicBezTo>
              </a:path>
              <a:path w="7269" h="6078">
                <a:moveTo>
                  <a:pt x="20117" y="12129"/>
                </a:moveTo>
                <a:lnTo>
                  <a:pt x="20117" y="12129"/>
                </a:lnTo>
                <a:lnTo>
                  <a:pt x="20117" y="12129"/>
                </a:lnTo>
              </a:path>
              <a:path w="7269" h="6078">
                <a:moveTo>
                  <a:pt x="19124" y="10914"/>
                </a:moveTo>
                <a:cubicBezTo>
                  <a:pt x="19314" y="10891"/>
                  <a:pt x="19505" y="10863"/>
                  <a:pt x="19695" y="10840"/>
                </a:cubicBezTo>
              </a:path>
              <a:path w="7269" h="6078">
                <a:moveTo>
                  <a:pt x="17438" y="13717"/>
                </a:moveTo>
                <a:lnTo>
                  <a:pt x="17438" y="13717"/>
                </a:lnTo>
                <a:lnTo>
                  <a:pt x="17438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40320" y="3732120"/>
            <a:ext cx="1562400" cy="1876680"/>
          </a:xfrm>
          <a:custGeom>
            <a:avLst/>
            <a:gdLst/>
            <a:ahLst/>
            <a:rect l="l" t="t" r="r" b="b"/>
            <a:pathLst>
              <a:path w="4342" h="5210">
                <a:moveTo>
                  <a:pt x="20191" y="10666"/>
                </a:moveTo>
                <a:cubicBezTo>
                  <a:pt x="20191" y="10833"/>
                  <a:pt x="20171" y="10996"/>
                  <a:pt x="20166" y="11162"/>
                </a:cubicBezTo>
                <a:cubicBezTo>
                  <a:pt x="20166" y="11179"/>
                  <a:pt x="20166" y="11195"/>
                  <a:pt x="20166" y="11212"/>
                </a:cubicBezTo>
              </a:path>
              <a:path w="4342" h="5210">
                <a:moveTo>
                  <a:pt x="20687" y="10691"/>
                </a:moveTo>
                <a:cubicBezTo>
                  <a:pt x="20663" y="10749"/>
                  <a:pt x="20631" y="10809"/>
                  <a:pt x="20613" y="10864"/>
                </a:cubicBezTo>
                <a:cubicBezTo>
                  <a:pt x="20739" y="10890"/>
                  <a:pt x="20834" y="10882"/>
                  <a:pt x="20960" y="10864"/>
                </a:cubicBezTo>
              </a:path>
              <a:path w="4342" h="5210">
                <a:moveTo>
                  <a:pt x="20935" y="10368"/>
                </a:moveTo>
                <a:cubicBezTo>
                  <a:pt x="20920" y="10583"/>
                  <a:pt x="20917" y="10800"/>
                  <a:pt x="20886" y="11013"/>
                </a:cubicBezTo>
                <a:cubicBezTo>
                  <a:pt x="20875" y="11092"/>
                  <a:pt x="20861" y="11121"/>
                  <a:pt x="20861" y="11187"/>
                </a:cubicBezTo>
              </a:path>
              <a:path w="4342" h="5210">
                <a:moveTo>
                  <a:pt x="19000" y="11435"/>
                </a:moveTo>
                <a:cubicBezTo>
                  <a:pt x="19431" y="11352"/>
                  <a:pt x="19877" y="11356"/>
                  <a:pt x="20315" y="11336"/>
                </a:cubicBezTo>
                <a:cubicBezTo>
                  <a:pt x="20755" y="11316"/>
                  <a:pt x="21190" y="11311"/>
                  <a:pt x="21630" y="11311"/>
                </a:cubicBezTo>
                <a:cubicBezTo>
                  <a:pt x="21638" y="11311"/>
                  <a:pt x="21646" y="11311"/>
                  <a:pt x="21654" y="11311"/>
                </a:cubicBezTo>
              </a:path>
              <a:path w="4342" h="5210">
                <a:moveTo>
                  <a:pt x="20886" y="11559"/>
                </a:moveTo>
                <a:cubicBezTo>
                  <a:pt x="20858" y="11696"/>
                  <a:pt x="20816" y="11838"/>
                  <a:pt x="20786" y="11981"/>
                </a:cubicBezTo>
                <a:cubicBezTo>
                  <a:pt x="20777" y="12023"/>
                  <a:pt x="20724" y="12169"/>
                  <a:pt x="20786" y="12204"/>
                </a:cubicBezTo>
                <a:cubicBezTo>
                  <a:pt x="20885" y="12260"/>
                  <a:pt x="21010" y="12265"/>
                  <a:pt x="21109" y="12204"/>
                </a:cubicBezTo>
                <a:cubicBezTo>
                  <a:pt x="21159" y="12173"/>
                  <a:pt x="21261" y="12072"/>
                  <a:pt x="21258" y="12005"/>
                </a:cubicBezTo>
                <a:cubicBezTo>
                  <a:pt x="21254" y="11919"/>
                  <a:pt x="21131" y="11940"/>
                  <a:pt x="21084" y="11956"/>
                </a:cubicBezTo>
                <a:cubicBezTo>
                  <a:pt x="21019" y="11978"/>
                  <a:pt x="20989" y="12065"/>
                  <a:pt x="20985" y="12129"/>
                </a:cubicBezTo>
                <a:cubicBezTo>
                  <a:pt x="20985" y="12146"/>
                  <a:pt x="20985" y="12162"/>
                  <a:pt x="20985" y="12179"/>
                </a:cubicBezTo>
              </a:path>
              <a:path w="4342" h="5210">
                <a:moveTo>
                  <a:pt x="20166" y="11658"/>
                </a:moveTo>
                <a:cubicBezTo>
                  <a:pt x="20184" y="11603"/>
                  <a:pt x="20177" y="11666"/>
                  <a:pt x="20191" y="11584"/>
                </a:cubicBezTo>
                <a:cubicBezTo>
                  <a:pt x="20152" y="11719"/>
                  <a:pt x="20048" y="11840"/>
                  <a:pt x="20017" y="11981"/>
                </a:cubicBezTo>
                <a:cubicBezTo>
                  <a:pt x="19996" y="12074"/>
                  <a:pt x="20022" y="12169"/>
                  <a:pt x="20042" y="12254"/>
                </a:cubicBezTo>
                <a:cubicBezTo>
                  <a:pt x="20056" y="12314"/>
                  <a:pt x="20083" y="12303"/>
                  <a:pt x="20141" y="12303"/>
                </a:cubicBezTo>
                <a:cubicBezTo>
                  <a:pt x="20215" y="12303"/>
                  <a:pt x="20298" y="12283"/>
                  <a:pt x="20365" y="12254"/>
                </a:cubicBezTo>
                <a:cubicBezTo>
                  <a:pt x="20451" y="12216"/>
                  <a:pt x="20478" y="12167"/>
                  <a:pt x="20489" y="12080"/>
                </a:cubicBezTo>
                <a:cubicBezTo>
                  <a:pt x="20428" y="12065"/>
                  <a:pt x="20403" y="12027"/>
                  <a:pt x="20340" y="12055"/>
                </a:cubicBezTo>
                <a:cubicBezTo>
                  <a:pt x="20263" y="12089"/>
                  <a:pt x="20247" y="12177"/>
                  <a:pt x="20241" y="12254"/>
                </a:cubicBezTo>
                <a:cubicBezTo>
                  <a:pt x="20241" y="12278"/>
                  <a:pt x="20241" y="12287"/>
                  <a:pt x="20241" y="12303"/>
                </a:cubicBezTo>
              </a:path>
              <a:path w="4342" h="5210">
                <a:moveTo>
                  <a:pt x="19745" y="11658"/>
                </a:moveTo>
                <a:cubicBezTo>
                  <a:pt x="19718" y="11578"/>
                  <a:pt x="19583" y="11618"/>
                  <a:pt x="19521" y="11658"/>
                </a:cubicBezTo>
                <a:cubicBezTo>
                  <a:pt x="19435" y="11714"/>
                  <a:pt x="19447" y="11730"/>
                  <a:pt x="19447" y="11807"/>
                </a:cubicBezTo>
                <a:cubicBezTo>
                  <a:pt x="19537" y="11807"/>
                  <a:pt x="19608" y="11812"/>
                  <a:pt x="19695" y="11832"/>
                </a:cubicBezTo>
                <a:cubicBezTo>
                  <a:pt x="19722" y="11990"/>
                  <a:pt x="19676" y="12064"/>
                  <a:pt x="19496" y="12055"/>
                </a:cubicBezTo>
                <a:cubicBezTo>
                  <a:pt x="19328" y="12047"/>
                  <a:pt x="19339" y="12007"/>
                  <a:pt x="19372" y="11881"/>
                </a:cubicBezTo>
              </a:path>
              <a:path w="4342" h="5210">
                <a:moveTo>
                  <a:pt x="19546" y="11534"/>
                </a:moveTo>
                <a:cubicBezTo>
                  <a:pt x="19546" y="11694"/>
                  <a:pt x="19596" y="11825"/>
                  <a:pt x="19621" y="11981"/>
                </a:cubicBezTo>
                <a:cubicBezTo>
                  <a:pt x="19621" y="12022"/>
                  <a:pt x="19621" y="12030"/>
                  <a:pt x="19621" y="12055"/>
                </a:cubicBezTo>
              </a:path>
              <a:path w="4342" h="5210">
                <a:moveTo>
                  <a:pt x="19100" y="12675"/>
                </a:moveTo>
                <a:cubicBezTo>
                  <a:pt x="19251" y="12715"/>
                  <a:pt x="19387" y="12730"/>
                  <a:pt x="19546" y="12750"/>
                </a:cubicBezTo>
                <a:cubicBezTo>
                  <a:pt x="19761" y="12778"/>
                  <a:pt x="19976" y="12777"/>
                  <a:pt x="20191" y="12799"/>
                </a:cubicBezTo>
                <a:cubicBezTo>
                  <a:pt x="20355" y="12816"/>
                  <a:pt x="20547" y="12866"/>
                  <a:pt x="20712" y="12849"/>
                </a:cubicBezTo>
                <a:cubicBezTo>
                  <a:pt x="20862" y="12833"/>
                  <a:pt x="21009" y="12804"/>
                  <a:pt x="21158" y="12774"/>
                </a:cubicBezTo>
                <a:cubicBezTo>
                  <a:pt x="21326" y="12740"/>
                  <a:pt x="21481" y="12688"/>
                  <a:pt x="21630" y="12601"/>
                </a:cubicBezTo>
                <a:cubicBezTo>
                  <a:pt x="21739" y="12538"/>
                  <a:pt x="21810" y="12418"/>
                  <a:pt x="21853" y="12303"/>
                </a:cubicBezTo>
                <a:cubicBezTo>
                  <a:pt x="21883" y="12222"/>
                  <a:pt x="21956" y="12084"/>
                  <a:pt x="21952" y="11981"/>
                </a:cubicBezTo>
                <a:cubicBezTo>
                  <a:pt x="21949" y="11899"/>
                  <a:pt x="21897" y="11679"/>
                  <a:pt x="21853" y="11609"/>
                </a:cubicBezTo>
                <a:cubicBezTo>
                  <a:pt x="21803" y="11530"/>
                  <a:pt x="21734" y="11475"/>
                  <a:pt x="21654" y="11435"/>
                </a:cubicBezTo>
                <a:cubicBezTo>
                  <a:pt x="21524" y="11370"/>
                  <a:pt x="21349" y="11346"/>
                  <a:pt x="21208" y="11336"/>
                </a:cubicBezTo>
                <a:cubicBezTo>
                  <a:pt x="20729" y="11301"/>
                  <a:pt x="20169" y="11287"/>
                  <a:pt x="19695" y="11361"/>
                </a:cubicBezTo>
                <a:cubicBezTo>
                  <a:pt x="19500" y="11392"/>
                  <a:pt x="19311" y="11420"/>
                  <a:pt x="19124" y="11485"/>
                </a:cubicBezTo>
                <a:cubicBezTo>
                  <a:pt x="19003" y="11527"/>
                  <a:pt x="18875" y="11573"/>
                  <a:pt x="18777" y="11658"/>
                </a:cubicBezTo>
                <a:cubicBezTo>
                  <a:pt x="18689" y="11735"/>
                  <a:pt x="18642" y="11812"/>
                  <a:pt x="18628" y="11931"/>
                </a:cubicBezTo>
                <a:cubicBezTo>
                  <a:pt x="18613" y="12060"/>
                  <a:pt x="18643" y="12159"/>
                  <a:pt x="18678" y="12278"/>
                </a:cubicBezTo>
                <a:cubicBezTo>
                  <a:pt x="18765" y="12568"/>
                  <a:pt x="18965" y="12602"/>
                  <a:pt x="19224" y="12675"/>
                </a:cubicBezTo>
                <a:cubicBezTo>
                  <a:pt x="19353" y="12711"/>
                  <a:pt x="19488" y="12739"/>
                  <a:pt x="19621" y="12750"/>
                </a:cubicBezTo>
                <a:cubicBezTo>
                  <a:pt x="19743" y="12760"/>
                  <a:pt x="19870" y="12750"/>
                  <a:pt x="19993" y="12750"/>
                </a:cubicBezTo>
              </a:path>
              <a:path w="4342" h="5210">
                <a:moveTo>
                  <a:pt x="17611" y="15553"/>
                </a:moveTo>
                <a:cubicBezTo>
                  <a:pt x="17751" y="15541"/>
                  <a:pt x="17888" y="15526"/>
                  <a:pt x="18033" y="15453"/>
                </a:cubicBezTo>
                <a:cubicBezTo>
                  <a:pt x="18183" y="15378"/>
                  <a:pt x="18362" y="15349"/>
                  <a:pt x="18504" y="15255"/>
                </a:cubicBezTo>
                <a:cubicBezTo>
                  <a:pt x="18642" y="15163"/>
                  <a:pt x="18785" y="15072"/>
                  <a:pt x="18876" y="14932"/>
                </a:cubicBezTo>
                <a:cubicBezTo>
                  <a:pt x="19013" y="14721"/>
                  <a:pt x="19050" y="14447"/>
                  <a:pt x="19149" y="14213"/>
                </a:cubicBezTo>
                <a:cubicBezTo>
                  <a:pt x="19194" y="14107"/>
                  <a:pt x="19283" y="13981"/>
                  <a:pt x="19298" y="13866"/>
                </a:cubicBezTo>
                <a:cubicBezTo>
                  <a:pt x="19313" y="13754"/>
                  <a:pt x="19313" y="13629"/>
                  <a:pt x="19323" y="13519"/>
                </a:cubicBezTo>
                <a:cubicBezTo>
                  <a:pt x="19333" y="13408"/>
                  <a:pt x="19351" y="13304"/>
                  <a:pt x="19372" y="13196"/>
                </a:cubicBezTo>
                <a:cubicBezTo>
                  <a:pt x="19388" y="13110"/>
                  <a:pt x="19417" y="13048"/>
                  <a:pt x="19447" y="12973"/>
                </a:cubicBezTo>
                <a:cubicBezTo>
                  <a:pt x="19447" y="12965"/>
                  <a:pt x="19447" y="12956"/>
                  <a:pt x="19447" y="12948"/>
                </a:cubicBezTo>
                <a:cubicBezTo>
                  <a:pt x="19267" y="13054"/>
                  <a:pt x="19152" y="13162"/>
                  <a:pt x="19000" y="13320"/>
                </a:cubicBezTo>
                <a:cubicBezTo>
                  <a:pt x="18984" y="13337"/>
                  <a:pt x="18967" y="13353"/>
                  <a:pt x="18951" y="13370"/>
                </a:cubicBezTo>
                <a:cubicBezTo>
                  <a:pt x="19061" y="13275"/>
                  <a:pt x="19187" y="13135"/>
                  <a:pt x="19298" y="13022"/>
                </a:cubicBezTo>
                <a:cubicBezTo>
                  <a:pt x="19372" y="12948"/>
                  <a:pt x="19381" y="12939"/>
                  <a:pt x="19422" y="12898"/>
                </a:cubicBezTo>
                <a:cubicBezTo>
                  <a:pt x="19584" y="12966"/>
                  <a:pt x="19627" y="13141"/>
                  <a:pt x="19695" y="13320"/>
                </a:cubicBezTo>
                <a:cubicBezTo>
                  <a:pt x="19715" y="13361"/>
                  <a:pt x="19724" y="13367"/>
                  <a:pt x="1972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05760" y="4803840"/>
            <a:ext cx="528480" cy="536400"/>
          </a:xfrm>
          <a:custGeom>
            <a:avLst/>
            <a:gdLst/>
            <a:ahLst/>
            <a:rect l="l" t="t" r="r" b="b"/>
            <a:pathLst>
              <a:path w="1465" h="1489">
                <a:moveTo>
                  <a:pt x="20017" y="13915"/>
                </a:moveTo>
                <a:cubicBezTo>
                  <a:pt x="20045" y="14011"/>
                  <a:pt x="20088" y="14304"/>
                  <a:pt x="20241" y="14213"/>
                </a:cubicBezTo>
                <a:cubicBezTo>
                  <a:pt x="20350" y="14104"/>
                  <a:pt x="20386" y="14058"/>
                  <a:pt x="20389" y="13940"/>
                </a:cubicBezTo>
                <a:cubicBezTo>
                  <a:pt x="20409" y="13900"/>
                  <a:pt x="20418" y="13894"/>
                  <a:pt x="20414" y="13866"/>
                </a:cubicBezTo>
                <a:cubicBezTo>
                  <a:pt x="20435" y="14113"/>
                  <a:pt x="20497" y="14339"/>
                  <a:pt x="20414" y="14585"/>
                </a:cubicBezTo>
                <a:cubicBezTo>
                  <a:pt x="20373" y="14705"/>
                  <a:pt x="20001" y="14910"/>
                  <a:pt x="20042" y="14784"/>
                </a:cubicBezTo>
                <a:cubicBezTo>
                  <a:pt x="20083" y="14701"/>
                  <a:pt x="20125" y="14619"/>
                  <a:pt x="20166" y="14536"/>
                </a:cubicBezTo>
              </a:path>
              <a:path w="1465" h="1489">
                <a:moveTo>
                  <a:pt x="20662" y="13965"/>
                </a:moveTo>
                <a:cubicBezTo>
                  <a:pt x="20716" y="13858"/>
                  <a:pt x="20809" y="13785"/>
                  <a:pt x="20861" y="13667"/>
                </a:cubicBezTo>
                <a:cubicBezTo>
                  <a:pt x="20720" y="13710"/>
                  <a:pt x="20571" y="13852"/>
                  <a:pt x="20638" y="14039"/>
                </a:cubicBezTo>
                <a:cubicBezTo>
                  <a:pt x="20731" y="14299"/>
                  <a:pt x="21016" y="13884"/>
                  <a:pt x="21034" y="13866"/>
                </a:cubicBezTo>
              </a:path>
              <a:path w="1465" h="1489">
                <a:moveTo>
                  <a:pt x="21406" y="13345"/>
                </a:moveTo>
                <a:cubicBezTo>
                  <a:pt x="21322" y="13419"/>
                  <a:pt x="21258" y="13482"/>
                  <a:pt x="21183" y="13568"/>
                </a:cubicBezTo>
                <a:cubicBezTo>
                  <a:pt x="21204" y="13577"/>
                  <a:pt x="21532" y="13615"/>
                  <a:pt x="21481" y="13692"/>
                </a:cubicBezTo>
                <a:cubicBezTo>
                  <a:pt x="21338" y="13909"/>
                  <a:pt x="21151" y="13866"/>
                  <a:pt x="20935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8040" y="503712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4163" y="14089"/>
                </a:moveTo>
                <a:cubicBezTo>
                  <a:pt x="14063" y="14021"/>
                  <a:pt x="14018" y="14035"/>
                  <a:pt x="13940" y="14114"/>
                </a:cubicBezTo>
                <a:cubicBezTo>
                  <a:pt x="14014" y="14173"/>
                  <a:pt x="14113" y="14162"/>
                  <a:pt x="14163" y="14263"/>
                </a:cubicBezTo>
                <a:cubicBezTo>
                  <a:pt x="14125" y="14314"/>
                  <a:pt x="14055" y="14335"/>
                  <a:pt x="13990" y="14288"/>
                </a:cubicBezTo>
                <a:cubicBezTo>
                  <a:pt x="13982" y="14280"/>
                  <a:pt x="13973" y="14271"/>
                  <a:pt x="13965" y="14263"/>
                </a:cubicBezTo>
              </a:path>
              <a:path w="621" h="770">
                <a:moveTo>
                  <a:pt x="14064" y="13990"/>
                </a:moveTo>
                <a:cubicBezTo>
                  <a:pt x="14079" y="14120"/>
                  <a:pt x="14090" y="14265"/>
                  <a:pt x="14139" y="14387"/>
                </a:cubicBezTo>
                <a:cubicBezTo>
                  <a:pt x="14139" y="14379"/>
                  <a:pt x="14139" y="14370"/>
                  <a:pt x="14139" y="14362"/>
                </a:cubicBezTo>
              </a:path>
              <a:path w="621" h="770">
                <a:moveTo>
                  <a:pt x="14511" y="14114"/>
                </a:moveTo>
                <a:cubicBezTo>
                  <a:pt x="14529" y="14280"/>
                  <a:pt x="14520" y="14445"/>
                  <a:pt x="14536" y="14610"/>
                </a:cubicBezTo>
                <a:cubicBezTo>
                  <a:pt x="14542" y="14668"/>
                  <a:pt x="14560" y="14793"/>
                  <a:pt x="14560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64080" y="4741920"/>
            <a:ext cx="920880" cy="527040"/>
          </a:xfrm>
          <a:custGeom>
            <a:avLst/>
            <a:gdLst/>
            <a:ahLst/>
            <a:rect l="l" t="t" r="r" b="b"/>
            <a:pathLst>
              <a:path w="2556" h="1465">
                <a:moveTo>
                  <a:pt x="15180" y="14064"/>
                </a:moveTo>
                <a:cubicBezTo>
                  <a:pt x="15180" y="14235"/>
                  <a:pt x="15211" y="14391"/>
                  <a:pt x="15230" y="14560"/>
                </a:cubicBezTo>
                <a:cubicBezTo>
                  <a:pt x="15230" y="14602"/>
                  <a:pt x="15230" y="14610"/>
                  <a:pt x="15230" y="14635"/>
                </a:cubicBezTo>
              </a:path>
              <a:path w="2556" h="1465">
                <a:moveTo>
                  <a:pt x="15528" y="14089"/>
                </a:moveTo>
                <a:cubicBezTo>
                  <a:pt x="15558" y="14028"/>
                  <a:pt x="15631" y="14005"/>
                  <a:pt x="15701" y="13990"/>
                </a:cubicBezTo>
                <a:cubicBezTo>
                  <a:pt x="15701" y="14121"/>
                  <a:pt x="15696" y="14144"/>
                  <a:pt x="15602" y="14238"/>
                </a:cubicBezTo>
                <a:cubicBezTo>
                  <a:pt x="15573" y="14194"/>
                  <a:pt x="15677" y="14155"/>
                  <a:pt x="15726" y="14188"/>
                </a:cubicBezTo>
                <a:cubicBezTo>
                  <a:pt x="15852" y="14272"/>
                  <a:pt x="15753" y="14427"/>
                  <a:pt x="15652" y="14461"/>
                </a:cubicBezTo>
                <a:cubicBezTo>
                  <a:pt x="15561" y="14479"/>
                  <a:pt x="15520" y="14521"/>
                  <a:pt x="15528" y="14461"/>
                </a:cubicBezTo>
              </a:path>
              <a:path w="2556" h="1465">
                <a:moveTo>
                  <a:pt x="15999" y="14015"/>
                </a:moveTo>
                <a:cubicBezTo>
                  <a:pt x="16039" y="14093"/>
                  <a:pt x="16012" y="14147"/>
                  <a:pt x="15999" y="14238"/>
                </a:cubicBezTo>
                <a:cubicBezTo>
                  <a:pt x="16142" y="14238"/>
                  <a:pt x="16237" y="14211"/>
                  <a:pt x="16371" y="14163"/>
                </a:cubicBezTo>
              </a:path>
              <a:path w="2556" h="1465">
                <a:moveTo>
                  <a:pt x="16718" y="13543"/>
                </a:moveTo>
                <a:cubicBezTo>
                  <a:pt x="16686" y="13643"/>
                  <a:pt x="16671" y="13778"/>
                  <a:pt x="16669" y="13915"/>
                </a:cubicBezTo>
                <a:cubicBezTo>
                  <a:pt x="16669" y="14023"/>
                  <a:pt x="16669" y="14031"/>
                  <a:pt x="16669" y="14089"/>
                </a:cubicBezTo>
                <a:cubicBezTo>
                  <a:pt x="16669" y="13880"/>
                  <a:pt x="16655" y="13677"/>
                  <a:pt x="16644" y="13469"/>
                </a:cubicBezTo>
                <a:cubicBezTo>
                  <a:pt x="16764" y="13604"/>
                  <a:pt x="16876" y="13822"/>
                  <a:pt x="17016" y="13915"/>
                </a:cubicBezTo>
                <a:cubicBezTo>
                  <a:pt x="17033" y="13697"/>
                  <a:pt x="17020" y="13491"/>
                  <a:pt x="17016" y="13271"/>
                </a:cubicBezTo>
                <a:cubicBezTo>
                  <a:pt x="17016" y="13196"/>
                  <a:pt x="16991" y="13163"/>
                  <a:pt x="17041" y="13171"/>
                </a:cubicBezTo>
              </a:path>
              <a:path w="2556" h="1465">
                <a:moveTo>
                  <a:pt x="17314" y="13171"/>
                </a:moveTo>
                <a:cubicBezTo>
                  <a:pt x="17245" y="13404"/>
                  <a:pt x="17219" y="13513"/>
                  <a:pt x="17338" y="13717"/>
                </a:cubicBezTo>
                <a:cubicBezTo>
                  <a:pt x="17501" y="13665"/>
                  <a:pt x="17778" y="13438"/>
                  <a:pt x="17562" y="13221"/>
                </a:cubicBezTo>
                <a:cubicBezTo>
                  <a:pt x="17417" y="13172"/>
                  <a:pt x="17371" y="13154"/>
                  <a:pt x="17289" y="13246"/>
                </a:cubicBezTo>
              </a:path>
              <a:path w="2556" h="1465">
                <a:moveTo>
                  <a:pt x="16966" y="14213"/>
                </a:moveTo>
                <a:cubicBezTo>
                  <a:pt x="16938" y="14153"/>
                  <a:pt x="17386" y="13988"/>
                  <a:pt x="17438" y="13965"/>
                </a:cubicBezTo>
                <a:cubicBezTo>
                  <a:pt x="17475" y="13948"/>
                  <a:pt x="17713" y="13833"/>
                  <a:pt x="17735" y="13841"/>
                </a:cubicBezTo>
              </a:path>
              <a:path w="2556" h="1465">
                <a:moveTo>
                  <a:pt x="16818" y="14461"/>
                </a:moveTo>
                <a:cubicBezTo>
                  <a:pt x="17044" y="14311"/>
                  <a:pt x="17264" y="14219"/>
                  <a:pt x="17512" y="14114"/>
                </a:cubicBezTo>
                <a:cubicBezTo>
                  <a:pt x="17585" y="14077"/>
                  <a:pt x="17590" y="14060"/>
                  <a:pt x="17636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25920" y="3071880"/>
            <a:ext cx="11592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0170" y="8533"/>
                </a:moveTo>
                <a:cubicBezTo>
                  <a:pt x="10170" y="8682"/>
                  <a:pt x="10170" y="8830"/>
                  <a:pt x="10170" y="8979"/>
                </a:cubicBezTo>
              </a:path>
              <a:path w="323" h="447">
                <a:moveTo>
                  <a:pt x="10071" y="8756"/>
                </a:moveTo>
                <a:cubicBezTo>
                  <a:pt x="10183" y="8756"/>
                  <a:pt x="10284" y="8742"/>
                  <a:pt x="10393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6880" y="2973240"/>
            <a:ext cx="206280" cy="241560"/>
          </a:xfrm>
          <a:custGeom>
            <a:avLst/>
            <a:gdLst/>
            <a:ahLst/>
            <a:rect l="l" t="t" r="r" b="b"/>
            <a:pathLst>
              <a:path w="572" h="671">
                <a:moveTo>
                  <a:pt x="11410" y="8434"/>
                </a:moveTo>
                <a:cubicBezTo>
                  <a:pt x="11410" y="8566"/>
                  <a:pt x="11432" y="8697"/>
                  <a:pt x="11435" y="8830"/>
                </a:cubicBezTo>
                <a:cubicBezTo>
                  <a:pt x="11435" y="8923"/>
                  <a:pt x="11433" y="8963"/>
                  <a:pt x="11460" y="8855"/>
                </a:cubicBezTo>
              </a:path>
              <a:path w="572" h="671">
                <a:moveTo>
                  <a:pt x="11683" y="8434"/>
                </a:moveTo>
                <a:cubicBezTo>
                  <a:pt x="11683" y="8482"/>
                  <a:pt x="11651" y="8607"/>
                  <a:pt x="11733" y="8607"/>
                </a:cubicBezTo>
                <a:cubicBezTo>
                  <a:pt x="11853" y="8607"/>
                  <a:pt x="11939" y="8577"/>
                  <a:pt x="11981" y="8483"/>
                </a:cubicBezTo>
              </a:path>
              <a:path w="572" h="671">
                <a:moveTo>
                  <a:pt x="11931" y="8260"/>
                </a:moveTo>
                <a:cubicBezTo>
                  <a:pt x="11914" y="8426"/>
                  <a:pt x="11888" y="8589"/>
                  <a:pt x="11881" y="8756"/>
                </a:cubicBezTo>
                <a:cubicBezTo>
                  <a:pt x="11881" y="8781"/>
                  <a:pt x="11881" y="8789"/>
                  <a:pt x="11857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7040" y="2973240"/>
            <a:ext cx="374760" cy="196920"/>
          </a:xfrm>
          <a:custGeom>
            <a:avLst/>
            <a:gdLst/>
            <a:ahLst/>
            <a:rect l="l" t="t" r="r" b="b"/>
            <a:pathLst>
              <a:path w="1043" h="547">
                <a:moveTo>
                  <a:pt x="4787" y="8334"/>
                </a:moveTo>
                <a:cubicBezTo>
                  <a:pt x="4749" y="8261"/>
                  <a:pt x="4898" y="8229"/>
                  <a:pt x="4961" y="8260"/>
                </a:cubicBezTo>
                <a:cubicBezTo>
                  <a:pt x="5057" y="8308"/>
                  <a:pt x="4915" y="8462"/>
                  <a:pt x="4887" y="8508"/>
                </a:cubicBezTo>
                <a:cubicBezTo>
                  <a:pt x="4941" y="8508"/>
                  <a:pt x="4960" y="8514"/>
                  <a:pt x="5011" y="8533"/>
                </a:cubicBezTo>
                <a:cubicBezTo>
                  <a:pt x="4991" y="8663"/>
                  <a:pt x="4918" y="8839"/>
                  <a:pt x="4738" y="8781"/>
                </a:cubicBezTo>
                <a:cubicBezTo>
                  <a:pt x="4700" y="8705"/>
                  <a:pt x="4707" y="8663"/>
                  <a:pt x="4787" y="8607"/>
                </a:cubicBezTo>
              </a:path>
              <a:path w="1043" h="547">
                <a:moveTo>
                  <a:pt x="5308" y="8334"/>
                </a:moveTo>
                <a:cubicBezTo>
                  <a:pt x="5308" y="8446"/>
                  <a:pt x="5309" y="8546"/>
                  <a:pt x="5333" y="8657"/>
                </a:cubicBezTo>
                <a:cubicBezTo>
                  <a:pt x="5359" y="8780"/>
                  <a:pt x="5487" y="8854"/>
                  <a:pt x="5606" y="8781"/>
                </a:cubicBezTo>
                <a:cubicBezTo>
                  <a:pt x="5698" y="8725"/>
                  <a:pt x="5735" y="8649"/>
                  <a:pt x="5755" y="8558"/>
                </a:cubicBezTo>
                <a:cubicBezTo>
                  <a:pt x="5651" y="8506"/>
                  <a:pt x="5624" y="8493"/>
                  <a:pt x="5556" y="8607"/>
                </a:cubicBezTo>
                <a:cubicBezTo>
                  <a:pt x="5505" y="8693"/>
                  <a:pt x="5507" y="8716"/>
                  <a:pt x="550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4040" y="3044880"/>
            <a:ext cx="268200" cy="196920"/>
          </a:xfrm>
          <a:custGeom>
            <a:avLst/>
            <a:gdLst/>
            <a:ahLst/>
            <a:rect l="l" t="t" r="r" b="b"/>
            <a:pathLst>
              <a:path w="745" h="547">
                <a:moveTo>
                  <a:pt x="8037" y="8458"/>
                </a:moveTo>
                <a:cubicBezTo>
                  <a:pt x="8078" y="8602"/>
                  <a:pt x="8109" y="8747"/>
                  <a:pt x="8086" y="8905"/>
                </a:cubicBezTo>
                <a:cubicBezTo>
                  <a:pt x="8066" y="8945"/>
                  <a:pt x="8058" y="8952"/>
                  <a:pt x="8062" y="8979"/>
                </a:cubicBezTo>
              </a:path>
              <a:path w="745" h="547">
                <a:moveTo>
                  <a:pt x="8409" y="8458"/>
                </a:moveTo>
                <a:cubicBezTo>
                  <a:pt x="8388" y="8585"/>
                  <a:pt x="8331" y="8725"/>
                  <a:pt x="8334" y="8855"/>
                </a:cubicBezTo>
                <a:cubicBezTo>
                  <a:pt x="8338" y="9021"/>
                  <a:pt x="8485" y="8995"/>
                  <a:pt x="8582" y="8954"/>
                </a:cubicBezTo>
                <a:cubicBezTo>
                  <a:pt x="8676" y="8914"/>
                  <a:pt x="8723" y="8882"/>
                  <a:pt x="8781" y="8806"/>
                </a:cubicBezTo>
                <a:cubicBezTo>
                  <a:pt x="8771" y="8748"/>
                  <a:pt x="8703" y="8693"/>
                  <a:pt x="8632" y="8756"/>
                </a:cubicBezTo>
                <a:cubicBezTo>
                  <a:pt x="8567" y="8813"/>
                  <a:pt x="8533" y="8897"/>
                  <a:pt x="8533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93920" y="3170160"/>
            <a:ext cx="106200" cy="357120"/>
          </a:xfrm>
          <a:custGeom>
            <a:avLst/>
            <a:gdLst/>
            <a:ahLst/>
            <a:rect l="l" t="t" r="r" b="b"/>
            <a:pathLst>
              <a:path w="298" h="993">
                <a:moveTo>
                  <a:pt x="3969" y="8806"/>
                </a:moveTo>
                <a:cubicBezTo>
                  <a:pt x="3885" y="8951"/>
                  <a:pt x="3850" y="9156"/>
                  <a:pt x="3870" y="9327"/>
                </a:cubicBezTo>
                <a:cubicBezTo>
                  <a:pt x="3891" y="9502"/>
                  <a:pt x="3993" y="9698"/>
                  <a:pt x="4142" y="9798"/>
                </a:cubicBezTo>
                <a:cubicBezTo>
                  <a:pt x="4150" y="9798"/>
                  <a:pt x="4159" y="9798"/>
                  <a:pt x="4167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51080" y="3205080"/>
            <a:ext cx="106200" cy="331920"/>
          </a:xfrm>
          <a:custGeom>
            <a:avLst/>
            <a:gdLst/>
            <a:ahLst/>
            <a:rect l="l" t="t" r="r" b="b"/>
            <a:pathLst>
              <a:path w="298" h="919">
                <a:moveTo>
                  <a:pt x="6251" y="8930"/>
                </a:moveTo>
                <a:cubicBezTo>
                  <a:pt x="6338" y="8842"/>
                  <a:pt x="6494" y="9032"/>
                  <a:pt x="6524" y="9128"/>
                </a:cubicBezTo>
                <a:cubicBezTo>
                  <a:pt x="6603" y="9376"/>
                  <a:pt x="6511" y="9581"/>
                  <a:pt x="6424" y="9798"/>
                </a:cubicBezTo>
                <a:cubicBezTo>
                  <a:pt x="6424" y="9823"/>
                  <a:pt x="6424" y="9831"/>
                  <a:pt x="6400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2840" y="3241800"/>
            <a:ext cx="106200" cy="347400"/>
          </a:xfrm>
          <a:custGeom>
            <a:avLst/>
            <a:gdLst/>
            <a:ahLst/>
            <a:rect l="l" t="t" r="r" b="b"/>
            <a:pathLst>
              <a:path w="299" h="968">
                <a:moveTo>
                  <a:pt x="7466" y="9004"/>
                </a:moveTo>
                <a:cubicBezTo>
                  <a:pt x="7411" y="9200"/>
                  <a:pt x="7358" y="9360"/>
                  <a:pt x="7367" y="9575"/>
                </a:cubicBezTo>
                <a:cubicBezTo>
                  <a:pt x="7375" y="9766"/>
                  <a:pt x="7466" y="9892"/>
                  <a:pt x="7640" y="9971"/>
                </a:cubicBezTo>
                <a:cubicBezTo>
                  <a:pt x="7648" y="9971"/>
                  <a:pt x="7657" y="9971"/>
                  <a:pt x="7665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4080" y="3241800"/>
            <a:ext cx="142920" cy="4014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9426" y="9004"/>
                </a:moveTo>
                <a:cubicBezTo>
                  <a:pt x="9560" y="9004"/>
                  <a:pt x="9625" y="9050"/>
                  <a:pt x="9699" y="9178"/>
                </a:cubicBezTo>
                <a:cubicBezTo>
                  <a:pt x="9844" y="9429"/>
                  <a:pt x="9851" y="9661"/>
                  <a:pt x="9748" y="9922"/>
                </a:cubicBezTo>
                <a:cubicBezTo>
                  <a:pt x="9689" y="10072"/>
                  <a:pt x="9667" y="10037"/>
                  <a:pt x="962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21040" y="3251160"/>
            <a:ext cx="81000" cy="347760"/>
          </a:xfrm>
          <a:custGeom>
            <a:avLst/>
            <a:gdLst/>
            <a:ahLst/>
            <a:rect l="l" t="t" r="r" b="b"/>
            <a:pathLst>
              <a:path w="225" h="968">
                <a:moveTo>
                  <a:pt x="10815" y="9029"/>
                </a:moveTo>
                <a:cubicBezTo>
                  <a:pt x="10661" y="9106"/>
                  <a:pt x="10624" y="9433"/>
                  <a:pt x="10616" y="9575"/>
                </a:cubicBezTo>
                <a:cubicBezTo>
                  <a:pt x="10609" y="9704"/>
                  <a:pt x="10655" y="9965"/>
                  <a:pt x="10815" y="9996"/>
                </a:cubicBezTo>
                <a:cubicBezTo>
                  <a:pt x="10823" y="9996"/>
                  <a:pt x="10832" y="9996"/>
                  <a:pt x="1084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81160" y="2946240"/>
            <a:ext cx="803160" cy="216000"/>
          </a:xfrm>
          <a:custGeom>
            <a:avLst/>
            <a:gdLst/>
            <a:ahLst/>
            <a:rect l="l" t="t" r="r" b="b"/>
            <a:pathLst>
              <a:path w="2234" h="596">
                <a:moveTo>
                  <a:pt x="6747" y="8508"/>
                </a:moveTo>
                <a:cubicBezTo>
                  <a:pt x="6747" y="8599"/>
                  <a:pt x="6747" y="8690"/>
                  <a:pt x="6747" y="8781"/>
                </a:cubicBezTo>
              </a:path>
              <a:path w="2234" h="596">
                <a:moveTo>
                  <a:pt x="6648" y="8607"/>
                </a:moveTo>
                <a:cubicBezTo>
                  <a:pt x="6750" y="8598"/>
                  <a:pt x="6860" y="8568"/>
                  <a:pt x="6945" y="8582"/>
                </a:cubicBezTo>
                <a:cubicBezTo>
                  <a:pt x="6953" y="8582"/>
                  <a:pt x="6962" y="8582"/>
                  <a:pt x="6970" y="8582"/>
                </a:cubicBezTo>
              </a:path>
              <a:path w="2234" h="596">
                <a:moveTo>
                  <a:pt x="5779" y="8285"/>
                </a:moveTo>
                <a:cubicBezTo>
                  <a:pt x="5779" y="8243"/>
                  <a:pt x="5755" y="8244"/>
                  <a:pt x="5779" y="8210"/>
                </a:cubicBezTo>
                <a:cubicBezTo>
                  <a:pt x="5813" y="8163"/>
                  <a:pt x="5916" y="8208"/>
                  <a:pt x="5953" y="8210"/>
                </a:cubicBezTo>
                <a:cubicBezTo>
                  <a:pt x="6106" y="8220"/>
                  <a:pt x="6251" y="8198"/>
                  <a:pt x="6400" y="8186"/>
                </a:cubicBezTo>
                <a:cubicBezTo>
                  <a:pt x="6555" y="8174"/>
                  <a:pt x="6725" y="8220"/>
                  <a:pt x="6871" y="8210"/>
                </a:cubicBezTo>
                <a:cubicBezTo>
                  <a:pt x="6985" y="8202"/>
                  <a:pt x="7077" y="8206"/>
                  <a:pt x="7193" y="8210"/>
                </a:cubicBezTo>
                <a:cubicBezTo>
                  <a:pt x="7339" y="8215"/>
                  <a:pt x="7970" y="8134"/>
                  <a:pt x="8012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19920" y="2598840"/>
            <a:ext cx="706320" cy="1401840"/>
          </a:xfrm>
          <a:custGeom>
            <a:avLst/>
            <a:gdLst/>
            <a:ahLst/>
            <a:rect l="l" t="t" r="r" b="b"/>
            <a:pathLst>
              <a:path w="1960" h="3895">
                <a:moveTo>
                  <a:pt x="19869" y="7789"/>
                </a:moveTo>
                <a:cubicBezTo>
                  <a:pt x="19893" y="7714"/>
                  <a:pt x="20063" y="7707"/>
                  <a:pt x="20141" y="7714"/>
                </a:cubicBezTo>
                <a:cubicBezTo>
                  <a:pt x="20370" y="7734"/>
                  <a:pt x="20053" y="7937"/>
                  <a:pt x="19993" y="7962"/>
                </a:cubicBezTo>
                <a:cubicBezTo>
                  <a:pt x="19985" y="7962"/>
                  <a:pt x="19976" y="7962"/>
                  <a:pt x="19968" y="7962"/>
                </a:cubicBezTo>
                <a:cubicBezTo>
                  <a:pt x="20142" y="7962"/>
                  <a:pt x="20151" y="7986"/>
                  <a:pt x="20191" y="8136"/>
                </a:cubicBezTo>
                <a:cubicBezTo>
                  <a:pt x="20014" y="8238"/>
                  <a:pt x="19852" y="8355"/>
                  <a:pt x="19819" y="8136"/>
                </a:cubicBezTo>
              </a:path>
              <a:path w="1960" h="3895">
                <a:moveTo>
                  <a:pt x="20489" y="7714"/>
                </a:moveTo>
                <a:cubicBezTo>
                  <a:pt x="20464" y="7815"/>
                  <a:pt x="20446" y="7947"/>
                  <a:pt x="20439" y="8062"/>
                </a:cubicBezTo>
                <a:cubicBezTo>
                  <a:pt x="20428" y="8253"/>
                  <a:pt x="20516" y="8320"/>
                  <a:pt x="20712" y="8260"/>
                </a:cubicBezTo>
                <a:cubicBezTo>
                  <a:pt x="20838" y="8197"/>
                  <a:pt x="20874" y="8194"/>
                  <a:pt x="20910" y="8111"/>
                </a:cubicBezTo>
                <a:cubicBezTo>
                  <a:pt x="20788" y="8029"/>
                  <a:pt x="20741" y="8096"/>
                  <a:pt x="20662" y="8210"/>
                </a:cubicBezTo>
                <a:cubicBezTo>
                  <a:pt x="20637" y="8251"/>
                  <a:pt x="20613" y="8293"/>
                  <a:pt x="20588" y="8334"/>
                </a:cubicBezTo>
              </a:path>
              <a:path w="1960" h="3895">
                <a:moveTo>
                  <a:pt x="19248" y="8607"/>
                </a:moveTo>
                <a:cubicBezTo>
                  <a:pt x="19248" y="8748"/>
                  <a:pt x="19248" y="9120"/>
                  <a:pt x="19248" y="8979"/>
                </a:cubicBezTo>
              </a:path>
              <a:path w="1960" h="3895">
                <a:moveTo>
                  <a:pt x="19918" y="8533"/>
                </a:moveTo>
                <a:cubicBezTo>
                  <a:pt x="19954" y="8702"/>
                  <a:pt x="19968" y="8857"/>
                  <a:pt x="19968" y="9029"/>
                </a:cubicBezTo>
              </a:path>
              <a:path w="1960" h="3895">
                <a:moveTo>
                  <a:pt x="20464" y="8582"/>
                </a:moveTo>
                <a:cubicBezTo>
                  <a:pt x="20524" y="8662"/>
                  <a:pt x="20477" y="8782"/>
                  <a:pt x="20489" y="8880"/>
                </a:cubicBezTo>
                <a:cubicBezTo>
                  <a:pt x="20513" y="9080"/>
                  <a:pt x="20682" y="9124"/>
                  <a:pt x="20861" y="9054"/>
                </a:cubicBezTo>
                <a:cubicBezTo>
                  <a:pt x="20942" y="8993"/>
                  <a:pt x="20964" y="8988"/>
                  <a:pt x="20985" y="8930"/>
                </a:cubicBezTo>
                <a:cubicBezTo>
                  <a:pt x="20861" y="8930"/>
                  <a:pt x="20792" y="8981"/>
                  <a:pt x="20712" y="9079"/>
                </a:cubicBezTo>
                <a:cubicBezTo>
                  <a:pt x="20690" y="9122"/>
                  <a:pt x="20686" y="9134"/>
                  <a:pt x="20662" y="9153"/>
                </a:cubicBezTo>
              </a:path>
              <a:path w="1960" h="3895">
                <a:moveTo>
                  <a:pt x="19273" y="9376"/>
                </a:moveTo>
                <a:cubicBezTo>
                  <a:pt x="19826" y="9309"/>
                  <a:pt x="20378" y="9249"/>
                  <a:pt x="20935" y="9227"/>
                </a:cubicBezTo>
                <a:cubicBezTo>
                  <a:pt x="21143" y="9219"/>
                  <a:pt x="21174" y="9288"/>
                  <a:pt x="21158" y="9153"/>
                </a:cubicBezTo>
              </a:path>
              <a:path w="1960" h="3895">
                <a:moveTo>
                  <a:pt x="20613" y="9575"/>
                </a:moveTo>
                <a:cubicBezTo>
                  <a:pt x="20626" y="9522"/>
                  <a:pt x="20636" y="9502"/>
                  <a:pt x="20687" y="9475"/>
                </a:cubicBezTo>
                <a:cubicBezTo>
                  <a:pt x="20738" y="9447"/>
                  <a:pt x="20899" y="9366"/>
                  <a:pt x="20935" y="9475"/>
                </a:cubicBezTo>
                <a:cubicBezTo>
                  <a:pt x="20982" y="9619"/>
                  <a:pt x="20888" y="9740"/>
                  <a:pt x="20811" y="9847"/>
                </a:cubicBezTo>
                <a:cubicBezTo>
                  <a:pt x="20741" y="9944"/>
                  <a:pt x="20674" y="10018"/>
                  <a:pt x="20613" y="10120"/>
                </a:cubicBezTo>
                <a:cubicBezTo>
                  <a:pt x="20543" y="10097"/>
                  <a:pt x="20704" y="9990"/>
                  <a:pt x="20737" y="9971"/>
                </a:cubicBezTo>
                <a:cubicBezTo>
                  <a:pt x="20847" y="9906"/>
                  <a:pt x="20870" y="9981"/>
                  <a:pt x="20960" y="10021"/>
                </a:cubicBezTo>
                <a:cubicBezTo>
                  <a:pt x="21042" y="10057"/>
                  <a:pt x="21067" y="10041"/>
                  <a:pt x="21134" y="9996"/>
                </a:cubicBezTo>
              </a:path>
              <a:path w="1960" h="3895">
                <a:moveTo>
                  <a:pt x="19968" y="7243"/>
                </a:moveTo>
                <a:cubicBezTo>
                  <a:pt x="19968" y="7170"/>
                  <a:pt x="19968" y="7424"/>
                  <a:pt x="19968" y="7441"/>
                </a:cubicBezTo>
                <a:cubicBezTo>
                  <a:pt x="19968" y="7482"/>
                  <a:pt x="19968" y="7524"/>
                  <a:pt x="19968" y="7565"/>
                </a:cubicBezTo>
              </a:path>
              <a:path w="1960" h="3895">
                <a:moveTo>
                  <a:pt x="20191" y="9624"/>
                </a:moveTo>
                <a:cubicBezTo>
                  <a:pt x="20226" y="9572"/>
                  <a:pt x="20081" y="9621"/>
                  <a:pt x="20017" y="9624"/>
                </a:cubicBezTo>
                <a:cubicBezTo>
                  <a:pt x="19922" y="9628"/>
                  <a:pt x="19959" y="9816"/>
                  <a:pt x="19943" y="9872"/>
                </a:cubicBezTo>
                <a:cubicBezTo>
                  <a:pt x="19918" y="9897"/>
                  <a:pt x="19910" y="9905"/>
                  <a:pt x="19943" y="9922"/>
                </a:cubicBezTo>
                <a:cubicBezTo>
                  <a:pt x="20061" y="9863"/>
                  <a:pt x="20156" y="9785"/>
                  <a:pt x="20290" y="9847"/>
                </a:cubicBezTo>
                <a:cubicBezTo>
                  <a:pt x="20416" y="9906"/>
                  <a:pt x="20255" y="10133"/>
                  <a:pt x="20191" y="10170"/>
                </a:cubicBezTo>
                <a:cubicBezTo>
                  <a:pt x="20125" y="10208"/>
                  <a:pt x="20050" y="10203"/>
                  <a:pt x="20017" y="10170"/>
                </a:cubicBezTo>
              </a:path>
              <a:path w="1960" h="3895">
                <a:moveTo>
                  <a:pt x="19248" y="10567"/>
                </a:moveTo>
                <a:cubicBezTo>
                  <a:pt x="19248" y="10700"/>
                  <a:pt x="19226" y="10830"/>
                  <a:pt x="19224" y="10964"/>
                </a:cubicBezTo>
                <a:cubicBezTo>
                  <a:pt x="19224" y="11055"/>
                  <a:pt x="19224" y="11063"/>
                  <a:pt x="19224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is is why we need an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rder of oper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is: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exponent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/or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00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/or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00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2840" y="3276720"/>
            <a:ext cx="482400" cy="215640"/>
          </a:xfrm>
          <a:custGeom>
            <a:avLst/>
            <a:gdLst/>
            <a:ahLst/>
            <a:rect l="l" t="t" r="r" b="b"/>
            <a:pathLst>
              <a:path w="1340" h="597">
                <a:moveTo>
                  <a:pt x="4118" y="9103"/>
                </a:moveTo>
                <a:lnTo>
                  <a:pt x="4118" y="9103"/>
                </a:lnTo>
              </a:path>
              <a:path w="1340" h="597">
                <a:moveTo>
                  <a:pt x="5457" y="9699"/>
                </a:moveTo>
                <a:lnTo>
                  <a:pt x="5457" y="9699"/>
                </a:lnTo>
                <a:lnTo>
                  <a:pt x="5457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7280" y="1089000"/>
            <a:ext cx="2840040" cy="196920"/>
          </a:xfrm>
          <a:custGeom>
            <a:avLst/>
            <a:gdLst/>
            <a:ahLst/>
            <a:rect l="l" t="t" r="r" b="b"/>
            <a:pathLst>
              <a:path w="7889" h="547">
                <a:moveTo>
                  <a:pt x="13047" y="3200"/>
                </a:moveTo>
                <a:cubicBezTo>
                  <a:pt x="13151" y="3195"/>
                  <a:pt x="13244" y="3191"/>
                  <a:pt x="13345" y="3175"/>
                </a:cubicBezTo>
                <a:cubicBezTo>
                  <a:pt x="13405" y="3165"/>
                  <a:pt x="13461" y="3159"/>
                  <a:pt x="13519" y="3150"/>
                </a:cubicBezTo>
                <a:cubicBezTo>
                  <a:pt x="13575" y="3141"/>
                  <a:pt x="13613" y="3130"/>
                  <a:pt x="13667" y="3125"/>
                </a:cubicBezTo>
                <a:cubicBezTo>
                  <a:pt x="13775" y="3116"/>
                  <a:pt x="13884" y="3108"/>
                  <a:pt x="13990" y="3101"/>
                </a:cubicBezTo>
                <a:cubicBezTo>
                  <a:pt x="14107" y="3093"/>
                  <a:pt x="14222" y="3083"/>
                  <a:pt x="14337" y="3076"/>
                </a:cubicBezTo>
                <a:cubicBezTo>
                  <a:pt x="14812" y="3049"/>
                  <a:pt x="15286" y="3104"/>
                  <a:pt x="15751" y="3125"/>
                </a:cubicBezTo>
                <a:cubicBezTo>
                  <a:pt x="15917" y="3133"/>
                  <a:pt x="16086" y="3140"/>
                  <a:pt x="16247" y="3150"/>
                </a:cubicBezTo>
                <a:cubicBezTo>
                  <a:pt x="16734" y="3179"/>
                  <a:pt x="17228" y="3134"/>
                  <a:pt x="17711" y="3125"/>
                </a:cubicBezTo>
                <a:cubicBezTo>
                  <a:pt x="18199" y="3116"/>
                  <a:pt x="18689" y="3121"/>
                  <a:pt x="19174" y="3101"/>
                </a:cubicBezTo>
                <a:cubicBezTo>
                  <a:pt x="19323" y="3095"/>
                  <a:pt x="19475" y="3082"/>
                  <a:pt x="19621" y="3076"/>
                </a:cubicBezTo>
                <a:cubicBezTo>
                  <a:pt x="19811" y="3068"/>
                  <a:pt x="20004" y="3060"/>
                  <a:pt x="20191" y="3051"/>
                </a:cubicBezTo>
                <a:cubicBezTo>
                  <a:pt x="20375" y="3042"/>
                  <a:pt x="20555" y="3043"/>
                  <a:pt x="20737" y="3026"/>
                </a:cubicBezTo>
                <a:cubicBezTo>
                  <a:pt x="20762" y="3026"/>
                  <a:pt x="20770" y="3026"/>
                  <a:pt x="20737" y="3026"/>
                </a:cubicBezTo>
              </a:path>
              <a:path w="7889" h="547">
                <a:moveTo>
                  <a:pt x="13295" y="3547"/>
                </a:moveTo>
                <a:cubicBezTo>
                  <a:pt x="13361" y="3541"/>
                  <a:pt x="13435" y="3516"/>
                  <a:pt x="13519" y="3522"/>
                </a:cubicBezTo>
                <a:cubicBezTo>
                  <a:pt x="13648" y="3531"/>
                  <a:pt x="13761" y="3526"/>
                  <a:pt x="13891" y="3522"/>
                </a:cubicBezTo>
                <a:cubicBezTo>
                  <a:pt x="14069" y="3516"/>
                  <a:pt x="14238" y="3538"/>
                  <a:pt x="14412" y="3547"/>
                </a:cubicBezTo>
                <a:cubicBezTo>
                  <a:pt x="14554" y="3554"/>
                  <a:pt x="14692" y="3569"/>
                  <a:pt x="14833" y="3572"/>
                </a:cubicBezTo>
                <a:cubicBezTo>
                  <a:pt x="14979" y="3575"/>
                  <a:pt x="15113" y="3530"/>
                  <a:pt x="15255" y="3522"/>
                </a:cubicBezTo>
                <a:cubicBezTo>
                  <a:pt x="15685" y="3497"/>
                  <a:pt x="16116" y="3529"/>
                  <a:pt x="16545" y="3497"/>
                </a:cubicBezTo>
                <a:cubicBezTo>
                  <a:pt x="16759" y="3481"/>
                  <a:pt x="16974" y="3452"/>
                  <a:pt x="17190" y="3448"/>
                </a:cubicBezTo>
                <a:cubicBezTo>
                  <a:pt x="17448" y="3443"/>
                  <a:pt x="17703" y="3390"/>
                  <a:pt x="17959" y="3373"/>
                </a:cubicBezTo>
                <a:cubicBezTo>
                  <a:pt x="18256" y="3353"/>
                  <a:pt x="18558" y="3380"/>
                  <a:pt x="18852" y="3398"/>
                </a:cubicBezTo>
                <a:cubicBezTo>
                  <a:pt x="19158" y="3417"/>
                  <a:pt x="19470" y="3389"/>
                  <a:pt x="19769" y="3373"/>
                </a:cubicBezTo>
                <a:cubicBezTo>
                  <a:pt x="20091" y="3356"/>
                  <a:pt x="20417" y="3355"/>
                  <a:pt x="20737" y="3349"/>
                </a:cubicBezTo>
                <a:cubicBezTo>
                  <a:pt x="20803" y="3348"/>
                  <a:pt x="20869" y="3349"/>
                  <a:pt x="20935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1920" y="3214800"/>
            <a:ext cx="4813200" cy="455400"/>
          </a:xfrm>
          <a:custGeom>
            <a:avLst/>
            <a:gdLst/>
            <a:ahLst/>
            <a:rect l="l" t="t" r="r" b="b"/>
            <a:pathLst>
              <a:path w="13371" h="1266">
                <a:moveTo>
                  <a:pt x="3448" y="9500"/>
                </a:moveTo>
                <a:cubicBezTo>
                  <a:pt x="3440" y="9500"/>
                  <a:pt x="3431" y="9500"/>
                  <a:pt x="3423" y="9500"/>
                </a:cubicBezTo>
              </a:path>
              <a:path w="13371" h="1266">
                <a:moveTo>
                  <a:pt x="16520" y="8930"/>
                </a:moveTo>
                <a:cubicBezTo>
                  <a:pt x="16669" y="8979"/>
                  <a:pt x="16770" y="9147"/>
                  <a:pt x="16793" y="9302"/>
                </a:cubicBezTo>
                <a:cubicBezTo>
                  <a:pt x="16838" y="9610"/>
                  <a:pt x="16732" y="9884"/>
                  <a:pt x="16545" y="10120"/>
                </a:cubicBezTo>
                <a:cubicBezTo>
                  <a:pt x="16497" y="10180"/>
                  <a:pt x="16472" y="10155"/>
                  <a:pt x="16446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4720" y="2027160"/>
            <a:ext cx="322200" cy="2625840"/>
          </a:xfrm>
          <a:custGeom>
            <a:avLst/>
            <a:gdLst/>
            <a:ahLst/>
            <a:rect l="l" t="t" r="r" b="b"/>
            <a:pathLst>
              <a:path w="894" h="7293">
                <a:moveTo>
                  <a:pt x="3125" y="6152"/>
                </a:moveTo>
                <a:cubicBezTo>
                  <a:pt x="3140" y="6367"/>
                  <a:pt x="3168" y="6580"/>
                  <a:pt x="3175" y="6796"/>
                </a:cubicBezTo>
                <a:cubicBezTo>
                  <a:pt x="3175" y="6804"/>
                  <a:pt x="3175" y="6813"/>
                  <a:pt x="3175" y="6821"/>
                </a:cubicBezTo>
              </a:path>
              <a:path w="894" h="7293">
                <a:moveTo>
                  <a:pt x="3125" y="5631"/>
                </a:moveTo>
                <a:cubicBezTo>
                  <a:pt x="3399" y="5685"/>
                  <a:pt x="3534" y="5851"/>
                  <a:pt x="3621" y="6127"/>
                </a:cubicBezTo>
                <a:cubicBezTo>
                  <a:pt x="3725" y="6458"/>
                  <a:pt x="3685" y="6800"/>
                  <a:pt x="3473" y="7069"/>
                </a:cubicBezTo>
                <a:cubicBezTo>
                  <a:pt x="3417" y="7125"/>
                  <a:pt x="3392" y="7123"/>
                  <a:pt x="3398" y="7169"/>
                </a:cubicBezTo>
              </a:path>
              <a:path w="894" h="7293">
                <a:moveTo>
                  <a:pt x="3299" y="9401"/>
                </a:moveTo>
                <a:cubicBezTo>
                  <a:pt x="3265" y="9468"/>
                  <a:pt x="3357" y="9366"/>
                  <a:pt x="3473" y="9351"/>
                </a:cubicBezTo>
                <a:cubicBezTo>
                  <a:pt x="3573" y="9579"/>
                  <a:pt x="3513" y="9771"/>
                  <a:pt x="3299" y="9947"/>
                </a:cubicBezTo>
                <a:cubicBezTo>
                  <a:pt x="3154" y="10029"/>
                  <a:pt x="3130" y="10062"/>
                  <a:pt x="3026" y="10046"/>
                </a:cubicBezTo>
                <a:cubicBezTo>
                  <a:pt x="2988" y="9882"/>
                  <a:pt x="2987" y="9798"/>
                  <a:pt x="3200" y="9798"/>
                </a:cubicBezTo>
                <a:cubicBezTo>
                  <a:pt x="3388" y="9798"/>
                  <a:pt x="3534" y="9837"/>
                  <a:pt x="3621" y="9996"/>
                </a:cubicBezTo>
                <a:cubicBezTo>
                  <a:pt x="3645" y="10044"/>
                  <a:pt x="3653" y="10059"/>
                  <a:pt x="3646" y="10096"/>
                </a:cubicBezTo>
              </a:path>
              <a:path w="894" h="7293">
                <a:moveTo>
                  <a:pt x="3497" y="9203"/>
                </a:moveTo>
                <a:cubicBezTo>
                  <a:pt x="3739" y="9471"/>
                  <a:pt x="3840" y="9671"/>
                  <a:pt x="3746" y="10046"/>
                </a:cubicBezTo>
                <a:cubicBezTo>
                  <a:pt x="3734" y="10093"/>
                  <a:pt x="3574" y="10495"/>
                  <a:pt x="3497" y="10418"/>
                </a:cubicBezTo>
              </a:path>
              <a:path w="894" h="7293">
                <a:moveTo>
                  <a:pt x="2927" y="12229"/>
                </a:moveTo>
                <a:cubicBezTo>
                  <a:pt x="2962" y="12143"/>
                  <a:pt x="3071" y="12073"/>
                  <a:pt x="3175" y="12105"/>
                </a:cubicBezTo>
                <a:cubicBezTo>
                  <a:pt x="3346" y="12157"/>
                  <a:pt x="3185" y="12392"/>
                  <a:pt x="3125" y="12452"/>
                </a:cubicBezTo>
                <a:cubicBezTo>
                  <a:pt x="3117" y="12452"/>
                  <a:pt x="3109" y="12452"/>
                  <a:pt x="3101" y="12452"/>
                </a:cubicBezTo>
                <a:cubicBezTo>
                  <a:pt x="3219" y="12400"/>
                  <a:pt x="3317" y="12453"/>
                  <a:pt x="3249" y="12601"/>
                </a:cubicBezTo>
                <a:cubicBezTo>
                  <a:pt x="3183" y="12745"/>
                  <a:pt x="2997" y="12792"/>
                  <a:pt x="2902" y="12725"/>
                </a:cubicBezTo>
              </a:path>
              <a:path w="894" h="7293">
                <a:moveTo>
                  <a:pt x="2927" y="11807"/>
                </a:moveTo>
                <a:cubicBezTo>
                  <a:pt x="3234" y="11855"/>
                  <a:pt x="3344" y="12020"/>
                  <a:pt x="3398" y="12328"/>
                </a:cubicBezTo>
                <a:cubicBezTo>
                  <a:pt x="3445" y="12594"/>
                  <a:pt x="3337" y="12729"/>
                  <a:pt x="3200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63880" y="2928960"/>
            <a:ext cx="1546200" cy="812880"/>
          </a:xfrm>
          <a:custGeom>
            <a:avLst/>
            <a:gdLst/>
            <a:ahLst/>
            <a:rect l="l" t="t" r="r" b="b"/>
            <a:pathLst>
              <a:path w="4292" h="2258">
                <a:moveTo>
                  <a:pt x="8235" y="8210"/>
                </a:moveTo>
                <a:cubicBezTo>
                  <a:pt x="8436" y="8210"/>
                  <a:pt x="8631" y="8187"/>
                  <a:pt x="8830" y="8161"/>
                </a:cubicBezTo>
                <a:cubicBezTo>
                  <a:pt x="8950" y="8145"/>
                  <a:pt x="9035" y="8136"/>
                  <a:pt x="9153" y="8136"/>
                </a:cubicBezTo>
                <a:cubicBezTo>
                  <a:pt x="8954" y="8154"/>
                  <a:pt x="8760" y="8183"/>
                  <a:pt x="8558" y="8186"/>
                </a:cubicBezTo>
                <a:cubicBezTo>
                  <a:pt x="8425" y="8186"/>
                  <a:pt x="8390" y="8182"/>
                  <a:pt x="8310" y="8210"/>
                </a:cubicBezTo>
                <a:cubicBezTo>
                  <a:pt x="8494" y="8334"/>
                  <a:pt x="8789" y="8205"/>
                  <a:pt x="9004" y="8161"/>
                </a:cubicBezTo>
                <a:cubicBezTo>
                  <a:pt x="9093" y="8143"/>
                  <a:pt x="9146" y="8136"/>
                  <a:pt x="9227" y="8136"/>
                </a:cubicBezTo>
              </a:path>
              <a:path w="4292" h="2258">
                <a:moveTo>
                  <a:pt x="8483" y="10294"/>
                </a:moveTo>
                <a:cubicBezTo>
                  <a:pt x="8557" y="10313"/>
                  <a:pt x="8661" y="10358"/>
                  <a:pt x="8731" y="10368"/>
                </a:cubicBezTo>
                <a:cubicBezTo>
                  <a:pt x="8977" y="10404"/>
                  <a:pt x="9139" y="10283"/>
                  <a:pt x="9302" y="10120"/>
                </a:cubicBezTo>
                <a:cubicBezTo>
                  <a:pt x="9339" y="10159"/>
                  <a:pt x="9385" y="10256"/>
                  <a:pt x="9475" y="10269"/>
                </a:cubicBezTo>
                <a:cubicBezTo>
                  <a:pt x="9716" y="10305"/>
                  <a:pt x="10013" y="10024"/>
                  <a:pt x="10195" y="10071"/>
                </a:cubicBezTo>
                <a:cubicBezTo>
                  <a:pt x="10341" y="10109"/>
                  <a:pt x="10277" y="10221"/>
                  <a:pt x="10492" y="10195"/>
                </a:cubicBezTo>
                <a:cubicBezTo>
                  <a:pt x="10620" y="10179"/>
                  <a:pt x="10720" y="10136"/>
                  <a:pt x="10840" y="10096"/>
                </a:cubicBezTo>
                <a:cubicBezTo>
                  <a:pt x="10963" y="10245"/>
                  <a:pt x="10987" y="10279"/>
                  <a:pt x="11212" y="10269"/>
                </a:cubicBezTo>
                <a:cubicBezTo>
                  <a:pt x="11309" y="10265"/>
                  <a:pt x="11528" y="10190"/>
                  <a:pt x="11633" y="10220"/>
                </a:cubicBezTo>
                <a:cubicBezTo>
                  <a:pt x="11799" y="10268"/>
                  <a:pt x="11611" y="10436"/>
                  <a:pt x="11956" y="10368"/>
                </a:cubicBezTo>
                <a:cubicBezTo>
                  <a:pt x="12073" y="10345"/>
                  <a:pt x="12139" y="10263"/>
                  <a:pt x="12254" y="10294"/>
                </a:cubicBezTo>
                <a:cubicBezTo>
                  <a:pt x="12347" y="10319"/>
                  <a:pt x="12376" y="10375"/>
                  <a:pt x="1252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295800"/>
            <a:ext cx="376200" cy="3474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15602" y="9252"/>
                </a:moveTo>
                <a:cubicBezTo>
                  <a:pt x="15559" y="9472"/>
                  <a:pt x="15438" y="9683"/>
                  <a:pt x="15453" y="9922"/>
                </a:cubicBezTo>
                <a:cubicBezTo>
                  <a:pt x="15459" y="10023"/>
                  <a:pt x="15528" y="10083"/>
                  <a:pt x="15602" y="10120"/>
                </a:cubicBezTo>
              </a:path>
              <a:path w="1043" h="968">
                <a:moveTo>
                  <a:pt x="16073" y="9401"/>
                </a:moveTo>
                <a:cubicBezTo>
                  <a:pt x="15978" y="9433"/>
                  <a:pt x="15878" y="9476"/>
                  <a:pt x="15776" y="9500"/>
                </a:cubicBezTo>
                <a:cubicBezTo>
                  <a:pt x="15723" y="9513"/>
                  <a:pt x="15751" y="9648"/>
                  <a:pt x="15751" y="9699"/>
                </a:cubicBezTo>
                <a:cubicBezTo>
                  <a:pt x="15751" y="9707"/>
                  <a:pt x="15751" y="9715"/>
                  <a:pt x="15751" y="9723"/>
                </a:cubicBezTo>
                <a:cubicBezTo>
                  <a:pt x="15820" y="9689"/>
                  <a:pt x="15998" y="9587"/>
                  <a:pt x="16049" y="9723"/>
                </a:cubicBezTo>
                <a:cubicBezTo>
                  <a:pt x="16126" y="9927"/>
                  <a:pt x="15887" y="9973"/>
                  <a:pt x="15751" y="9996"/>
                </a:cubicBezTo>
                <a:cubicBezTo>
                  <a:pt x="15662" y="10011"/>
                  <a:pt x="15652" y="10003"/>
                  <a:pt x="15652" y="9922"/>
                </a:cubicBezTo>
              </a:path>
              <a:path w="1043" h="968">
                <a:moveTo>
                  <a:pt x="16321" y="9227"/>
                </a:moveTo>
                <a:cubicBezTo>
                  <a:pt x="16381" y="9227"/>
                  <a:pt x="16433" y="9153"/>
                  <a:pt x="16470" y="9153"/>
                </a:cubicBezTo>
                <a:cubicBezTo>
                  <a:pt x="16478" y="9161"/>
                  <a:pt x="16487" y="9170"/>
                  <a:pt x="16495" y="9178"/>
                </a:cubicBezTo>
                <a:cubicBezTo>
                  <a:pt x="16477" y="9251"/>
                  <a:pt x="16454" y="9269"/>
                  <a:pt x="16396" y="9327"/>
                </a:cubicBezTo>
                <a:cubicBezTo>
                  <a:pt x="16467" y="9327"/>
                  <a:pt x="16547" y="9356"/>
                  <a:pt x="16470" y="9451"/>
                </a:cubicBezTo>
                <a:cubicBezTo>
                  <a:pt x="16437" y="9491"/>
                  <a:pt x="16317" y="9562"/>
                  <a:pt x="1629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77080" y="3232080"/>
            <a:ext cx="1796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21779" y="9153"/>
                </a:moveTo>
                <a:cubicBezTo>
                  <a:pt x="21758" y="9319"/>
                  <a:pt x="21685" y="9466"/>
                  <a:pt x="21630" y="9624"/>
                </a:cubicBezTo>
                <a:cubicBezTo>
                  <a:pt x="21611" y="9682"/>
                  <a:pt x="21602" y="9688"/>
                  <a:pt x="21605" y="9723"/>
                </a:cubicBezTo>
                <a:cubicBezTo>
                  <a:pt x="21741" y="9746"/>
                  <a:pt x="21842" y="9742"/>
                  <a:pt x="21977" y="9723"/>
                </a:cubicBezTo>
              </a:path>
              <a:path w="497" h="770">
                <a:moveTo>
                  <a:pt x="21754" y="9376"/>
                </a:moveTo>
                <a:cubicBezTo>
                  <a:pt x="21827" y="9358"/>
                  <a:pt x="21904" y="9328"/>
                  <a:pt x="21977" y="9302"/>
                </a:cubicBezTo>
              </a:path>
              <a:path w="497" h="770">
                <a:moveTo>
                  <a:pt x="21779" y="9103"/>
                </a:moveTo>
                <a:cubicBezTo>
                  <a:pt x="21805" y="9026"/>
                  <a:pt x="21981" y="9026"/>
                  <a:pt x="22051" y="9004"/>
                </a:cubicBezTo>
                <a:cubicBezTo>
                  <a:pt x="22068" y="8996"/>
                  <a:pt x="22084" y="8987"/>
                  <a:pt x="22101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3760" y="4527720"/>
            <a:ext cx="787320" cy="160200"/>
          </a:xfrm>
          <a:custGeom>
            <a:avLst/>
            <a:gdLst/>
            <a:ahLst/>
            <a:rect l="l" t="t" r="r" b="b"/>
            <a:pathLst>
              <a:path w="2184" h="447">
                <a:moveTo>
                  <a:pt x="10716" y="12626"/>
                </a:moveTo>
                <a:cubicBezTo>
                  <a:pt x="10691" y="12626"/>
                  <a:pt x="10683" y="12626"/>
                  <a:pt x="10691" y="12650"/>
                </a:cubicBezTo>
                <a:cubicBezTo>
                  <a:pt x="10807" y="12720"/>
                  <a:pt x="10853" y="12565"/>
                  <a:pt x="10964" y="12576"/>
                </a:cubicBezTo>
                <a:cubicBezTo>
                  <a:pt x="10968" y="12576"/>
                  <a:pt x="11050" y="12668"/>
                  <a:pt x="11088" y="12675"/>
                </a:cubicBezTo>
                <a:cubicBezTo>
                  <a:pt x="11214" y="12697"/>
                  <a:pt x="11162" y="12701"/>
                  <a:pt x="11286" y="12750"/>
                </a:cubicBezTo>
                <a:cubicBezTo>
                  <a:pt x="11438" y="12811"/>
                  <a:pt x="11582" y="12747"/>
                  <a:pt x="11733" y="12725"/>
                </a:cubicBezTo>
                <a:cubicBezTo>
                  <a:pt x="11800" y="12715"/>
                  <a:pt x="11883" y="12750"/>
                  <a:pt x="11956" y="12750"/>
                </a:cubicBezTo>
                <a:cubicBezTo>
                  <a:pt x="12085" y="12750"/>
                  <a:pt x="12199" y="12814"/>
                  <a:pt x="12328" y="12799"/>
                </a:cubicBezTo>
                <a:cubicBezTo>
                  <a:pt x="12427" y="12788"/>
                  <a:pt x="12524" y="12733"/>
                  <a:pt x="12626" y="12750"/>
                </a:cubicBezTo>
                <a:cubicBezTo>
                  <a:pt x="12681" y="12777"/>
                  <a:pt x="12704" y="12785"/>
                  <a:pt x="12750" y="12774"/>
                </a:cubicBezTo>
              </a:path>
              <a:path w="2184" h="447">
                <a:moveTo>
                  <a:pt x="10567" y="12799"/>
                </a:moveTo>
                <a:cubicBezTo>
                  <a:pt x="10590" y="12842"/>
                  <a:pt x="10622" y="12948"/>
                  <a:pt x="10691" y="12948"/>
                </a:cubicBezTo>
                <a:cubicBezTo>
                  <a:pt x="10804" y="12948"/>
                  <a:pt x="10884" y="12818"/>
                  <a:pt x="10988" y="12799"/>
                </a:cubicBezTo>
                <a:cubicBezTo>
                  <a:pt x="11008" y="12795"/>
                  <a:pt x="11193" y="12855"/>
                  <a:pt x="11261" y="12849"/>
                </a:cubicBezTo>
                <a:cubicBezTo>
                  <a:pt x="11410" y="12836"/>
                  <a:pt x="11513" y="12929"/>
                  <a:pt x="11658" y="12948"/>
                </a:cubicBezTo>
                <a:cubicBezTo>
                  <a:pt x="11754" y="12960"/>
                  <a:pt x="11841" y="12941"/>
                  <a:pt x="11931" y="12973"/>
                </a:cubicBezTo>
                <a:cubicBezTo>
                  <a:pt x="12031" y="13008"/>
                  <a:pt x="12122" y="12985"/>
                  <a:pt x="12229" y="12998"/>
                </a:cubicBezTo>
                <a:cubicBezTo>
                  <a:pt x="12329" y="13010"/>
                  <a:pt x="12473" y="13051"/>
                  <a:pt x="12576" y="13022"/>
                </a:cubicBezTo>
                <a:cubicBezTo>
                  <a:pt x="12599" y="13000"/>
                  <a:pt x="12604" y="12992"/>
                  <a:pt x="12626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86680" y="4044960"/>
            <a:ext cx="2187360" cy="590400"/>
          </a:xfrm>
          <a:custGeom>
            <a:avLst/>
            <a:gdLst/>
            <a:ahLst/>
            <a:rect l="l" t="t" r="r" b="b"/>
            <a:pathLst>
              <a:path w="6079" h="1638">
                <a:moveTo>
                  <a:pt x="17562" y="12774"/>
                </a:moveTo>
                <a:cubicBezTo>
                  <a:pt x="18019" y="12774"/>
                  <a:pt x="18474" y="12760"/>
                  <a:pt x="18926" y="12824"/>
                </a:cubicBezTo>
                <a:cubicBezTo>
                  <a:pt x="19146" y="12855"/>
                  <a:pt x="19348" y="12874"/>
                  <a:pt x="19571" y="12874"/>
                </a:cubicBezTo>
                <a:cubicBezTo>
                  <a:pt x="19814" y="12874"/>
                  <a:pt x="20051" y="12866"/>
                  <a:pt x="20290" y="12849"/>
                </a:cubicBezTo>
                <a:cubicBezTo>
                  <a:pt x="20432" y="12839"/>
                  <a:pt x="20571" y="12845"/>
                  <a:pt x="20712" y="12824"/>
                </a:cubicBezTo>
                <a:cubicBezTo>
                  <a:pt x="20839" y="12805"/>
                  <a:pt x="20960" y="12771"/>
                  <a:pt x="21084" y="12750"/>
                </a:cubicBezTo>
                <a:cubicBezTo>
                  <a:pt x="21194" y="12732"/>
                  <a:pt x="21296" y="12703"/>
                  <a:pt x="21406" y="12675"/>
                </a:cubicBezTo>
                <a:cubicBezTo>
                  <a:pt x="21502" y="12650"/>
                  <a:pt x="21613" y="12630"/>
                  <a:pt x="21704" y="12601"/>
                </a:cubicBezTo>
                <a:cubicBezTo>
                  <a:pt x="21791" y="12573"/>
                  <a:pt x="21850" y="12521"/>
                  <a:pt x="21927" y="12477"/>
                </a:cubicBezTo>
                <a:cubicBezTo>
                  <a:pt x="22008" y="12431"/>
                  <a:pt x="22065" y="12409"/>
                  <a:pt x="22126" y="12328"/>
                </a:cubicBezTo>
                <a:cubicBezTo>
                  <a:pt x="22160" y="12283"/>
                  <a:pt x="22202" y="12206"/>
                  <a:pt x="22225" y="12154"/>
                </a:cubicBezTo>
                <a:cubicBezTo>
                  <a:pt x="22251" y="12095"/>
                  <a:pt x="22246" y="12047"/>
                  <a:pt x="22250" y="11981"/>
                </a:cubicBezTo>
                <a:cubicBezTo>
                  <a:pt x="22254" y="11924"/>
                  <a:pt x="22285" y="11928"/>
                  <a:pt x="22225" y="11857"/>
                </a:cubicBezTo>
                <a:cubicBezTo>
                  <a:pt x="22141" y="11759"/>
                  <a:pt x="22017" y="11709"/>
                  <a:pt x="21903" y="11658"/>
                </a:cubicBezTo>
                <a:cubicBezTo>
                  <a:pt x="21797" y="11611"/>
                  <a:pt x="21701" y="11587"/>
                  <a:pt x="21580" y="11584"/>
                </a:cubicBezTo>
                <a:cubicBezTo>
                  <a:pt x="21437" y="11580"/>
                  <a:pt x="21302" y="11562"/>
                  <a:pt x="21158" y="11559"/>
                </a:cubicBezTo>
                <a:cubicBezTo>
                  <a:pt x="21013" y="11556"/>
                  <a:pt x="20879" y="11574"/>
                  <a:pt x="20737" y="11584"/>
                </a:cubicBezTo>
                <a:cubicBezTo>
                  <a:pt x="20481" y="11602"/>
                  <a:pt x="20218" y="11575"/>
                  <a:pt x="19968" y="11559"/>
                </a:cubicBezTo>
                <a:cubicBezTo>
                  <a:pt x="19841" y="11551"/>
                  <a:pt x="19721" y="11549"/>
                  <a:pt x="19596" y="11534"/>
                </a:cubicBezTo>
                <a:cubicBezTo>
                  <a:pt x="19510" y="11523"/>
                  <a:pt x="19397" y="11491"/>
                  <a:pt x="19323" y="11485"/>
                </a:cubicBezTo>
                <a:cubicBezTo>
                  <a:pt x="19207" y="11476"/>
                  <a:pt x="19092" y="11462"/>
                  <a:pt x="18976" y="11460"/>
                </a:cubicBezTo>
                <a:cubicBezTo>
                  <a:pt x="18769" y="11456"/>
                  <a:pt x="18558" y="11446"/>
                  <a:pt x="18355" y="11485"/>
                </a:cubicBezTo>
                <a:cubicBezTo>
                  <a:pt x="18279" y="11500"/>
                  <a:pt x="18205" y="11516"/>
                  <a:pt x="18132" y="11534"/>
                </a:cubicBezTo>
                <a:cubicBezTo>
                  <a:pt x="18086" y="11545"/>
                  <a:pt x="17999" y="11579"/>
                  <a:pt x="17983" y="11584"/>
                </a:cubicBezTo>
                <a:cubicBezTo>
                  <a:pt x="17918" y="11603"/>
                  <a:pt x="17850" y="11607"/>
                  <a:pt x="17785" y="11633"/>
                </a:cubicBezTo>
                <a:cubicBezTo>
                  <a:pt x="17738" y="11652"/>
                  <a:pt x="17648" y="11683"/>
                  <a:pt x="17611" y="11708"/>
                </a:cubicBezTo>
                <a:cubicBezTo>
                  <a:pt x="17554" y="11746"/>
                  <a:pt x="17475" y="11842"/>
                  <a:pt x="17462" y="11906"/>
                </a:cubicBezTo>
                <a:cubicBezTo>
                  <a:pt x="17446" y="11985"/>
                  <a:pt x="17475" y="12058"/>
                  <a:pt x="17487" y="12129"/>
                </a:cubicBezTo>
                <a:cubicBezTo>
                  <a:pt x="17496" y="12182"/>
                  <a:pt x="17502" y="12208"/>
                  <a:pt x="17512" y="12254"/>
                </a:cubicBezTo>
                <a:cubicBezTo>
                  <a:pt x="17528" y="12327"/>
                  <a:pt x="17556" y="12362"/>
                  <a:pt x="17587" y="12427"/>
                </a:cubicBezTo>
                <a:cubicBezTo>
                  <a:pt x="17601" y="12457"/>
                  <a:pt x="17613" y="12530"/>
                  <a:pt x="17636" y="12551"/>
                </a:cubicBezTo>
                <a:cubicBezTo>
                  <a:pt x="17698" y="12609"/>
                  <a:pt x="17818" y="12675"/>
                  <a:pt x="17909" y="12675"/>
                </a:cubicBezTo>
                <a:cubicBezTo>
                  <a:pt x="17994" y="12675"/>
                  <a:pt x="18071" y="12655"/>
                  <a:pt x="18157" y="12650"/>
                </a:cubicBezTo>
              </a:path>
              <a:path w="6079" h="1638">
                <a:moveTo>
                  <a:pt x="22920" y="11485"/>
                </a:moveTo>
                <a:cubicBezTo>
                  <a:pt x="22899" y="11589"/>
                  <a:pt x="22864" y="11699"/>
                  <a:pt x="22845" y="11807"/>
                </a:cubicBezTo>
                <a:cubicBezTo>
                  <a:pt x="22845" y="11815"/>
                  <a:pt x="22845" y="11824"/>
                  <a:pt x="22845" y="11832"/>
                </a:cubicBezTo>
                <a:cubicBezTo>
                  <a:pt x="22828" y="11660"/>
                  <a:pt x="22833" y="11532"/>
                  <a:pt x="22944" y="11385"/>
                </a:cubicBezTo>
                <a:cubicBezTo>
                  <a:pt x="23077" y="11208"/>
                  <a:pt x="23167" y="11497"/>
                  <a:pt x="23192" y="11584"/>
                </a:cubicBezTo>
                <a:cubicBezTo>
                  <a:pt x="23200" y="11617"/>
                  <a:pt x="23209" y="11650"/>
                  <a:pt x="23217" y="11683"/>
                </a:cubicBezTo>
                <a:cubicBezTo>
                  <a:pt x="23209" y="11691"/>
                  <a:pt x="23200" y="11700"/>
                  <a:pt x="23192" y="11708"/>
                </a:cubicBezTo>
                <a:cubicBezTo>
                  <a:pt x="23173" y="11570"/>
                  <a:pt x="23168" y="11534"/>
                  <a:pt x="23217" y="11410"/>
                </a:cubicBezTo>
                <a:cubicBezTo>
                  <a:pt x="23261" y="11297"/>
                  <a:pt x="23330" y="11276"/>
                  <a:pt x="23440" y="11237"/>
                </a:cubicBezTo>
                <a:cubicBezTo>
                  <a:pt x="23540" y="11335"/>
                  <a:pt x="23554" y="11507"/>
                  <a:pt x="23540" y="11658"/>
                </a:cubicBezTo>
                <a:cubicBezTo>
                  <a:pt x="23517" y="11748"/>
                  <a:pt x="23509" y="11772"/>
                  <a:pt x="23515" y="11832"/>
                </a:cubicBezTo>
              </a:path>
              <a:path w="6079" h="1638">
                <a:moveTo>
                  <a:pt x="22969" y="12080"/>
                </a:moveTo>
                <a:cubicBezTo>
                  <a:pt x="22958" y="12197"/>
                  <a:pt x="22944" y="12308"/>
                  <a:pt x="22944" y="12427"/>
                </a:cubicBezTo>
                <a:cubicBezTo>
                  <a:pt x="22944" y="12435"/>
                  <a:pt x="22944" y="12444"/>
                  <a:pt x="22944" y="12452"/>
                </a:cubicBezTo>
              </a:path>
              <a:path w="6079" h="1638">
                <a:moveTo>
                  <a:pt x="22820" y="12055"/>
                </a:moveTo>
                <a:cubicBezTo>
                  <a:pt x="22942" y="12006"/>
                  <a:pt x="23061" y="11963"/>
                  <a:pt x="23192" y="12005"/>
                </a:cubicBezTo>
                <a:cubicBezTo>
                  <a:pt x="23283" y="12034"/>
                  <a:pt x="23427" y="12107"/>
                  <a:pt x="23391" y="12229"/>
                </a:cubicBezTo>
                <a:cubicBezTo>
                  <a:pt x="23344" y="12385"/>
                  <a:pt x="23090" y="12395"/>
                  <a:pt x="22969" y="12427"/>
                </a:cubicBezTo>
                <a:cubicBezTo>
                  <a:pt x="22907" y="12443"/>
                  <a:pt x="22899" y="12452"/>
                  <a:pt x="22845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00080" y="4938840"/>
            <a:ext cx="7116840" cy="473040"/>
          </a:xfrm>
          <a:custGeom>
            <a:avLst/>
            <a:gdLst/>
            <a:ahLst/>
            <a:rect l="l" t="t" r="r" b="b"/>
            <a:pathLst>
              <a:path w="19770" h="1316">
                <a:moveTo>
                  <a:pt x="2803" y="14163"/>
                </a:moveTo>
                <a:cubicBezTo>
                  <a:pt x="2897" y="14194"/>
                  <a:pt x="2792" y="14350"/>
                  <a:pt x="2778" y="14412"/>
                </a:cubicBezTo>
                <a:cubicBezTo>
                  <a:pt x="2778" y="14428"/>
                  <a:pt x="2778" y="14445"/>
                  <a:pt x="2778" y="14461"/>
                </a:cubicBezTo>
                <a:cubicBezTo>
                  <a:pt x="2887" y="14461"/>
                  <a:pt x="2993" y="14408"/>
                  <a:pt x="3101" y="14387"/>
                </a:cubicBezTo>
                <a:cubicBezTo>
                  <a:pt x="3109" y="14387"/>
                  <a:pt x="3117" y="14387"/>
                  <a:pt x="3125" y="14387"/>
                </a:cubicBezTo>
              </a:path>
              <a:path w="19770" h="1316">
                <a:moveTo>
                  <a:pt x="3051" y="14064"/>
                </a:moveTo>
                <a:cubicBezTo>
                  <a:pt x="3059" y="14289"/>
                  <a:pt x="3088" y="14510"/>
                  <a:pt x="3101" y="14734"/>
                </a:cubicBezTo>
              </a:path>
              <a:path w="19770" h="1316">
                <a:moveTo>
                  <a:pt x="3001" y="13841"/>
                </a:moveTo>
                <a:cubicBezTo>
                  <a:pt x="3298" y="13939"/>
                  <a:pt x="3395" y="14247"/>
                  <a:pt x="3398" y="14560"/>
                </a:cubicBezTo>
                <a:cubicBezTo>
                  <a:pt x="3399" y="14661"/>
                  <a:pt x="3295" y="15008"/>
                  <a:pt x="3150" y="15032"/>
                </a:cubicBezTo>
                <a:cubicBezTo>
                  <a:pt x="3150" y="15024"/>
                  <a:pt x="3150" y="15015"/>
                  <a:pt x="3150" y="15007"/>
                </a:cubicBezTo>
              </a:path>
              <a:path w="19770" h="1316">
                <a:moveTo>
                  <a:pt x="22547" y="13717"/>
                </a:moveTo>
                <a:lnTo>
                  <a:pt x="22547" y="13717"/>
                </a:lnTo>
                <a:lnTo>
                  <a:pt x="22547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920" y="4589640"/>
            <a:ext cx="6527880" cy="965160"/>
          </a:xfrm>
          <a:custGeom>
            <a:avLst/>
            <a:gdLst/>
            <a:ahLst/>
            <a:rect l="l" t="t" r="r" b="b"/>
            <a:pathLst>
              <a:path w="18133" h="2680">
                <a:moveTo>
                  <a:pt x="6970" y="14982"/>
                </a:moveTo>
                <a:cubicBezTo>
                  <a:pt x="7033" y="15021"/>
                  <a:pt x="7120" y="15104"/>
                  <a:pt x="7193" y="15131"/>
                </a:cubicBezTo>
                <a:cubicBezTo>
                  <a:pt x="7373" y="15199"/>
                  <a:pt x="7431" y="15095"/>
                  <a:pt x="7590" y="15032"/>
                </a:cubicBezTo>
                <a:cubicBezTo>
                  <a:pt x="7770" y="14961"/>
                  <a:pt x="7685" y="14993"/>
                  <a:pt x="7838" y="15056"/>
                </a:cubicBezTo>
                <a:cubicBezTo>
                  <a:pt x="8000" y="15123"/>
                  <a:pt x="8016" y="15122"/>
                  <a:pt x="8186" y="15081"/>
                </a:cubicBezTo>
                <a:cubicBezTo>
                  <a:pt x="8381" y="15033"/>
                  <a:pt x="8437" y="15035"/>
                  <a:pt x="8632" y="15081"/>
                </a:cubicBezTo>
                <a:cubicBezTo>
                  <a:pt x="8862" y="15135"/>
                  <a:pt x="8910" y="15088"/>
                  <a:pt x="9128" y="15032"/>
                </a:cubicBezTo>
                <a:cubicBezTo>
                  <a:pt x="9316" y="14983"/>
                  <a:pt x="9422" y="15003"/>
                  <a:pt x="9599" y="15032"/>
                </a:cubicBezTo>
                <a:cubicBezTo>
                  <a:pt x="9735" y="15054"/>
                  <a:pt x="9756" y="15056"/>
                  <a:pt x="9922" y="15032"/>
                </a:cubicBezTo>
                <a:cubicBezTo>
                  <a:pt x="10165" y="14996"/>
                  <a:pt x="10285" y="15055"/>
                  <a:pt x="10517" y="15106"/>
                </a:cubicBezTo>
                <a:cubicBezTo>
                  <a:pt x="10761" y="15160"/>
                  <a:pt x="10925" y="15074"/>
                  <a:pt x="11162" y="15056"/>
                </a:cubicBezTo>
                <a:cubicBezTo>
                  <a:pt x="11308" y="15045"/>
                  <a:pt x="11440" y="15091"/>
                  <a:pt x="11584" y="15081"/>
                </a:cubicBezTo>
                <a:cubicBezTo>
                  <a:pt x="11849" y="15063"/>
                  <a:pt x="12092" y="15110"/>
                  <a:pt x="12353" y="15106"/>
                </a:cubicBezTo>
                <a:cubicBezTo>
                  <a:pt x="12602" y="15102"/>
                  <a:pt x="12845" y="15031"/>
                  <a:pt x="13097" y="15056"/>
                </a:cubicBezTo>
                <a:cubicBezTo>
                  <a:pt x="13334" y="15080"/>
                  <a:pt x="13573" y="15036"/>
                  <a:pt x="13816" y="15032"/>
                </a:cubicBezTo>
                <a:cubicBezTo>
                  <a:pt x="14028" y="15029"/>
                  <a:pt x="14208" y="14959"/>
                  <a:pt x="14412" y="14932"/>
                </a:cubicBezTo>
                <a:cubicBezTo>
                  <a:pt x="14519" y="14932"/>
                  <a:pt x="14527" y="14932"/>
                  <a:pt x="14585" y="14932"/>
                </a:cubicBezTo>
              </a:path>
              <a:path w="18133" h="2680">
                <a:moveTo>
                  <a:pt x="8682" y="15255"/>
                </a:moveTo>
                <a:cubicBezTo>
                  <a:pt x="8692" y="15313"/>
                  <a:pt x="8700" y="15370"/>
                  <a:pt x="8706" y="15429"/>
                </a:cubicBezTo>
                <a:cubicBezTo>
                  <a:pt x="8834" y="15415"/>
                  <a:pt x="8869" y="15348"/>
                  <a:pt x="8979" y="15280"/>
                </a:cubicBezTo>
                <a:cubicBezTo>
                  <a:pt x="8987" y="15280"/>
                  <a:pt x="8996" y="15280"/>
                  <a:pt x="9004" y="15280"/>
                </a:cubicBezTo>
                <a:cubicBezTo>
                  <a:pt x="9052" y="15374"/>
                  <a:pt x="9078" y="15411"/>
                  <a:pt x="9203" y="15379"/>
                </a:cubicBezTo>
                <a:cubicBezTo>
                  <a:pt x="9260" y="15364"/>
                  <a:pt x="9432" y="15215"/>
                  <a:pt x="9475" y="15230"/>
                </a:cubicBezTo>
                <a:cubicBezTo>
                  <a:pt x="9572" y="15265"/>
                  <a:pt x="9547" y="15342"/>
                  <a:pt x="9699" y="15280"/>
                </a:cubicBezTo>
                <a:cubicBezTo>
                  <a:pt x="9786" y="15244"/>
                  <a:pt x="9894" y="15175"/>
                  <a:pt x="9971" y="15131"/>
                </a:cubicBezTo>
                <a:cubicBezTo>
                  <a:pt x="10039" y="15224"/>
                  <a:pt x="10025" y="15186"/>
                  <a:pt x="10170" y="15180"/>
                </a:cubicBezTo>
                <a:cubicBezTo>
                  <a:pt x="10302" y="15174"/>
                  <a:pt x="10367" y="15186"/>
                  <a:pt x="10468" y="15255"/>
                </a:cubicBezTo>
                <a:cubicBezTo>
                  <a:pt x="10492" y="15271"/>
                  <a:pt x="10536" y="15306"/>
                  <a:pt x="10592" y="15304"/>
                </a:cubicBezTo>
                <a:cubicBezTo>
                  <a:pt x="10654" y="15302"/>
                  <a:pt x="10702" y="15259"/>
                  <a:pt x="10765" y="15255"/>
                </a:cubicBezTo>
                <a:cubicBezTo>
                  <a:pt x="10798" y="15253"/>
                  <a:pt x="10831" y="15255"/>
                  <a:pt x="10864" y="15255"/>
                </a:cubicBezTo>
              </a:path>
              <a:path w="18133" h="2680">
                <a:moveTo>
                  <a:pt x="16321" y="14808"/>
                </a:moveTo>
                <a:cubicBezTo>
                  <a:pt x="16416" y="14830"/>
                  <a:pt x="16503" y="14863"/>
                  <a:pt x="16594" y="14883"/>
                </a:cubicBezTo>
                <a:cubicBezTo>
                  <a:pt x="16669" y="14899"/>
                  <a:pt x="16741" y="14897"/>
                  <a:pt x="16818" y="14908"/>
                </a:cubicBezTo>
                <a:cubicBezTo>
                  <a:pt x="17075" y="14945"/>
                  <a:pt x="17331" y="14971"/>
                  <a:pt x="17587" y="15007"/>
                </a:cubicBezTo>
                <a:cubicBezTo>
                  <a:pt x="17791" y="15036"/>
                  <a:pt x="18002" y="15064"/>
                  <a:pt x="18207" y="15081"/>
                </a:cubicBezTo>
                <a:cubicBezTo>
                  <a:pt x="18363" y="15094"/>
                  <a:pt x="18523" y="15103"/>
                  <a:pt x="18678" y="15106"/>
                </a:cubicBezTo>
                <a:cubicBezTo>
                  <a:pt x="19100" y="15115"/>
                  <a:pt x="19581" y="15160"/>
                  <a:pt x="19993" y="15081"/>
                </a:cubicBezTo>
                <a:cubicBezTo>
                  <a:pt x="20120" y="15057"/>
                  <a:pt x="20240" y="15015"/>
                  <a:pt x="20365" y="14982"/>
                </a:cubicBezTo>
                <a:cubicBezTo>
                  <a:pt x="20550" y="14933"/>
                  <a:pt x="20692" y="14857"/>
                  <a:pt x="20836" y="14734"/>
                </a:cubicBezTo>
                <a:cubicBezTo>
                  <a:pt x="20893" y="14686"/>
                  <a:pt x="20990" y="14614"/>
                  <a:pt x="21034" y="14560"/>
                </a:cubicBezTo>
                <a:cubicBezTo>
                  <a:pt x="21114" y="14462"/>
                  <a:pt x="21163" y="14356"/>
                  <a:pt x="21183" y="14238"/>
                </a:cubicBezTo>
                <a:cubicBezTo>
                  <a:pt x="21197" y="14155"/>
                  <a:pt x="21174" y="14127"/>
                  <a:pt x="21134" y="14064"/>
                </a:cubicBezTo>
                <a:cubicBezTo>
                  <a:pt x="21026" y="13896"/>
                  <a:pt x="20788" y="13876"/>
                  <a:pt x="20613" y="13841"/>
                </a:cubicBezTo>
                <a:cubicBezTo>
                  <a:pt x="20455" y="13809"/>
                  <a:pt x="20302" y="13816"/>
                  <a:pt x="20141" y="13816"/>
                </a:cubicBezTo>
                <a:cubicBezTo>
                  <a:pt x="19947" y="13816"/>
                  <a:pt x="19740" y="13808"/>
                  <a:pt x="19546" y="13791"/>
                </a:cubicBezTo>
                <a:cubicBezTo>
                  <a:pt x="19378" y="13776"/>
                  <a:pt x="19218" y="13746"/>
                  <a:pt x="19050" y="13742"/>
                </a:cubicBezTo>
                <a:cubicBezTo>
                  <a:pt x="18906" y="13738"/>
                  <a:pt x="18771" y="13720"/>
                  <a:pt x="18628" y="13717"/>
                </a:cubicBezTo>
                <a:cubicBezTo>
                  <a:pt x="18377" y="13711"/>
                  <a:pt x="18130" y="13722"/>
                  <a:pt x="17884" y="13742"/>
                </a:cubicBezTo>
                <a:cubicBezTo>
                  <a:pt x="17745" y="13753"/>
                  <a:pt x="17598" y="13757"/>
                  <a:pt x="17462" y="13767"/>
                </a:cubicBezTo>
                <a:cubicBezTo>
                  <a:pt x="17380" y="13773"/>
                  <a:pt x="17291" y="13785"/>
                  <a:pt x="17214" y="13791"/>
                </a:cubicBezTo>
                <a:cubicBezTo>
                  <a:pt x="17153" y="13796"/>
                  <a:pt x="17118" y="13805"/>
                  <a:pt x="17066" y="13816"/>
                </a:cubicBezTo>
                <a:cubicBezTo>
                  <a:pt x="17004" y="13830"/>
                  <a:pt x="16957" y="13850"/>
                  <a:pt x="16892" y="13866"/>
                </a:cubicBezTo>
                <a:cubicBezTo>
                  <a:pt x="16845" y="13878"/>
                  <a:pt x="16787" y="13889"/>
                  <a:pt x="16743" y="13915"/>
                </a:cubicBezTo>
                <a:cubicBezTo>
                  <a:pt x="16700" y="13941"/>
                  <a:pt x="16622" y="13987"/>
                  <a:pt x="16594" y="14015"/>
                </a:cubicBezTo>
                <a:cubicBezTo>
                  <a:pt x="16517" y="14092"/>
                  <a:pt x="16460" y="14176"/>
                  <a:pt x="16446" y="14288"/>
                </a:cubicBezTo>
                <a:cubicBezTo>
                  <a:pt x="16432" y="14398"/>
                  <a:pt x="16465" y="14482"/>
                  <a:pt x="16495" y="14585"/>
                </a:cubicBezTo>
                <a:cubicBezTo>
                  <a:pt x="16529" y="14699"/>
                  <a:pt x="16545" y="14766"/>
                  <a:pt x="16644" y="14833"/>
                </a:cubicBezTo>
                <a:cubicBezTo>
                  <a:pt x="16687" y="14862"/>
                  <a:pt x="16815" y="14873"/>
                  <a:pt x="16867" y="14883"/>
                </a:cubicBezTo>
                <a:cubicBezTo>
                  <a:pt x="16875" y="14883"/>
                  <a:pt x="16884" y="14883"/>
                  <a:pt x="16892" y="14883"/>
                </a:cubicBezTo>
              </a:path>
              <a:path w="18133" h="2680">
                <a:moveTo>
                  <a:pt x="25102" y="12750"/>
                </a:moveTo>
                <a:cubicBezTo>
                  <a:pt x="25056" y="12765"/>
                  <a:pt x="25002" y="12870"/>
                  <a:pt x="24954" y="12923"/>
                </a:cubicBezTo>
              </a:path>
              <a:path w="18133" h="2680">
                <a:moveTo>
                  <a:pt x="23019" y="13791"/>
                </a:moveTo>
                <a:cubicBezTo>
                  <a:pt x="23034" y="13747"/>
                  <a:pt x="23057" y="13775"/>
                  <a:pt x="22994" y="13841"/>
                </a:cubicBezTo>
                <a:cubicBezTo>
                  <a:pt x="22944" y="13894"/>
                  <a:pt x="22910" y="13907"/>
                  <a:pt x="22895" y="13965"/>
                </a:cubicBezTo>
                <a:cubicBezTo>
                  <a:pt x="22895" y="13892"/>
                  <a:pt x="22906" y="13832"/>
                  <a:pt x="22944" y="13767"/>
                </a:cubicBezTo>
                <a:cubicBezTo>
                  <a:pt x="23013" y="13648"/>
                  <a:pt x="23071" y="13604"/>
                  <a:pt x="23192" y="13543"/>
                </a:cubicBezTo>
                <a:cubicBezTo>
                  <a:pt x="23283" y="13621"/>
                  <a:pt x="23315" y="13740"/>
                  <a:pt x="23267" y="13866"/>
                </a:cubicBezTo>
                <a:cubicBezTo>
                  <a:pt x="23223" y="13931"/>
                  <a:pt x="23212" y="13945"/>
                  <a:pt x="23192" y="13990"/>
                </a:cubicBezTo>
              </a:path>
              <a:path w="18133" h="2680">
                <a:moveTo>
                  <a:pt x="22920" y="13816"/>
                </a:moveTo>
                <a:cubicBezTo>
                  <a:pt x="23060" y="13816"/>
                  <a:pt x="23201" y="13816"/>
                  <a:pt x="23341" y="13816"/>
                </a:cubicBezTo>
              </a:path>
              <a:path w="18133" h="2680">
                <a:moveTo>
                  <a:pt x="23143" y="14139"/>
                </a:moveTo>
                <a:cubicBezTo>
                  <a:pt x="23058" y="14139"/>
                  <a:pt x="22945" y="14117"/>
                  <a:pt x="22870" y="14163"/>
                </a:cubicBezTo>
                <a:cubicBezTo>
                  <a:pt x="22833" y="14185"/>
                  <a:pt x="22805" y="14226"/>
                  <a:pt x="22796" y="14263"/>
                </a:cubicBezTo>
                <a:cubicBezTo>
                  <a:pt x="22866" y="14310"/>
                  <a:pt x="22937" y="14312"/>
                  <a:pt x="23019" y="14337"/>
                </a:cubicBezTo>
                <a:cubicBezTo>
                  <a:pt x="23095" y="14361"/>
                  <a:pt x="23162" y="14410"/>
                  <a:pt x="23192" y="14486"/>
                </a:cubicBezTo>
                <a:cubicBezTo>
                  <a:pt x="23214" y="14543"/>
                  <a:pt x="23123" y="14577"/>
                  <a:pt x="23093" y="14585"/>
                </a:cubicBezTo>
                <a:cubicBezTo>
                  <a:pt x="23034" y="14600"/>
                  <a:pt x="22894" y="14617"/>
                  <a:pt x="22845" y="14560"/>
                </a:cubicBezTo>
                <a:cubicBezTo>
                  <a:pt x="22845" y="14552"/>
                  <a:pt x="22845" y="14544"/>
                  <a:pt x="2284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13800" y="2224080"/>
            <a:ext cx="231480" cy="3650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21853" y="6623"/>
                </a:moveTo>
                <a:cubicBezTo>
                  <a:pt x="21853" y="6585"/>
                  <a:pt x="21876" y="6961"/>
                  <a:pt x="21878" y="6995"/>
                </a:cubicBezTo>
                <a:cubicBezTo>
                  <a:pt x="21878" y="7111"/>
                  <a:pt x="21878" y="7127"/>
                  <a:pt x="21878" y="7193"/>
                </a:cubicBezTo>
                <a:cubicBezTo>
                  <a:pt x="21828" y="7044"/>
                  <a:pt x="21808" y="6937"/>
                  <a:pt x="21803" y="6772"/>
                </a:cubicBezTo>
                <a:cubicBezTo>
                  <a:pt x="21797" y="6570"/>
                  <a:pt x="21827" y="6358"/>
                  <a:pt x="22002" y="6226"/>
                </a:cubicBezTo>
                <a:cubicBezTo>
                  <a:pt x="22159" y="6108"/>
                  <a:pt x="22317" y="6230"/>
                  <a:pt x="22349" y="6400"/>
                </a:cubicBezTo>
                <a:cubicBezTo>
                  <a:pt x="22389" y="6611"/>
                  <a:pt x="22224" y="6710"/>
                  <a:pt x="22051" y="6772"/>
                </a:cubicBezTo>
                <a:cubicBezTo>
                  <a:pt x="21923" y="6818"/>
                  <a:pt x="21841" y="6759"/>
                  <a:pt x="21729" y="6722"/>
                </a:cubicBezTo>
                <a:cubicBezTo>
                  <a:pt x="21721" y="6722"/>
                  <a:pt x="21712" y="6722"/>
                  <a:pt x="21704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5840" y="4518000"/>
            <a:ext cx="2884320" cy="63360"/>
          </a:xfrm>
          <a:custGeom>
            <a:avLst/>
            <a:gdLst/>
            <a:ahLst/>
            <a:rect l="l" t="t" r="r" b="b"/>
            <a:pathLst>
              <a:path w="8012" h="175">
                <a:moveTo>
                  <a:pt x="7293" y="12601"/>
                </a:moveTo>
                <a:cubicBezTo>
                  <a:pt x="7358" y="12612"/>
                  <a:pt x="7426" y="12614"/>
                  <a:pt x="7491" y="12626"/>
                </a:cubicBezTo>
                <a:cubicBezTo>
                  <a:pt x="7552" y="12637"/>
                  <a:pt x="7613" y="12662"/>
                  <a:pt x="7689" y="12650"/>
                </a:cubicBezTo>
                <a:cubicBezTo>
                  <a:pt x="7813" y="12630"/>
                  <a:pt x="7907" y="12596"/>
                  <a:pt x="8037" y="12601"/>
                </a:cubicBezTo>
                <a:cubicBezTo>
                  <a:pt x="8194" y="12608"/>
                  <a:pt x="8328" y="12607"/>
                  <a:pt x="8483" y="12601"/>
                </a:cubicBezTo>
                <a:cubicBezTo>
                  <a:pt x="8625" y="12595"/>
                  <a:pt x="8793" y="12572"/>
                  <a:pt x="8930" y="12576"/>
                </a:cubicBezTo>
                <a:cubicBezTo>
                  <a:pt x="9056" y="12580"/>
                  <a:pt x="9175" y="12599"/>
                  <a:pt x="9302" y="12601"/>
                </a:cubicBezTo>
                <a:cubicBezTo>
                  <a:pt x="9519" y="12605"/>
                  <a:pt x="9732" y="12622"/>
                  <a:pt x="9947" y="12626"/>
                </a:cubicBezTo>
                <a:cubicBezTo>
                  <a:pt x="10156" y="12630"/>
                  <a:pt x="10360" y="12627"/>
                  <a:pt x="10567" y="12650"/>
                </a:cubicBezTo>
                <a:cubicBezTo>
                  <a:pt x="10684" y="12663"/>
                  <a:pt x="10795" y="12673"/>
                  <a:pt x="10914" y="12675"/>
                </a:cubicBezTo>
                <a:cubicBezTo>
                  <a:pt x="11020" y="12677"/>
                  <a:pt x="11110" y="12687"/>
                  <a:pt x="11212" y="12700"/>
                </a:cubicBezTo>
                <a:cubicBezTo>
                  <a:pt x="11285" y="12710"/>
                  <a:pt x="11362" y="12728"/>
                  <a:pt x="11435" y="12725"/>
                </a:cubicBezTo>
                <a:cubicBezTo>
                  <a:pt x="11578" y="12720"/>
                  <a:pt x="11711" y="12700"/>
                  <a:pt x="11857" y="12700"/>
                </a:cubicBezTo>
                <a:cubicBezTo>
                  <a:pt x="12002" y="12700"/>
                  <a:pt x="12164" y="12671"/>
                  <a:pt x="12303" y="12675"/>
                </a:cubicBezTo>
                <a:cubicBezTo>
                  <a:pt x="12437" y="12679"/>
                  <a:pt x="12513" y="12679"/>
                  <a:pt x="12650" y="12650"/>
                </a:cubicBezTo>
                <a:cubicBezTo>
                  <a:pt x="12777" y="12623"/>
                  <a:pt x="12918" y="12576"/>
                  <a:pt x="13047" y="12576"/>
                </a:cubicBezTo>
                <a:cubicBezTo>
                  <a:pt x="13146" y="12576"/>
                  <a:pt x="13265" y="12599"/>
                  <a:pt x="13370" y="12601"/>
                </a:cubicBezTo>
                <a:cubicBezTo>
                  <a:pt x="13531" y="12604"/>
                  <a:pt x="13682" y="12579"/>
                  <a:pt x="13841" y="12576"/>
                </a:cubicBezTo>
                <a:cubicBezTo>
                  <a:pt x="14319" y="12568"/>
                  <a:pt x="14870" y="12602"/>
                  <a:pt x="1530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800" spc="-1" strike="noStrike">
                <a:solidFill>
                  <a:srgbClr val="9ca8a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e can use brackets (like this ) to identify which operation we are evaluating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(11 – 5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 + 7 x 2 - 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20 – (3 x 5)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 x 1 +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+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5" idx="1"/>
            <a:endCxn id="265" idx="1"/>
          </p:cNvCxnSpPr>
          <p:nvPr/>
        </p:nvCxnSpPr>
        <p:spPr>
          <a:xfrm>
            <a:off x="456840" y="32382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830160" y="347760"/>
            <a:ext cx="6456600" cy="4268520"/>
          </a:xfrm>
          <a:custGeom>
            <a:avLst/>
            <a:gdLst/>
            <a:ahLst/>
            <a:rect l="l" t="t" r="r" b="b"/>
            <a:pathLst>
              <a:path w="17935" h="11858">
                <a:moveTo>
                  <a:pt x="20216" y="967"/>
                </a:moveTo>
                <a:cubicBezTo>
                  <a:pt x="20224" y="967"/>
                  <a:pt x="20233" y="967"/>
                  <a:pt x="20241" y="967"/>
                </a:cubicBezTo>
              </a:path>
              <a:path w="17935" h="11858">
                <a:moveTo>
                  <a:pt x="2307" y="10939"/>
                </a:moveTo>
                <a:cubicBezTo>
                  <a:pt x="2307" y="10947"/>
                  <a:pt x="2307" y="10956"/>
                  <a:pt x="2307" y="10964"/>
                </a:cubicBezTo>
              </a:path>
              <a:path w="17935" h="11858">
                <a:moveTo>
                  <a:pt x="10195" y="12725"/>
                </a:moveTo>
                <a:cubicBezTo>
                  <a:pt x="10230" y="12760"/>
                  <a:pt x="10243" y="12782"/>
                  <a:pt x="10244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24880" y="98280"/>
            <a:ext cx="696960" cy="1866960"/>
          </a:xfrm>
          <a:custGeom>
            <a:avLst/>
            <a:gdLst/>
            <a:ahLst/>
            <a:rect l="l" t="t" r="r" b="b"/>
            <a:pathLst>
              <a:path w="1936" h="5185">
                <a:moveTo>
                  <a:pt x="22473" y="868"/>
                </a:moveTo>
                <a:cubicBezTo>
                  <a:pt x="22473" y="760"/>
                  <a:pt x="22482" y="1034"/>
                  <a:pt x="22473" y="1141"/>
                </a:cubicBezTo>
                <a:cubicBezTo>
                  <a:pt x="22466" y="1225"/>
                  <a:pt x="22486" y="1525"/>
                  <a:pt x="22423" y="1588"/>
                </a:cubicBezTo>
                <a:cubicBezTo>
                  <a:pt x="22423" y="1580"/>
                  <a:pt x="22423" y="1571"/>
                  <a:pt x="22423" y="1563"/>
                </a:cubicBezTo>
              </a:path>
              <a:path w="1936" h="5185">
                <a:moveTo>
                  <a:pt x="22126" y="843"/>
                </a:moveTo>
                <a:cubicBezTo>
                  <a:pt x="22209" y="720"/>
                  <a:pt x="22303" y="722"/>
                  <a:pt x="22448" y="719"/>
                </a:cubicBezTo>
                <a:cubicBezTo>
                  <a:pt x="22560" y="716"/>
                  <a:pt x="22750" y="696"/>
                  <a:pt x="22771" y="843"/>
                </a:cubicBezTo>
                <a:cubicBezTo>
                  <a:pt x="22800" y="1046"/>
                  <a:pt x="22615" y="1108"/>
                  <a:pt x="22448" y="1141"/>
                </a:cubicBezTo>
                <a:cubicBezTo>
                  <a:pt x="22404" y="1141"/>
                  <a:pt x="22390" y="1144"/>
                  <a:pt x="22374" y="1116"/>
                </a:cubicBezTo>
              </a:path>
              <a:path w="1936" h="5185">
                <a:moveTo>
                  <a:pt x="22572" y="1836"/>
                </a:moveTo>
                <a:cubicBezTo>
                  <a:pt x="22541" y="1773"/>
                  <a:pt x="22470" y="1750"/>
                  <a:pt x="22399" y="1786"/>
                </a:cubicBezTo>
                <a:cubicBezTo>
                  <a:pt x="22342" y="1815"/>
                  <a:pt x="22290" y="1869"/>
                  <a:pt x="22275" y="1935"/>
                </a:cubicBezTo>
                <a:cubicBezTo>
                  <a:pt x="22258" y="2012"/>
                  <a:pt x="22319" y="2062"/>
                  <a:pt x="22399" y="2059"/>
                </a:cubicBezTo>
                <a:cubicBezTo>
                  <a:pt x="22463" y="2057"/>
                  <a:pt x="22514" y="2021"/>
                  <a:pt x="22572" y="2009"/>
                </a:cubicBezTo>
                <a:cubicBezTo>
                  <a:pt x="22520" y="2009"/>
                  <a:pt x="22465" y="2024"/>
                  <a:pt x="22423" y="2059"/>
                </a:cubicBezTo>
                <a:cubicBezTo>
                  <a:pt x="22345" y="2123"/>
                  <a:pt x="22304" y="2209"/>
                  <a:pt x="22299" y="2307"/>
                </a:cubicBezTo>
                <a:cubicBezTo>
                  <a:pt x="22293" y="2405"/>
                  <a:pt x="22350" y="2418"/>
                  <a:pt x="22448" y="2406"/>
                </a:cubicBezTo>
                <a:cubicBezTo>
                  <a:pt x="22511" y="2398"/>
                  <a:pt x="22682" y="2353"/>
                  <a:pt x="22721" y="2307"/>
                </a:cubicBezTo>
                <a:cubicBezTo>
                  <a:pt x="22721" y="2282"/>
                  <a:pt x="22721" y="2274"/>
                  <a:pt x="22746" y="2282"/>
                </a:cubicBezTo>
              </a:path>
              <a:path w="1936" h="5185">
                <a:moveTo>
                  <a:pt x="22349" y="2654"/>
                </a:moveTo>
                <a:cubicBezTo>
                  <a:pt x="22328" y="2744"/>
                  <a:pt x="22324" y="3019"/>
                  <a:pt x="22324" y="2927"/>
                </a:cubicBezTo>
                <a:cubicBezTo>
                  <a:pt x="22324" y="2910"/>
                  <a:pt x="22324" y="2894"/>
                  <a:pt x="22324" y="2877"/>
                </a:cubicBezTo>
                <a:cubicBezTo>
                  <a:pt x="22336" y="2817"/>
                  <a:pt x="22349" y="2755"/>
                  <a:pt x="22374" y="2704"/>
                </a:cubicBezTo>
                <a:cubicBezTo>
                  <a:pt x="22403" y="2647"/>
                  <a:pt x="22497" y="2551"/>
                  <a:pt x="22572" y="2604"/>
                </a:cubicBezTo>
                <a:cubicBezTo>
                  <a:pt x="22692" y="2690"/>
                  <a:pt x="22671" y="2821"/>
                  <a:pt x="22671" y="2952"/>
                </a:cubicBezTo>
                <a:cubicBezTo>
                  <a:pt x="22653" y="2858"/>
                  <a:pt x="22659" y="2800"/>
                  <a:pt x="22671" y="2704"/>
                </a:cubicBezTo>
                <a:cubicBezTo>
                  <a:pt x="22683" y="2608"/>
                  <a:pt x="22731" y="2591"/>
                  <a:pt x="22820" y="2580"/>
                </a:cubicBezTo>
                <a:cubicBezTo>
                  <a:pt x="22892" y="2709"/>
                  <a:pt x="22905" y="2734"/>
                  <a:pt x="22895" y="2877"/>
                </a:cubicBezTo>
                <a:cubicBezTo>
                  <a:pt x="22886" y="3010"/>
                  <a:pt x="22902" y="2930"/>
                  <a:pt x="22870" y="2877"/>
                </a:cubicBezTo>
              </a:path>
              <a:path w="1936" h="5185">
                <a:moveTo>
                  <a:pt x="22448" y="3076"/>
                </a:moveTo>
                <a:cubicBezTo>
                  <a:pt x="22411" y="3075"/>
                  <a:pt x="22423" y="3281"/>
                  <a:pt x="22423" y="3373"/>
                </a:cubicBezTo>
                <a:cubicBezTo>
                  <a:pt x="22423" y="3415"/>
                  <a:pt x="22423" y="3423"/>
                  <a:pt x="22423" y="3448"/>
                </a:cubicBezTo>
              </a:path>
              <a:path w="1936" h="5185">
                <a:moveTo>
                  <a:pt x="22175" y="3101"/>
                </a:moveTo>
                <a:cubicBezTo>
                  <a:pt x="22334" y="3055"/>
                  <a:pt x="22483" y="3025"/>
                  <a:pt x="22647" y="3076"/>
                </a:cubicBezTo>
                <a:cubicBezTo>
                  <a:pt x="22754" y="3109"/>
                  <a:pt x="22729" y="3278"/>
                  <a:pt x="22696" y="3349"/>
                </a:cubicBezTo>
                <a:cubicBezTo>
                  <a:pt x="22645" y="3460"/>
                  <a:pt x="22531" y="3493"/>
                  <a:pt x="22423" y="3522"/>
                </a:cubicBezTo>
                <a:cubicBezTo>
                  <a:pt x="22399" y="3522"/>
                  <a:pt x="22390" y="3522"/>
                  <a:pt x="22374" y="3522"/>
                </a:cubicBezTo>
              </a:path>
              <a:path w="1936" h="5185">
                <a:moveTo>
                  <a:pt x="22423" y="3721"/>
                </a:moveTo>
                <a:cubicBezTo>
                  <a:pt x="22417" y="3813"/>
                  <a:pt x="22405" y="3902"/>
                  <a:pt x="22399" y="3994"/>
                </a:cubicBezTo>
                <a:cubicBezTo>
                  <a:pt x="22399" y="4069"/>
                  <a:pt x="22416" y="3894"/>
                  <a:pt x="22423" y="3820"/>
                </a:cubicBezTo>
                <a:cubicBezTo>
                  <a:pt x="22432" y="3719"/>
                  <a:pt x="22471" y="3672"/>
                  <a:pt x="22572" y="3621"/>
                </a:cubicBezTo>
                <a:cubicBezTo>
                  <a:pt x="22653" y="3580"/>
                  <a:pt x="22735" y="3743"/>
                  <a:pt x="22746" y="3795"/>
                </a:cubicBezTo>
                <a:cubicBezTo>
                  <a:pt x="22761" y="3862"/>
                  <a:pt x="22746" y="3948"/>
                  <a:pt x="22746" y="4018"/>
                </a:cubicBezTo>
              </a:path>
              <a:path w="1936" h="5185">
                <a:moveTo>
                  <a:pt x="22448" y="3919"/>
                </a:moveTo>
                <a:cubicBezTo>
                  <a:pt x="22534" y="3896"/>
                  <a:pt x="22608" y="3870"/>
                  <a:pt x="22696" y="3870"/>
                </a:cubicBezTo>
              </a:path>
              <a:path w="1936" h="5185">
                <a:moveTo>
                  <a:pt x="22647" y="4415"/>
                </a:moveTo>
                <a:cubicBezTo>
                  <a:pt x="22682" y="4397"/>
                  <a:pt x="22612" y="4352"/>
                  <a:pt x="22572" y="4341"/>
                </a:cubicBezTo>
                <a:cubicBezTo>
                  <a:pt x="22493" y="4320"/>
                  <a:pt x="22439" y="4419"/>
                  <a:pt x="22399" y="4465"/>
                </a:cubicBezTo>
                <a:cubicBezTo>
                  <a:pt x="22373" y="4495"/>
                  <a:pt x="22364" y="4552"/>
                  <a:pt x="22423" y="4564"/>
                </a:cubicBezTo>
                <a:cubicBezTo>
                  <a:pt x="22496" y="4580"/>
                  <a:pt x="22589" y="4523"/>
                  <a:pt x="22647" y="4539"/>
                </a:cubicBezTo>
                <a:cubicBezTo>
                  <a:pt x="22719" y="4559"/>
                  <a:pt x="22786" y="4563"/>
                  <a:pt x="22820" y="4638"/>
                </a:cubicBezTo>
                <a:cubicBezTo>
                  <a:pt x="22857" y="4720"/>
                  <a:pt x="22867" y="4802"/>
                  <a:pt x="22796" y="4862"/>
                </a:cubicBezTo>
                <a:cubicBezTo>
                  <a:pt x="22715" y="4931"/>
                  <a:pt x="22616" y="4926"/>
                  <a:pt x="22523" y="4887"/>
                </a:cubicBezTo>
                <a:cubicBezTo>
                  <a:pt x="22479" y="4865"/>
                  <a:pt x="22467" y="4862"/>
                  <a:pt x="22448" y="4837"/>
                </a:cubicBezTo>
              </a:path>
              <a:path w="1936" h="5185">
                <a:moveTo>
                  <a:pt x="21530" y="695"/>
                </a:moveTo>
                <a:cubicBezTo>
                  <a:pt x="21530" y="1106"/>
                  <a:pt x="21620" y="1482"/>
                  <a:pt x="21654" y="1885"/>
                </a:cubicBezTo>
                <a:cubicBezTo>
                  <a:pt x="21677" y="2159"/>
                  <a:pt x="21711" y="2430"/>
                  <a:pt x="21754" y="2704"/>
                </a:cubicBezTo>
                <a:cubicBezTo>
                  <a:pt x="21787" y="2917"/>
                  <a:pt x="21834" y="3108"/>
                  <a:pt x="21853" y="3324"/>
                </a:cubicBezTo>
                <a:cubicBezTo>
                  <a:pt x="21872" y="3544"/>
                  <a:pt x="21880" y="3773"/>
                  <a:pt x="21903" y="3994"/>
                </a:cubicBezTo>
                <a:cubicBezTo>
                  <a:pt x="21921" y="4167"/>
                  <a:pt x="21938" y="4321"/>
                  <a:pt x="21927" y="4490"/>
                </a:cubicBezTo>
                <a:cubicBezTo>
                  <a:pt x="21917" y="4632"/>
                  <a:pt x="21905" y="4767"/>
                  <a:pt x="21903" y="4911"/>
                </a:cubicBezTo>
                <a:cubicBezTo>
                  <a:pt x="21901" y="5007"/>
                  <a:pt x="21922" y="5075"/>
                  <a:pt x="21927" y="5159"/>
                </a:cubicBezTo>
                <a:cubicBezTo>
                  <a:pt x="21929" y="5192"/>
                  <a:pt x="21926" y="5226"/>
                  <a:pt x="21927" y="5259"/>
                </a:cubicBezTo>
                <a:cubicBezTo>
                  <a:pt x="22189" y="5309"/>
                  <a:pt x="22462" y="5332"/>
                  <a:pt x="22721" y="5383"/>
                </a:cubicBezTo>
                <a:cubicBezTo>
                  <a:pt x="22802" y="5399"/>
                  <a:pt x="22885" y="5445"/>
                  <a:pt x="22969" y="5457"/>
                </a:cubicBezTo>
                <a:cubicBezTo>
                  <a:pt x="23072" y="5471"/>
                  <a:pt x="23187" y="5457"/>
                  <a:pt x="23292" y="5457"/>
                </a:cubicBezTo>
                <a:cubicBezTo>
                  <a:pt x="23292" y="5173"/>
                  <a:pt x="23257" y="4865"/>
                  <a:pt x="23267" y="4589"/>
                </a:cubicBezTo>
                <a:cubicBezTo>
                  <a:pt x="23271" y="4478"/>
                  <a:pt x="23290" y="4359"/>
                  <a:pt x="23292" y="4242"/>
                </a:cubicBezTo>
                <a:cubicBezTo>
                  <a:pt x="23297" y="3979"/>
                  <a:pt x="23259" y="3705"/>
                  <a:pt x="23267" y="3448"/>
                </a:cubicBezTo>
                <a:cubicBezTo>
                  <a:pt x="23271" y="3314"/>
                  <a:pt x="23290" y="3187"/>
                  <a:pt x="23292" y="3051"/>
                </a:cubicBezTo>
                <a:cubicBezTo>
                  <a:pt x="23294" y="2923"/>
                  <a:pt x="23309" y="2801"/>
                  <a:pt x="23316" y="2679"/>
                </a:cubicBezTo>
                <a:cubicBezTo>
                  <a:pt x="23324" y="2546"/>
                  <a:pt x="23325" y="2414"/>
                  <a:pt x="23341" y="2282"/>
                </a:cubicBezTo>
                <a:cubicBezTo>
                  <a:pt x="23365" y="2082"/>
                  <a:pt x="23366" y="1889"/>
                  <a:pt x="23366" y="1687"/>
                </a:cubicBezTo>
                <a:cubicBezTo>
                  <a:pt x="23366" y="1436"/>
                  <a:pt x="23378" y="1190"/>
                  <a:pt x="23391" y="943"/>
                </a:cubicBezTo>
                <a:cubicBezTo>
                  <a:pt x="23397" y="827"/>
                  <a:pt x="23381" y="709"/>
                  <a:pt x="23366" y="595"/>
                </a:cubicBezTo>
                <a:cubicBezTo>
                  <a:pt x="23357" y="526"/>
                  <a:pt x="23332" y="468"/>
                  <a:pt x="23316" y="397"/>
                </a:cubicBezTo>
                <a:cubicBezTo>
                  <a:pt x="23308" y="362"/>
                  <a:pt x="23323" y="316"/>
                  <a:pt x="23292" y="298"/>
                </a:cubicBezTo>
                <a:cubicBezTo>
                  <a:pt x="23222" y="257"/>
                  <a:pt x="23156" y="296"/>
                  <a:pt x="23068" y="298"/>
                </a:cubicBezTo>
                <a:cubicBezTo>
                  <a:pt x="22953" y="300"/>
                  <a:pt x="22857" y="302"/>
                  <a:pt x="22746" y="322"/>
                </a:cubicBezTo>
                <a:cubicBezTo>
                  <a:pt x="22612" y="346"/>
                  <a:pt x="22481" y="354"/>
                  <a:pt x="22349" y="372"/>
                </a:cubicBezTo>
                <a:cubicBezTo>
                  <a:pt x="22241" y="387"/>
                  <a:pt x="22134" y="432"/>
                  <a:pt x="22027" y="446"/>
                </a:cubicBezTo>
                <a:cubicBezTo>
                  <a:pt x="21924" y="459"/>
                  <a:pt x="21715" y="467"/>
                  <a:pt x="21654" y="471"/>
                </a:cubicBezTo>
                <a:cubicBezTo>
                  <a:pt x="21588" y="475"/>
                  <a:pt x="21522" y="468"/>
                  <a:pt x="21456" y="471"/>
                </a:cubicBezTo>
                <a:cubicBezTo>
                  <a:pt x="21494" y="571"/>
                  <a:pt x="21538" y="688"/>
                  <a:pt x="21580" y="794"/>
                </a:cubicBezTo>
                <a:cubicBezTo>
                  <a:pt x="21588" y="819"/>
                  <a:pt x="21597" y="843"/>
                  <a:pt x="21605" y="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8320" y="1411200"/>
            <a:ext cx="5518440" cy="3321000"/>
          </a:xfrm>
          <a:custGeom>
            <a:avLst/>
            <a:gdLst/>
            <a:ahLst/>
            <a:rect l="l" t="t" r="r" b="b"/>
            <a:pathLst>
              <a:path w="15331" h="9228">
                <a:moveTo>
                  <a:pt x="15379" y="9451"/>
                </a:moveTo>
                <a:lnTo>
                  <a:pt x="15379" y="9451"/>
                </a:lnTo>
              </a:path>
              <a:path w="15331" h="9228">
                <a:moveTo>
                  <a:pt x="20092" y="3919"/>
                </a:moveTo>
                <a:lnTo>
                  <a:pt x="20092" y="3919"/>
                </a:lnTo>
                <a:lnTo>
                  <a:pt x="20092" y="3919"/>
                </a:lnTo>
              </a:path>
              <a:path w="15331" h="9228">
                <a:moveTo>
                  <a:pt x="7764" y="10542"/>
                </a:moveTo>
                <a:lnTo>
                  <a:pt x="7764" y="10542"/>
                </a:lnTo>
              </a:path>
              <a:path w="15331" h="9228">
                <a:moveTo>
                  <a:pt x="8657" y="8756"/>
                </a:moveTo>
                <a:cubicBezTo>
                  <a:pt x="8792" y="8801"/>
                  <a:pt x="8908" y="8807"/>
                  <a:pt x="9054" y="8830"/>
                </a:cubicBezTo>
                <a:cubicBezTo>
                  <a:pt x="9111" y="8849"/>
                  <a:pt x="9118" y="8858"/>
                  <a:pt x="9153" y="8855"/>
                </a:cubicBezTo>
              </a:path>
              <a:path w="15331" h="9228">
                <a:moveTo>
                  <a:pt x="20216" y="10294"/>
                </a:moveTo>
                <a:cubicBezTo>
                  <a:pt x="20224" y="10294"/>
                  <a:pt x="20233" y="10294"/>
                  <a:pt x="20241" y="10294"/>
                </a:cubicBezTo>
              </a:path>
              <a:path w="15331" h="9228">
                <a:moveTo>
                  <a:pt x="19621" y="10468"/>
                </a:moveTo>
                <a:cubicBezTo>
                  <a:pt x="19629" y="10468"/>
                  <a:pt x="19637" y="10468"/>
                  <a:pt x="19645" y="10468"/>
                </a:cubicBezTo>
              </a:path>
              <a:path w="15331" h="9228">
                <a:moveTo>
                  <a:pt x="16272" y="8384"/>
                </a:moveTo>
                <a:lnTo>
                  <a:pt x="16272" y="8384"/>
                </a:lnTo>
              </a:path>
              <a:path w="15331" h="9228">
                <a:moveTo>
                  <a:pt x="17785" y="7888"/>
                </a:moveTo>
                <a:cubicBezTo>
                  <a:pt x="17825" y="7888"/>
                  <a:pt x="17844" y="7899"/>
                  <a:pt x="17859" y="7938"/>
                </a:cubicBezTo>
              </a:path>
              <a:path w="15331" h="9228">
                <a:moveTo>
                  <a:pt x="4911" y="13122"/>
                </a:moveTo>
                <a:cubicBezTo>
                  <a:pt x="4911" y="13130"/>
                  <a:pt x="4911" y="13138"/>
                  <a:pt x="491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200" y="2678040"/>
            <a:ext cx="1911600" cy="1090800"/>
          </a:xfrm>
          <a:custGeom>
            <a:avLst/>
            <a:gdLst/>
            <a:ahLst/>
            <a:rect l="l" t="t" r="r" b="b"/>
            <a:pathLst>
              <a:path w="5310" h="3028">
                <a:moveTo>
                  <a:pt x="446" y="7640"/>
                </a:moveTo>
                <a:cubicBezTo>
                  <a:pt x="524" y="7582"/>
                  <a:pt x="605" y="7634"/>
                  <a:pt x="695" y="7640"/>
                </a:cubicBezTo>
                <a:cubicBezTo>
                  <a:pt x="846" y="7650"/>
                  <a:pt x="990" y="7615"/>
                  <a:pt x="1141" y="7615"/>
                </a:cubicBezTo>
                <a:cubicBezTo>
                  <a:pt x="1149" y="7615"/>
                  <a:pt x="1158" y="7615"/>
                  <a:pt x="1166" y="7615"/>
                </a:cubicBezTo>
              </a:path>
              <a:path w="5310" h="3028">
                <a:moveTo>
                  <a:pt x="868" y="7466"/>
                </a:moveTo>
                <a:cubicBezTo>
                  <a:pt x="891" y="7398"/>
                  <a:pt x="1059" y="7454"/>
                  <a:pt x="1116" y="7466"/>
                </a:cubicBezTo>
                <a:cubicBezTo>
                  <a:pt x="1179" y="7479"/>
                  <a:pt x="1231" y="7504"/>
                  <a:pt x="1290" y="7516"/>
                </a:cubicBezTo>
                <a:cubicBezTo>
                  <a:pt x="1150" y="7675"/>
                  <a:pt x="1007" y="7828"/>
                  <a:pt x="868" y="7987"/>
                </a:cubicBezTo>
              </a:path>
              <a:path w="5310" h="3028">
                <a:moveTo>
                  <a:pt x="4167" y="8062"/>
                </a:moveTo>
                <a:cubicBezTo>
                  <a:pt x="4155" y="8111"/>
                  <a:pt x="4151" y="8111"/>
                  <a:pt x="4142" y="8161"/>
                </a:cubicBezTo>
                <a:cubicBezTo>
                  <a:pt x="4142" y="8169"/>
                  <a:pt x="4142" y="8178"/>
                  <a:pt x="4142" y="8186"/>
                </a:cubicBezTo>
                <a:cubicBezTo>
                  <a:pt x="4327" y="8186"/>
                  <a:pt x="4506" y="8177"/>
                  <a:pt x="4688" y="8161"/>
                </a:cubicBezTo>
                <a:cubicBezTo>
                  <a:pt x="4791" y="8152"/>
                  <a:pt x="4899" y="8170"/>
                  <a:pt x="4986" y="8186"/>
                </a:cubicBezTo>
                <a:cubicBezTo>
                  <a:pt x="5071" y="8201"/>
                  <a:pt x="5174" y="8201"/>
                  <a:pt x="5259" y="8210"/>
                </a:cubicBezTo>
                <a:cubicBezTo>
                  <a:pt x="5420" y="8227"/>
                  <a:pt x="5592" y="8210"/>
                  <a:pt x="5755" y="8210"/>
                </a:cubicBezTo>
                <a:cubicBezTo>
                  <a:pt x="5732" y="8166"/>
                  <a:pt x="5723" y="8126"/>
                  <a:pt x="5705" y="8086"/>
                </a:cubicBezTo>
              </a:path>
              <a:path w="5310" h="3028">
                <a:moveTo>
                  <a:pt x="5705" y="8186"/>
                </a:moveTo>
                <a:cubicBezTo>
                  <a:pt x="5705" y="8172"/>
                  <a:pt x="5694" y="8051"/>
                  <a:pt x="5730" y="8062"/>
                </a:cubicBezTo>
                <a:cubicBezTo>
                  <a:pt x="5730" y="8070"/>
                  <a:pt x="5730" y="8078"/>
                  <a:pt x="5730" y="8086"/>
                </a:cubicBezTo>
              </a:path>
              <a:path w="5310" h="3028">
                <a:moveTo>
                  <a:pt x="571" y="8706"/>
                </a:moveTo>
                <a:cubicBezTo>
                  <a:pt x="715" y="8706"/>
                  <a:pt x="849" y="8668"/>
                  <a:pt x="992" y="8657"/>
                </a:cubicBezTo>
                <a:cubicBezTo>
                  <a:pt x="1064" y="8651"/>
                  <a:pt x="1142" y="8657"/>
                  <a:pt x="1215" y="8657"/>
                </a:cubicBezTo>
              </a:path>
              <a:path w="5310" h="3028">
                <a:moveTo>
                  <a:pt x="546" y="8880"/>
                </a:moveTo>
                <a:cubicBezTo>
                  <a:pt x="727" y="8903"/>
                  <a:pt x="885" y="8886"/>
                  <a:pt x="1067" y="8855"/>
                </a:cubicBezTo>
                <a:cubicBezTo>
                  <a:pt x="1108" y="8847"/>
                  <a:pt x="1150" y="8838"/>
                  <a:pt x="1191" y="8830"/>
                </a:cubicBezTo>
              </a:path>
              <a:path w="5310" h="3028">
                <a:moveTo>
                  <a:pt x="868" y="8533"/>
                </a:moveTo>
                <a:cubicBezTo>
                  <a:pt x="970" y="8553"/>
                  <a:pt x="1068" y="8591"/>
                  <a:pt x="1166" y="8632"/>
                </a:cubicBezTo>
                <a:cubicBezTo>
                  <a:pt x="1146" y="8732"/>
                  <a:pt x="1063" y="8836"/>
                  <a:pt x="1017" y="8930"/>
                </a:cubicBezTo>
                <a:cubicBezTo>
                  <a:pt x="997" y="8970"/>
                  <a:pt x="978" y="8986"/>
                  <a:pt x="1017" y="8979"/>
                </a:cubicBezTo>
              </a:path>
              <a:path w="5310" h="3028">
                <a:moveTo>
                  <a:pt x="868" y="9699"/>
                </a:moveTo>
                <a:cubicBezTo>
                  <a:pt x="785" y="9699"/>
                  <a:pt x="984" y="9699"/>
                  <a:pt x="1067" y="9699"/>
                </a:cubicBezTo>
                <a:cubicBezTo>
                  <a:pt x="1148" y="9699"/>
                  <a:pt x="1212" y="9723"/>
                  <a:pt x="1290" y="9723"/>
                </a:cubicBezTo>
              </a:path>
              <a:path w="5310" h="3028">
                <a:moveTo>
                  <a:pt x="794" y="9971"/>
                </a:moveTo>
                <a:cubicBezTo>
                  <a:pt x="921" y="9971"/>
                  <a:pt x="1099" y="9931"/>
                  <a:pt x="1215" y="9947"/>
                </a:cubicBezTo>
                <a:cubicBezTo>
                  <a:pt x="1215" y="9955"/>
                  <a:pt x="1215" y="9963"/>
                  <a:pt x="1215" y="9971"/>
                </a:cubicBezTo>
              </a:path>
              <a:path w="5310" h="3028">
                <a:moveTo>
                  <a:pt x="918" y="9550"/>
                </a:moveTo>
                <a:cubicBezTo>
                  <a:pt x="1064" y="9572"/>
                  <a:pt x="1226" y="9637"/>
                  <a:pt x="1364" y="9699"/>
                </a:cubicBezTo>
                <a:cubicBezTo>
                  <a:pt x="1387" y="9721"/>
                  <a:pt x="1392" y="9729"/>
                  <a:pt x="1414" y="9723"/>
                </a:cubicBezTo>
                <a:cubicBezTo>
                  <a:pt x="1339" y="9832"/>
                  <a:pt x="1141" y="9995"/>
                  <a:pt x="1091" y="10096"/>
                </a:cubicBezTo>
                <a:cubicBezTo>
                  <a:pt x="1099" y="10096"/>
                  <a:pt x="1108" y="10096"/>
                  <a:pt x="1116" y="10096"/>
                </a:cubicBezTo>
              </a:path>
              <a:path w="5310" h="3028">
                <a:moveTo>
                  <a:pt x="2183" y="10220"/>
                </a:moveTo>
                <a:cubicBezTo>
                  <a:pt x="2183" y="10266"/>
                  <a:pt x="2148" y="10272"/>
                  <a:pt x="2232" y="10344"/>
                </a:cubicBezTo>
                <a:cubicBezTo>
                  <a:pt x="2310" y="10410"/>
                  <a:pt x="2455" y="10456"/>
                  <a:pt x="2555" y="10468"/>
                </a:cubicBezTo>
                <a:cubicBezTo>
                  <a:pt x="2725" y="10488"/>
                  <a:pt x="2825" y="10423"/>
                  <a:pt x="2977" y="10393"/>
                </a:cubicBezTo>
                <a:cubicBezTo>
                  <a:pt x="3088" y="10371"/>
                  <a:pt x="3194" y="10378"/>
                  <a:pt x="3299" y="10319"/>
                </a:cubicBezTo>
                <a:cubicBezTo>
                  <a:pt x="3375" y="10276"/>
                  <a:pt x="3458" y="10175"/>
                  <a:pt x="3497" y="10096"/>
                </a:cubicBezTo>
                <a:cubicBezTo>
                  <a:pt x="3546" y="9997"/>
                  <a:pt x="3595" y="9887"/>
                  <a:pt x="3572" y="9773"/>
                </a:cubicBezTo>
                <a:cubicBezTo>
                  <a:pt x="3556" y="9692"/>
                  <a:pt x="3509" y="9557"/>
                  <a:pt x="3448" y="9500"/>
                </a:cubicBezTo>
                <a:cubicBezTo>
                  <a:pt x="3410" y="9465"/>
                  <a:pt x="3278" y="9413"/>
                  <a:pt x="3225" y="9401"/>
                </a:cubicBezTo>
                <a:cubicBezTo>
                  <a:pt x="3131" y="9380"/>
                  <a:pt x="3024" y="9363"/>
                  <a:pt x="2927" y="9351"/>
                </a:cubicBezTo>
                <a:cubicBezTo>
                  <a:pt x="2777" y="9333"/>
                  <a:pt x="2570" y="9325"/>
                  <a:pt x="2431" y="9376"/>
                </a:cubicBezTo>
                <a:cubicBezTo>
                  <a:pt x="2330" y="9413"/>
                  <a:pt x="2198" y="9441"/>
                  <a:pt x="2108" y="9500"/>
                </a:cubicBezTo>
                <a:cubicBezTo>
                  <a:pt x="2025" y="9555"/>
                  <a:pt x="2012" y="9631"/>
                  <a:pt x="2009" y="9723"/>
                </a:cubicBezTo>
                <a:cubicBezTo>
                  <a:pt x="2005" y="9850"/>
                  <a:pt x="2020" y="9950"/>
                  <a:pt x="2059" y="10071"/>
                </a:cubicBezTo>
                <a:cubicBezTo>
                  <a:pt x="2082" y="10142"/>
                  <a:pt x="2125" y="10181"/>
                  <a:pt x="2158" y="10244"/>
                </a:cubicBezTo>
                <a:cubicBezTo>
                  <a:pt x="2195" y="10314"/>
                  <a:pt x="2242" y="10393"/>
                  <a:pt x="2332" y="10418"/>
                </a:cubicBezTo>
                <a:cubicBezTo>
                  <a:pt x="2384" y="10432"/>
                  <a:pt x="2452" y="10436"/>
                  <a:pt x="2505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8960" y="2697120"/>
            <a:ext cx="2027160" cy="1455840"/>
          </a:xfrm>
          <a:custGeom>
            <a:avLst/>
            <a:gdLst/>
            <a:ahLst/>
            <a:rect l="l" t="t" r="r" b="b"/>
            <a:pathLst>
              <a:path w="5632" h="4044">
                <a:moveTo>
                  <a:pt x="8136" y="7739"/>
                </a:moveTo>
                <a:cubicBezTo>
                  <a:pt x="8265" y="7739"/>
                  <a:pt x="8405" y="7730"/>
                  <a:pt x="8533" y="7714"/>
                </a:cubicBezTo>
                <a:cubicBezTo>
                  <a:pt x="8610" y="7704"/>
                  <a:pt x="8641" y="7689"/>
                  <a:pt x="8706" y="7689"/>
                </a:cubicBezTo>
              </a:path>
              <a:path w="5632" h="4044">
                <a:moveTo>
                  <a:pt x="8136" y="8062"/>
                </a:moveTo>
                <a:cubicBezTo>
                  <a:pt x="8287" y="8040"/>
                  <a:pt x="8429" y="7981"/>
                  <a:pt x="8582" y="7962"/>
                </a:cubicBezTo>
                <a:cubicBezTo>
                  <a:pt x="8640" y="7962"/>
                  <a:pt x="8649" y="7962"/>
                  <a:pt x="8682" y="7962"/>
                </a:cubicBezTo>
              </a:path>
              <a:path w="5632" h="4044">
                <a:moveTo>
                  <a:pt x="8310" y="7491"/>
                </a:moveTo>
                <a:cubicBezTo>
                  <a:pt x="8464" y="7513"/>
                  <a:pt x="8630" y="7495"/>
                  <a:pt x="8781" y="7541"/>
                </a:cubicBezTo>
                <a:cubicBezTo>
                  <a:pt x="8898" y="7576"/>
                  <a:pt x="8684" y="7835"/>
                  <a:pt x="8682" y="7838"/>
                </a:cubicBezTo>
                <a:cubicBezTo>
                  <a:pt x="8613" y="7982"/>
                  <a:pt x="8474" y="8323"/>
                  <a:pt x="8558" y="8186"/>
                </a:cubicBezTo>
              </a:path>
              <a:path w="5632" h="4044">
                <a:moveTo>
                  <a:pt x="11435" y="7962"/>
                </a:moveTo>
                <a:cubicBezTo>
                  <a:pt x="11422" y="7992"/>
                  <a:pt x="11410" y="8066"/>
                  <a:pt x="11410" y="8136"/>
                </a:cubicBezTo>
                <a:cubicBezTo>
                  <a:pt x="11410" y="8161"/>
                  <a:pt x="11410" y="8169"/>
                  <a:pt x="11410" y="8186"/>
                </a:cubicBezTo>
                <a:cubicBezTo>
                  <a:pt x="11552" y="8179"/>
                  <a:pt x="11646" y="8152"/>
                  <a:pt x="11782" y="8111"/>
                </a:cubicBezTo>
                <a:cubicBezTo>
                  <a:pt x="11920" y="8069"/>
                  <a:pt x="12060" y="8040"/>
                  <a:pt x="12204" y="8037"/>
                </a:cubicBezTo>
                <a:cubicBezTo>
                  <a:pt x="12362" y="8033"/>
                  <a:pt x="12546" y="8018"/>
                  <a:pt x="12700" y="7987"/>
                </a:cubicBezTo>
                <a:cubicBezTo>
                  <a:pt x="12762" y="7974"/>
                  <a:pt x="12806" y="7962"/>
                  <a:pt x="12874" y="7962"/>
                </a:cubicBezTo>
                <a:cubicBezTo>
                  <a:pt x="12915" y="7962"/>
                  <a:pt x="12957" y="7962"/>
                  <a:pt x="12998" y="7962"/>
                </a:cubicBezTo>
                <a:cubicBezTo>
                  <a:pt x="12998" y="7894"/>
                  <a:pt x="13001" y="7875"/>
                  <a:pt x="12973" y="7838"/>
                </a:cubicBezTo>
              </a:path>
              <a:path w="5632" h="4044">
                <a:moveTo>
                  <a:pt x="11931" y="8384"/>
                </a:moveTo>
                <a:cubicBezTo>
                  <a:pt x="11897" y="8554"/>
                  <a:pt x="11862" y="8705"/>
                  <a:pt x="11857" y="8880"/>
                </a:cubicBezTo>
                <a:cubicBezTo>
                  <a:pt x="11857" y="8937"/>
                  <a:pt x="11857" y="8979"/>
                  <a:pt x="11857" y="8930"/>
                </a:cubicBezTo>
              </a:path>
              <a:path w="5632" h="4044">
                <a:moveTo>
                  <a:pt x="12204" y="8409"/>
                </a:moveTo>
                <a:cubicBezTo>
                  <a:pt x="12221" y="8486"/>
                  <a:pt x="12214" y="8505"/>
                  <a:pt x="12179" y="8582"/>
                </a:cubicBezTo>
                <a:cubicBezTo>
                  <a:pt x="12256" y="8582"/>
                  <a:pt x="12326" y="8562"/>
                  <a:pt x="12402" y="8558"/>
                </a:cubicBezTo>
                <a:cubicBezTo>
                  <a:pt x="12419" y="8558"/>
                  <a:pt x="12435" y="8558"/>
                  <a:pt x="12452" y="8558"/>
                </a:cubicBezTo>
              </a:path>
              <a:path w="5632" h="4044">
                <a:moveTo>
                  <a:pt x="12378" y="8210"/>
                </a:moveTo>
                <a:cubicBezTo>
                  <a:pt x="12378" y="8353"/>
                  <a:pt x="12361" y="8490"/>
                  <a:pt x="12353" y="8632"/>
                </a:cubicBezTo>
                <a:cubicBezTo>
                  <a:pt x="12347" y="8731"/>
                  <a:pt x="12353" y="8831"/>
                  <a:pt x="12353" y="8930"/>
                </a:cubicBezTo>
              </a:path>
              <a:path w="5632" h="4044">
                <a:moveTo>
                  <a:pt x="10021" y="8558"/>
                </a:moveTo>
                <a:cubicBezTo>
                  <a:pt x="9962" y="8714"/>
                  <a:pt x="10027" y="8867"/>
                  <a:pt x="10021" y="9029"/>
                </a:cubicBezTo>
                <a:cubicBezTo>
                  <a:pt x="10019" y="9096"/>
                  <a:pt x="9996" y="9245"/>
                  <a:pt x="9996" y="9178"/>
                </a:cubicBezTo>
              </a:path>
              <a:path w="5632" h="4044">
                <a:moveTo>
                  <a:pt x="10269" y="8582"/>
                </a:moveTo>
                <a:cubicBezTo>
                  <a:pt x="10340" y="8536"/>
                  <a:pt x="10359" y="8520"/>
                  <a:pt x="10418" y="8533"/>
                </a:cubicBezTo>
                <a:cubicBezTo>
                  <a:pt x="10434" y="8694"/>
                  <a:pt x="10444" y="8725"/>
                  <a:pt x="10344" y="8855"/>
                </a:cubicBezTo>
                <a:cubicBezTo>
                  <a:pt x="10300" y="8812"/>
                  <a:pt x="10532" y="8815"/>
                  <a:pt x="10567" y="8855"/>
                </a:cubicBezTo>
                <a:cubicBezTo>
                  <a:pt x="10660" y="8960"/>
                  <a:pt x="10441" y="9124"/>
                  <a:pt x="10368" y="9153"/>
                </a:cubicBezTo>
                <a:cubicBezTo>
                  <a:pt x="10325" y="9170"/>
                  <a:pt x="10281" y="9189"/>
                  <a:pt x="10269" y="9153"/>
                </a:cubicBezTo>
              </a:path>
              <a:path w="5632" h="4044">
                <a:moveTo>
                  <a:pt x="11038" y="8533"/>
                </a:moveTo>
                <a:cubicBezTo>
                  <a:pt x="11038" y="8641"/>
                  <a:pt x="11072" y="8779"/>
                  <a:pt x="11063" y="8880"/>
                </a:cubicBezTo>
                <a:cubicBezTo>
                  <a:pt x="11055" y="8888"/>
                  <a:pt x="11046" y="8897"/>
                  <a:pt x="11038" y="8905"/>
                </a:cubicBezTo>
              </a:path>
              <a:path w="5632" h="4044">
                <a:moveTo>
                  <a:pt x="10815" y="8806"/>
                </a:moveTo>
                <a:cubicBezTo>
                  <a:pt x="10947" y="8806"/>
                  <a:pt x="11080" y="8806"/>
                  <a:pt x="11212" y="8806"/>
                </a:cubicBezTo>
              </a:path>
              <a:path w="5632" h="4044">
                <a:moveTo>
                  <a:pt x="13072" y="8756"/>
                </a:moveTo>
                <a:cubicBezTo>
                  <a:pt x="13013" y="8756"/>
                  <a:pt x="13137" y="8776"/>
                  <a:pt x="13196" y="8781"/>
                </a:cubicBezTo>
                <a:cubicBezTo>
                  <a:pt x="13279" y="8781"/>
                  <a:pt x="13295" y="8781"/>
                  <a:pt x="13345" y="8781"/>
                </a:cubicBezTo>
              </a:path>
              <a:path w="5632" h="4044">
                <a:moveTo>
                  <a:pt x="13717" y="8508"/>
                </a:moveTo>
                <a:cubicBezTo>
                  <a:pt x="13717" y="8414"/>
                  <a:pt x="13761" y="8638"/>
                  <a:pt x="13767" y="8731"/>
                </a:cubicBezTo>
                <a:cubicBezTo>
                  <a:pt x="13775" y="8845"/>
                  <a:pt x="13767" y="8964"/>
                  <a:pt x="13767" y="9079"/>
                </a:cubicBezTo>
              </a:path>
              <a:path w="5632" h="4044">
                <a:moveTo>
                  <a:pt x="10988" y="8855"/>
                </a:moveTo>
                <a:cubicBezTo>
                  <a:pt x="10996" y="8847"/>
                  <a:pt x="11005" y="8838"/>
                  <a:pt x="11013" y="8830"/>
                </a:cubicBezTo>
                <a:cubicBezTo>
                  <a:pt x="11026" y="8893"/>
                  <a:pt x="11058" y="8938"/>
                  <a:pt x="11063" y="9004"/>
                </a:cubicBezTo>
                <a:cubicBezTo>
                  <a:pt x="11063" y="9029"/>
                  <a:pt x="11063" y="9037"/>
                  <a:pt x="11063" y="9054"/>
                </a:cubicBezTo>
              </a:path>
              <a:path w="5632" h="4044">
                <a:moveTo>
                  <a:pt x="8880" y="10071"/>
                </a:moveTo>
                <a:cubicBezTo>
                  <a:pt x="8955" y="10082"/>
                  <a:pt x="9029" y="10108"/>
                  <a:pt x="9103" y="10120"/>
                </a:cubicBezTo>
              </a:path>
              <a:path w="5632" h="4044">
                <a:moveTo>
                  <a:pt x="8483" y="9079"/>
                </a:moveTo>
                <a:cubicBezTo>
                  <a:pt x="8631" y="9058"/>
                  <a:pt x="8781" y="9028"/>
                  <a:pt x="8930" y="9004"/>
                </a:cubicBezTo>
                <a:cubicBezTo>
                  <a:pt x="9059" y="8984"/>
                  <a:pt x="9058" y="8951"/>
                  <a:pt x="9128" y="9004"/>
                </a:cubicBezTo>
              </a:path>
              <a:path w="5632" h="4044">
                <a:moveTo>
                  <a:pt x="8706" y="8582"/>
                </a:moveTo>
                <a:cubicBezTo>
                  <a:pt x="8901" y="8600"/>
                  <a:pt x="9088" y="8657"/>
                  <a:pt x="9277" y="8706"/>
                </a:cubicBezTo>
                <a:cubicBezTo>
                  <a:pt x="9310" y="8714"/>
                  <a:pt x="9343" y="8723"/>
                  <a:pt x="9376" y="8731"/>
                </a:cubicBezTo>
                <a:cubicBezTo>
                  <a:pt x="9376" y="8917"/>
                  <a:pt x="9203" y="9015"/>
                  <a:pt x="9079" y="9128"/>
                </a:cubicBezTo>
                <a:cubicBezTo>
                  <a:pt x="9030" y="9173"/>
                  <a:pt x="8835" y="9311"/>
                  <a:pt x="8855" y="9351"/>
                </a:cubicBezTo>
              </a:path>
              <a:path w="5632" h="4044">
                <a:moveTo>
                  <a:pt x="10542" y="9227"/>
                </a:moveTo>
                <a:cubicBezTo>
                  <a:pt x="10511" y="9248"/>
                  <a:pt x="10542" y="9322"/>
                  <a:pt x="10517" y="9426"/>
                </a:cubicBezTo>
                <a:cubicBezTo>
                  <a:pt x="10509" y="9434"/>
                  <a:pt x="10500" y="9443"/>
                  <a:pt x="10492" y="9451"/>
                </a:cubicBezTo>
                <a:cubicBezTo>
                  <a:pt x="10631" y="9412"/>
                  <a:pt x="10774" y="9368"/>
                  <a:pt x="10914" y="9327"/>
                </a:cubicBezTo>
                <a:cubicBezTo>
                  <a:pt x="11133" y="9264"/>
                  <a:pt x="11336" y="9259"/>
                  <a:pt x="11559" y="9227"/>
                </a:cubicBezTo>
                <a:cubicBezTo>
                  <a:pt x="11677" y="9210"/>
                  <a:pt x="11798" y="9184"/>
                  <a:pt x="11906" y="9178"/>
                </a:cubicBezTo>
                <a:cubicBezTo>
                  <a:pt x="12001" y="9172"/>
                  <a:pt x="11939" y="9196"/>
                  <a:pt x="11956" y="9128"/>
                </a:cubicBezTo>
                <a:cubicBezTo>
                  <a:pt x="11956" y="9100"/>
                  <a:pt x="11958" y="9089"/>
                  <a:pt x="11981" y="9079"/>
                </a:cubicBezTo>
              </a:path>
              <a:path w="5632" h="4044">
                <a:moveTo>
                  <a:pt x="10988" y="9599"/>
                </a:moveTo>
                <a:cubicBezTo>
                  <a:pt x="10972" y="9664"/>
                  <a:pt x="10954" y="9649"/>
                  <a:pt x="11013" y="9624"/>
                </a:cubicBezTo>
                <a:cubicBezTo>
                  <a:pt x="11038" y="9616"/>
                  <a:pt x="11063" y="9607"/>
                  <a:pt x="11088" y="9599"/>
                </a:cubicBezTo>
                <a:cubicBezTo>
                  <a:pt x="11158" y="9756"/>
                  <a:pt x="11215" y="9871"/>
                  <a:pt x="11088" y="10021"/>
                </a:cubicBezTo>
                <a:cubicBezTo>
                  <a:pt x="10987" y="10140"/>
                  <a:pt x="10835" y="10224"/>
                  <a:pt x="10691" y="10195"/>
                </a:cubicBezTo>
                <a:cubicBezTo>
                  <a:pt x="10705" y="10081"/>
                  <a:pt x="10816" y="10004"/>
                  <a:pt x="10939" y="9996"/>
                </a:cubicBezTo>
                <a:cubicBezTo>
                  <a:pt x="11062" y="9988"/>
                  <a:pt x="11153" y="10095"/>
                  <a:pt x="11212" y="10096"/>
                </a:cubicBezTo>
              </a:path>
              <a:path w="5632" h="4044">
                <a:moveTo>
                  <a:pt x="11311" y="9575"/>
                </a:moveTo>
                <a:cubicBezTo>
                  <a:pt x="11418" y="9575"/>
                  <a:pt x="11506" y="9547"/>
                  <a:pt x="11609" y="9525"/>
                </a:cubicBezTo>
                <a:cubicBezTo>
                  <a:pt x="11617" y="9525"/>
                  <a:pt x="11625" y="9525"/>
                  <a:pt x="11633" y="9525"/>
                </a:cubicBezTo>
                <a:cubicBezTo>
                  <a:pt x="11616" y="9681"/>
                  <a:pt x="11574" y="9837"/>
                  <a:pt x="11559" y="9996"/>
                </a:cubicBezTo>
                <a:cubicBezTo>
                  <a:pt x="11554" y="10052"/>
                  <a:pt x="11559" y="10114"/>
                  <a:pt x="11559" y="10170"/>
                </a:cubicBezTo>
              </a:path>
              <a:path w="5632" h="4044">
                <a:moveTo>
                  <a:pt x="12055" y="9897"/>
                </a:moveTo>
                <a:cubicBezTo>
                  <a:pt x="11996" y="9897"/>
                  <a:pt x="12120" y="9877"/>
                  <a:pt x="12179" y="9872"/>
                </a:cubicBezTo>
                <a:cubicBezTo>
                  <a:pt x="12234" y="9868"/>
                  <a:pt x="12296" y="9872"/>
                  <a:pt x="12353" y="9872"/>
                </a:cubicBezTo>
              </a:path>
              <a:path w="5632" h="4044">
                <a:moveTo>
                  <a:pt x="12675" y="9451"/>
                </a:moveTo>
                <a:cubicBezTo>
                  <a:pt x="12709" y="9650"/>
                  <a:pt x="12764" y="9837"/>
                  <a:pt x="12750" y="10046"/>
                </a:cubicBezTo>
                <a:cubicBezTo>
                  <a:pt x="12731" y="10161"/>
                  <a:pt x="12722" y="10177"/>
                  <a:pt x="12725" y="10244"/>
                </a:cubicBezTo>
              </a:path>
              <a:path w="5632" h="4044">
                <a:moveTo>
                  <a:pt x="8731" y="10145"/>
                </a:moveTo>
                <a:cubicBezTo>
                  <a:pt x="8791" y="10100"/>
                  <a:pt x="8877" y="10120"/>
                  <a:pt x="8954" y="10120"/>
                </a:cubicBezTo>
                <a:cubicBezTo>
                  <a:pt x="9128" y="10120"/>
                  <a:pt x="9301" y="10120"/>
                  <a:pt x="9475" y="10120"/>
                </a:cubicBezTo>
              </a:path>
              <a:path w="5632" h="4044">
                <a:moveTo>
                  <a:pt x="8756" y="10344"/>
                </a:moveTo>
                <a:cubicBezTo>
                  <a:pt x="8935" y="10324"/>
                  <a:pt x="9103" y="10287"/>
                  <a:pt x="9277" y="10244"/>
                </a:cubicBezTo>
                <a:cubicBezTo>
                  <a:pt x="9358" y="10224"/>
                  <a:pt x="9374" y="10234"/>
                  <a:pt x="9426" y="10195"/>
                </a:cubicBezTo>
              </a:path>
              <a:path w="5632" h="4044">
                <a:moveTo>
                  <a:pt x="9203" y="9847"/>
                </a:moveTo>
                <a:cubicBezTo>
                  <a:pt x="9358" y="9895"/>
                  <a:pt x="9566" y="9919"/>
                  <a:pt x="9699" y="10021"/>
                </a:cubicBezTo>
                <a:cubicBezTo>
                  <a:pt x="9699" y="10029"/>
                  <a:pt x="9699" y="10038"/>
                  <a:pt x="9699" y="10046"/>
                </a:cubicBezTo>
                <a:cubicBezTo>
                  <a:pt x="9606" y="10179"/>
                  <a:pt x="9503" y="10313"/>
                  <a:pt x="9401" y="10443"/>
                </a:cubicBezTo>
                <a:cubicBezTo>
                  <a:pt x="9379" y="10465"/>
                  <a:pt x="9370" y="10470"/>
                  <a:pt x="9376" y="10492"/>
                </a:cubicBezTo>
              </a:path>
              <a:path w="5632" h="4044">
                <a:moveTo>
                  <a:pt x="11658" y="10616"/>
                </a:moveTo>
                <a:cubicBezTo>
                  <a:pt x="11755" y="10616"/>
                  <a:pt x="11837" y="10548"/>
                  <a:pt x="11906" y="10666"/>
                </a:cubicBezTo>
                <a:cubicBezTo>
                  <a:pt x="12020" y="10862"/>
                  <a:pt x="11917" y="11144"/>
                  <a:pt x="11683" y="11162"/>
                </a:cubicBezTo>
                <a:cubicBezTo>
                  <a:pt x="11650" y="11154"/>
                  <a:pt x="11617" y="11145"/>
                  <a:pt x="11584" y="11137"/>
                </a:cubicBezTo>
                <a:cubicBezTo>
                  <a:pt x="11603" y="11042"/>
                  <a:pt x="11707" y="10972"/>
                  <a:pt x="11807" y="10964"/>
                </a:cubicBezTo>
                <a:cubicBezTo>
                  <a:pt x="11917" y="10955"/>
                  <a:pt x="11956" y="11038"/>
                  <a:pt x="12005" y="11112"/>
                </a:cubicBezTo>
              </a:path>
              <a:path w="5632" h="4044">
                <a:moveTo>
                  <a:pt x="12129" y="10542"/>
                </a:moveTo>
                <a:cubicBezTo>
                  <a:pt x="12129" y="10693"/>
                  <a:pt x="12120" y="10840"/>
                  <a:pt x="12154" y="10988"/>
                </a:cubicBezTo>
                <a:cubicBezTo>
                  <a:pt x="12188" y="11138"/>
                  <a:pt x="12311" y="11101"/>
                  <a:pt x="12402" y="11013"/>
                </a:cubicBezTo>
                <a:cubicBezTo>
                  <a:pt x="12468" y="10926"/>
                  <a:pt x="12488" y="10908"/>
                  <a:pt x="12502" y="10840"/>
                </a:cubicBezTo>
                <a:cubicBezTo>
                  <a:pt x="12417" y="10755"/>
                  <a:pt x="12370" y="10805"/>
                  <a:pt x="12303" y="10889"/>
                </a:cubicBezTo>
                <a:cubicBezTo>
                  <a:pt x="12261" y="10953"/>
                  <a:pt x="12245" y="10964"/>
                  <a:pt x="12254" y="11013"/>
                </a:cubicBezTo>
              </a:path>
              <a:path w="5632" h="4044">
                <a:moveTo>
                  <a:pt x="11311" y="10393"/>
                </a:moveTo>
                <a:cubicBezTo>
                  <a:pt x="11311" y="10410"/>
                  <a:pt x="11311" y="10426"/>
                  <a:pt x="11311" y="10443"/>
                </a:cubicBezTo>
                <a:cubicBezTo>
                  <a:pt x="11453" y="10414"/>
                  <a:pt x="11547" y="10344"/>
                  <a:pt x="11708" y="10344"/>
                </a:cubicBezTo>
                <a:cubicBezTo>
                  <a:pt x="11856" y="10344"/>
                  <a:pt x="12005" y="10411"/>
                  <a:pt x="12154" y="10418"/>
                </a:cubicBezTo>
                <a:cubicBezTo>
                  <a:pt x="12227" y="10422"/>
                  <a:pt x="12262" y="10410"/>
                  <a:pt x="12328" y="10393"/>
                </a:cubicBezTo>
                <a:cubicBezTo>
                  <a:pt x="12388" y="10378"/>
                  <a:pt x="12392" y="10337"/>
                  <a:pt x="12378" y="10269"/>
                </a:cubicBezTo>
                <a:cubicBezTo>
                  <a:pt x="12358" y="10209"/>
                  <a:pt x="12359" y="10174"/>
                  <a:pt x="12328" y="10220"/>
                </a:cubicBezTo>
              </a:path>
              <a:path w="5632" h="4044">
                <a:moveTo>
                  <a:pt x="11435" y="11385"/>
                </a:moveTo>
                <a:cubicBezTo>
                  <a:pt x="11539" y="11437"/>
                  <a:pt x="11643" y="11472"/>
                  <a:pt x="11757" y="11485"/>
                </a:cubicBezTo>
                <a:cubicBezTo>
                  <a:pt x="11870" y="11498"/>
                  <a:pt x="11970" y="11463"/>
                  <a:pt x="12080" y="11460"/>
                </a:cubicBezTo>
                <a:cubicBezTo>
                  <a:pt x="12228" y="11456"/>
                  <a:pt x="12383" y="11446"/>
                  <a:pt x="12526" y="11410"/>
                </a:cubicBezTo>
                <a:cubicBezTo>
                  <a:pt x="12625" y="11385"/>
                  <a:pt x="12682" y="11338"/>
                  <a:pt x="12750" y="11286"/>
                </a:cubicBezTo>
                <a:cubicBezTo>
                  <a:pt x="12817" y="11235"/>
                  <a:pt x="12882" y="11223"/>
                  <a:pt x="12923" y="11137"/>
                </a:cubicBezTo>
                <a:cubicBezTo>
                  <a:pt x="12951" y="11078"/>
                  <a:pt x="12920" y="10921"/>
                  <a:pt x="12898" y="10864"/>
                </a:cubicBezTo>
                <a:cubicBezTo>
                  <a:pt x="12879" y="10815"/>
                  <a:pt x="12839" y="10773"/>
                  <a:pt x="12799" y="10740"/>
                </a:cubicBezTo>
                <a:cubicBezTo>
                  <a:pt x="12754" y="10703"/>
                  <a:pt x="12709" y="10680"/>
                  <a:pt x="12675" y="10641"/>
                </a:cubicBezTo>
                <a:cubicBezTo>
                  <a:pt x="12613" y="10571"/>
                  <a:pt x="12607" y="10525"/>
                  <a:pt x="12526" y="10492"/>
                </a:cubicBezTo>
                <a:cubicBezTo>
                  <a:pt x="12485" y="10475"/>
                  <a:pt x="12443" y="10442"/>
                  <a:pt x="12402" y="10418"/>
                </a:cubicBezTo>
                <a:cubicBezTo>
                  <a:pt x="12353" y="10390"/>
                  <a:pt x="12310" y="10356"/>
                  <a:pt x="12254" y="10344"/>
                </a:cubicBezTo>
                <a:cubicBezTo>
                  <a:pt x="12162" y="10324"/>
                  <a:pt x="12043" y="10346"/>
                  <a:pt x="11956" y="10368"/>
                </a:cubicBezTo>
                <a:cubicBezTo>
                  <a:pt x="11844" y="10396"/>
                  <a:pt x="11743" y="10406"/>
                  <a:pt x="11633" y="10443"/>
                </a:cubicBezTo>
                <a:cubicBezTo>
                  <a:pt x="11578" y="10462"/>
                  <a:pt x="11535" y="10489"/>
                  <a:pt x="11485" y="10517"/>
                </a:cubicBezTo>
                <a:cubicBezTo>
                  <a:pt x="11414" y="10557"/>
                  <a:pt x="11345" y="10639"/>
                  <a:pt x="11311" y="10716"/>
                </a:cubicBezTo>
                <a:cubicBezTo>
                  <a:pt x="11287" y="10770"/>
                  <a:pt x="11265" y="10823"/>
                  <a:pt x="11261" y="10889"/>
                </a:cubicBezTo>
                <a:cubicBezTo>
                  <a:pt x="11257" y="10954"/>
                  <a:pt x="11271" y="11073"/>
                  <a:pt x="11286" y="11137"/>
                </a:cubicBezTo>
                <a:cubicBezTo>
                  <a:pt x="11302" y="11207"/>
                  <a:pt x="11328" y="11270"/>
                  <a:pt x="11361" y="11336"/>
                </a:cubicBezTo>
                <a:cubicBezTo>
                  <a:pt x="11388" y="11390"/>
                  <a:pt x="11420" y="11417"/>
                  <a:pt x="11460" y="11460"/>
                </a:cubicBezTo>
                <a:cubicBezTo>
                  <a:pt x="11524" y="11528"/>
                  <a:pt x="11524" y="11529"/>
                  <a:pt x="11609" y="11534"/>
                </a:cubicBezTo>
                <a:cubicBezTo>
                  <a:pt x="11681" y="11538"/>
                  <a:pt x="11718" y="11530"/>
                  <a:pt x="11782" y="11509"/>
                </a:cubicBezTo>
                <a:cubicBezTo>
                  <a:pt x="11878" y="11478"/>
                  <a:pt x="11834" y="11476"/>
                  <a:pt x="11906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32640" y="2687760"/>
            <a:ext cx="2277720" cy="1714320"/>
          </a:xfrm>
          <a:custGeom>
            <a:avLst/>
            <a:gdLst/>
            <a:ahLst/>
            <a:rect l="l" t="t" r="r" b="b"/>
            <a:pathLst>
              <a:path w="6326" h="4764">
                <a:moveTo>
                  <a:pt x="16644" y="7913"/>
                </a:moveTo>
                <a:cubicBezTo>
                  <a:pt x="16534" y="8000"/>
                  <a:pt x="16421" y="8074"/>
                  <a:pt x="16297" y="8136"/>
                </a:cubicBezTo>
                <a:cubicBezTo>
                  <a:pt x="16200" y="8184"/>
                  <a:pt x="16150" y="8186"/>
                  <a:pt x="16049" y="8186"/>
                </a:cubicBezTo>
                <a:cubicBezTo>
                  <a:pt x="16024" y="8186"/>
                  <a:pt x="15999" y="8186"/>
                  <a:pt x="15974" y="8186"/>
                </a:cubicBezTo>
              </a:path>
              <a:path w="6326" h="4764">
                <a:moveTo>
                  <a:pt x="16148" y="7838"/>
                </a:moveTo>
                <a:cubicBezTo>
                  <a:pt x="16065" y="7838"/>
                  <a:pt x="16263" y="7858"/>
                  <a:pt x="16346" y="7863"/>
                </a:cubicBezTo>
                <a:cubicBezTo>
                  <a:pt x="16431" y="7868"/>
                  <a:pt x="16535" y="7835"/>
                  <a:pt x="16570" y="7888"/>
                </a:cubicBezTo>
              </a:path>
              <a:path w="6326" h="4764">
                <a:moveTo>
                  <a:pt x="16321" y="7466"/>
                </a:moveTo>
                <a:cubicBezTo>
                  <a:pt x="16488" y="7521"/>
                  <a:pt x="16662" y="7641"/>
                  <a:pt x="16818" y="7739"/>
                </a:cubicBezTo>
                <a:cubicBezTo>
                  <a:pt x="16895" y="7787"/>
                  <a:pt x="16871" y="7798"/>
                  <a:pt x="16917" y="7813"/>
                </a:cubicBezTo>
                <a:cubicBezTo>
                  <a:pt x="16828" y="8010"/>
                  <a:pt x="16697" y="8133"/>
                  <a:pt x="16545" y="8285"/>
                </a:cubicBezTo>
                <a:cubicBezTo>
                  <a:pt x="16515" y="8315"/>
                  <a:pt x="16520" y="8319"/>
                  <a:pt x="16520" y="8359"/>
                </a:cubicBezTo>
              </a:path>
              <a:path w="6326" h="4764">
                <a:moveTo>
                  <a:pt x="15925" y="7938"/>
                </a:moveTo>
                <a:cubicBezTo>
                  <a:pt x="16112" y="7900"/>
                  <a:pt x="16295" y="7830"/>
                  <a:pt x="16495" y="7813"/>
                </a:cubicBezTo>
                <a:cubicBezTo>
                  <a:pt x="16586" y="7813"/>
                  <a:pt x="16594" y="7813"/>
                  <a:pt x="16644" y="7813"/>
                </a:cubicBezTo>
              </a:path>
              <a:path w="6326" h="4764">
                <a:moveTo>
                  <a:pt x="20141" y="8161"/>
                </a:moveTo>
                <a:cubicBezTo>
                  <a:pt x="20132" y="8208"/>
                  <a:pt x="20134" y="8291"/>
                  <a:pt x="20117" y="8334"/>
                </a:cubicBezTo>
                <a:cubicBezTo>
                  <a:pt x="20091" y="8400"/>
                  <a:pt x="20081" y="8412"/>
                  <a:pt x="20166" y="8434"/>
                </a:cubicBezTo>
                <a:cubicBezTo>
                  <a:pt x="20345" y="8480"/>
                  <a:pt x="20546" y="8450"/>
                  <a:pt x="20737" y="8483"/>
                </a:cubicBezTo>
                <a:cubicBezTo>
                  <a:pt x="20863" y="8505"/>
                  <a:pt x="20985" y="8511"/>
                  <a:pt x="21109" y="8533"/>
                </a:cubicBezTo>
                <a:cubicBezTo>
                  <a:pt x="21159" y="8542"/>
                  <a:pt x="21177" y="8554"/>
                  <a:pt x="21208" y="8558"/>
                </a:cubicBezTo>
                <a:cubicBezTo>
                  <a:pt x="21216" y="8558"/>
                  <a:pt x="21225" y="8558"/>
                  <a:pt x="21233" y="8558"/>
                </a:cubicBezTo>
                <a:cubicBezTo>
                  <a:pt x="21243" y="8516"/>
                  <a:pt x="21268" y="8477"/>
                  <a:pt x="21282" y="8458"/>
                </a:cubicBezTo>
                <a:cubicBezTo>
                  <a:pt x="21305" y="8436"/>
                  <a:pt x="21310" y="8428"/>
                  <a:pt x="21332" y="8434"/>
                </a:cubicBezTo>
                <a:cubicBezTo>
                  <a:pt x="21314" y="8349"/>
                  <a:pt x="21307" y="8275"/>
                  <a:pt x="21307" y="8186"/>
                </a:cubicBezTo>
              </a:path>
              <a:path w="6326" h="4764">
                <a:moveTo>
                  <a:pt x="20439" y="8855"/>
                </a:moveTo>
                <a:cubicBezTo>
                  <a:pt x="20380" y="8991"/>
                  <a:pt x="20414" y="9195"/>
                  <a:pt x="20414" y="9351"/>
                </a:cubicBezTo>
                <a:cubicBezTo>
                  <a:pt x="20414" y="9368"/>
                  <a:pt x="20414" y="9384"/>
                  <a:pt x="20414" y="9401"/>
                </a:cubicBezTo>
              </a:path>
              <a:path w="6326" h="4764">
                <a:moveTo>
                  <a:pt x="21034" y="8806"/>
                </a:moveTo>
                <a:cubicBezTo>
                  <a:pt x="20957" y="8819"/>
                  <a:pt x="20892" y="8830"/>
                  <a:pt x="20811" y="8830"/>
                </a:cubicBezTo>
                <a:cubicBezTo>
                  <a:pt x="20755" y="8830"/>
                  <a:pt x="20765" y="8958"/>
                  <a:pt x="20762" y="9004"/>
                </a:cubicBezTo>
                <a:cubicBezTo>
                  <a:pt x="20762" y="9012"/>
                  <a:pt x="20762" y="9021"/>
                  <a:pt x="20762" y="9029"/>
                </a:cubicBezTo>
                <a:cubicBezTo>
                  <a:pt x="20850" y="9029"/>
                  <a:pt x="20953" y="8972"/>
                  <a:pt x="21034" y="9029"/>
                </a:cubicBezTo>
                <a:cubicBezTo>
                  <a:pt x="21203" y="9148"/>
                  <a:pt x="21077" y="9282"/>
                  <a:pt x="20960" y="9351"/>
                </a:cubicBezTo>
                <a:cubicBezTo>
                  <a:pt x="20859" y="9410"/>
                  <a:pt x="20854" y="9411"/>
                  <a:pt x="20762" y="9376"/>
                </a:cubicBezTo>
              </a:path>
              <a:path w="6326" h="4764">
                <a:moveTo>
                  <a:pt x="18479" y="8954"/>
                </a:moveTo>
                <a:cubicBezTo>
                  <a:pt x="18503" y="8946"/>
                  <a:pt x="18545" y="8905"/>
                  <a:pt x="18579" y="8880"/>
                </a:cubicBezTo>
                <a:cubicBezTo>
                  <a:pt x="18624" y="8846"/>
                  <a:pt x="18655" y="8842"/>
                  <a:pt x="18703" y="8880"/>
                </a:cubicBezTo>
                <a:cubicBezTo>
                  <a:pt x="18716" y="8891"/>
                  <a:pt x="18782" y="8966"/>
                  <a:pt x="18777" y="8979"/>
                </a:cubicBezTo>
                <a:cubicBezTo>
                  <a:pt x="18738" y="9087"/>
                  <a:pt x="18613" y="9118"/>
                  <a:pt x="18529" y="9178"/>
                </a:cubicBezTo>
                <a:cubicBezTo>
                  <a:pt x="18439" y="9243"/>
                  <a:pt x="18402" y="9356"/>
                  <a:pt x="18355" y="9451"/>
                </a:cubicBezTo>
                <a:cubicBezTo>
                  <a:pt x="18331" y="9500"/>
                  <a:pt x="18323" y="9517"/>
                  <a:pt x="18306" y="9550"/>
                </a:cubicBezTo>
                <a:cubicBezTo>
                  <a:pt x="18365" y="9520"/>
                  <a:pt x="18482" y="9336"/>
                  <a:pt x="18579" y="9401"/>
                </a:cubicBezTo>
                <a:cubicBezTo>
                  <a:pt x="18600" y="9415"/>
                  <a:pt x="18644" y="9483"/>
                  <a:pt x="18653" y="9500"/>
                </a:cubicBezTo>
              </a:path>
              <a:path w="6326" h="4764">
                <a:moveTo>
                  <a:pt x="19000" y="9029"/>
                </a:moveTo>
                <a:cubicBezTo>
                  <a:pt x="18931" y="9029"/>
                  <a:pt x="18886" y="9137"/>
                  <a:pt x="18876" y="9203"/>
                </a:cubicBezTo>
                <a:cubicBezTo>
                  <a:pt x="18855" y="9339"/>
                  <a:pt x="18914" y="9597"/>
                  <a:pt x="19100" y="9451"/>
                </a:cubicBezTo>
                <a:cubicBezTo>
                  <a:pt x="19250" y="9333"/>
                  <a:pt x="19276" y="9153"/>
                  <a:pt x="19100" y="9079"/>
                </a:cubicBezTo>
                <a:cubicBezTo>
                  <a:pt x="19075" y="9071"/>
                  <a:pt x="19050" y="9062"/>
                  <a:pt x="19025" y="9054"/>
                </a:cubicBezTo>
              </a:path>
              <a:path w="6326" h="4764">
                <a:moveTo>
                  <a:pt x="19720" y="9327"/>
                </a:moveTo>
                <a:cubicBezTo>
                  <a:pt x="19712" y="9319"/>
                  <a:pt x="19703" y="9310"/>
                  <a:pt x="19695" y="9302"/>
                </a:cubicBezTo>
                <a:cubicBezTo>
                  <a:pt x="19761" y="9302"/>
                  <a:pt x="19827" y="9302"/>
                  <a:pt x="19893" y="9302"/>
                </a:cubicBezTo>
              </a:path>
              <a:path w="6326" h="4764">
                <a:moveTo>
                  <a:pt x="21605" y="8979"/>
                </a:moveTo>
                <a:cubicBezTo>
                  <a:pt x="21563" y="8993"/>
                  <a:pt x="21562" y="9147"/>
                  <a:pt x="21555" y="9203"/>
                </a:cubicBezTo>
                <a:cubicBezTo>
                  <a:pt x="21555" y="9247"/>
                  <a:pt x="21558" y="9261"/>
                  <a:pt x="21530" y="9277"/>
                </a:cubicBezTo>
              </a:path>
              <a:path w="6326" h="4764">
                <a:moveTo>
                  <a:pt x="21431" y="9153"/>
                </a:moveTo>
                <a:cubicBezTo>
                  <a:pt x="21522" y="9153"/>
                  <a:pt x="21613" y="9153"/>
                  <a:pt x="21704" y="9153"/>
                </a:cubicBezTo>
              </a:path>
              <a:path w="6326" h="4764">
                <a:moveTo>
                  <a:pt x="22250" y="8830"/>
                </a:moveTo>
                <a:cubicBezTo>
                  <a:pt x="22250" y="8960"/>
                  <a:pt x="22243" y="9100"/>
                  <a:pt x="22225" y="9227"/>
                </a:cubicBezTo>
                <a:cubicBezTo>
                  <a:pt x="22204" y="9310"/>
                  <a:pt x="22196" y="9325"/>
                  <a:pt x="22200" y="9376"/>
                </a:cubicBezTo>
              </a:path>
              <a:path w="6326" h="4764">
                <a:moveTo>
                  <a:pt x="17214" y="9327"/>
                </a:moveTo>
                <a:cubicBezTo>
                  <a:pt x="17247" y="9294"/>
                  <a:pt x="17534" y="9347"/>
                  <a:pt x="17611" y="9351"/>
                </a:cubicBezTo>
                <a:cubicBezTo>
                  <a:pt x="17672" y="9355"/>
                  <a:pt x="17769" y="9381"/>
                  <a:pt x="17711" y="9401"/>
                </a:cubicBezTo>
              </a:path>
              <a:path w="6326" h="4764">
                <a:moveTo>
                  <a:pt x="17264" y="9599"/>
                </a:moveTo>
                <a:cubicBezTo>
                  <a:pt x="17404" y="9623"/>
                  <a:pt x="17541" y="9624"/>
                  <a:pt x="17686" y="9624"/>
                </a:cubicBezTo>
                <a:cubicBezTo>
                  <a:pt x="17702" y="9624"/>
                  <a:pt x="17719" y="9624"/>
                  <a:pt x="17735" y="9624"/>
                </a:cubicBezTo>
              </a:path>
              <a:path w="6326" h="4764">
                <a:moveTo>
                  <a:pt x="17512" y="9153"/>
                </a:moveTo>
                <a:cubicBezTo>
                  <a:pt x="17650" y="9212"/>
                  <a:pt x="17797" y="9266"/>
                  <a:pt x="17934" y="9327"/>
                </a:cubicBezTo>
                <a:cubicBezTo>
                  <a:pt x="17942" y="9335"/>
                  <a:pt x="17951" y="9343"/>
                  <a:pt x="17959" y="9351"/>
                </a:cubicBezTo>
                <a:cubicBezTo>
                  <a:pt x="17929" y="9500"/>
                  <a:pt x="17807" y="9671"/>
                  <a:pt x="17735" y="9798"/>
                </a:cubicBezTo>
                <a:cubicBezTo>
                  <a:pt x="17668" y="9911"/>
                  <a:pt x="17634" y="9961"/>
                  <a:pt x="17735" y="9847"/>
                </a:cubicBezTo>
              </a:path>
              <a:path w="6326" h="4764">
                <a:moveTo>
                  <a:pt x="19075" y="9599"/>
                </a:moveTo>
                <a:cubicBezTo>
                  <a:pt x="19075" y="9591"/>
                  <a:pt x="19075" y="9583"/>
                  <a:pt x="19075" y="9575"/>
                </a:cubicBezTo>
                <a:cubicBezTo>
                  <a:pt x="19103" y="9657"/>
                  <a:pt x="19100" y="9749"/>
                  <a:pt x="19100" y="9847"/>
                </a:cubicBezTo>
                <a:cubicBezTo>
                  <a:pt x="19100" y="9925"/>
                  <a:pt x="19164" y="9931"/>
                  <a:pt x="19248" y="9922"/>
                </a:cubicBezTo>
                <a:cubicBezTo>
                  <a:pt x="19421" y="9904"/>
                  <a:pt x="19598" y="9869"/>
                  <a:pt x="19769" y="9847"/>
                </a:cubicBezTo>
                <a:cubicBezTo>
                  <a:pt x="19880" y="9833"/>
                  <a:pt x="19980" y="9823"/>
                  <a:pt x="20092" y="9823"/>
                </a:cubicBezTo>
                <a:cubicBezTo>
                  <a:pt x="20185" y="9823"/>
                  <a:pt x="20252" y="9803"/>
                  <a:pt x="20340" y="9773"/>
                </a:cubicBezTo>
                <a:cubicBezTo>
                  <a:pt x="20435" y="9741"/>
                  <a:pt x="20562" y="9728"/>
                  <a:pt x="20662" y="9723"/>
                </a:cubicBezTo>
                <a:cubicBezTo>
                  <a:pt x="20704" y="9723"/>
                  <a:pt x="20712" y="9723"/>
                  <a:pt x="20737" y="9723"/>
                </a:cubicBezTo>
                <a:cubicBezTo>
                  <a:pt x="20724" y="9652"/>
                  <a:pt x="20705" y="9584"/>
                  <a:pt x="20687" y="9525"/>
                </a:cubicBezTo>
                <a:cubicBezTo>
                  <a:pt x="20687" y="9517"/>
                  <a:pt x="20687" y="9508"/>
                  <a:pt x="20687" y="9500"/>
                </a:cubicBezTo>
              </a:path>
              <a:path w="6326" h="4764">
                <a:moveTo>
                  <a:pt x="20216" y="10319"/>
                </a:moveTo>
                <a:cubicBezTo>
                  <a:pt x="20253" y="10319"/>
                  <a:pt x="20028" y="10382"/>
                  <a:pt x="19993" y="10393"/>
                </a:cubicBezTo>
                <a:cubicBezTo>
                  <a:pt x="19921" y="10416"/>
                  <a:pt x="19877" y="10427"/>
                  <a:pt x="19844" y="10443"/>
                </a:cubicBezTo>
                <a:cubicBezTo>
                  <a:pt x="19817" y="10456"/>
                  <a:pt x="19799" y="10474"/>
                  <a:pt x="19794" y="10517"/>
                </a:cubicBezTo>
                <a:cubicBezTo>
                  <a:pt x="19785" y="10593"/>
                  <a:pt x="19833" y="10689"/>
                  <a:pt x="19844" y="10765"/>
                </a:cubicBezTo>
                <a:cubicBezTo>
                  <a:pt x="19934" y="10690"/>
                  <a:pt x="20042" y="10616"/>
                  <a:pt x="20166" y="10616"/>
                </a:cubicBezTo>
                <a:cubicBezTo>
                  <a:pt x="20306" y="10616"/>
                  <a:pt x="20346" y="10730"/>
                  <a:pt x="20315" y="10840"/>
                </a:cubicBezTo>
                <a:cubicBezTo>
                  <a:pt x="20256" y="11054"/>
                  <a:pt x="20024" y="11130"/>
                  <a:pt x="19819" y="11112"/>
                </a:cubicBezTo>
                <a:cubicBezTo>
                  <a:pt x="19778" y="11093"/>
                  <a:pt x="19772" y="11085"/>
                  <a:pt x="19745" y="11088"/>
                </a:cubicBezTo>
              </a:path>
              <a:path w="6326" h="4764">
                <a:moveTo>
                  <a:pt x="20737" y="10492"/>
                </a:moveTo>
                <a:cubicBezTo>
                  <a:pt x="20737" y="10624"/>
                  <a:pt x="20737" y="10757"/>
                  <a:pt x="20737" y="10889"/>
                </a:cubicBezTo>
              </a:path>
              <a:path w="6326" h="4764">
                <a:moveTo>
                  <a:pt x="20563" y="10716"/>
                </a:moveTo>
                <a:cubicBezTo>
                  <a:pt x="20667" y="10677"/>
                  <a:pt x="20814" y="10672"/>
                  <a:pt x="20935" y="10666"/>
                </a:cubicBezTo>
                <a:cubicBezTo>
                  <a:pt x="20978" y="10666"/>
                  <a:pt x="21003" y="10660"/>
                  <a:pt x="21034" y="10641"/>
                </a:cubicBezTo>
              </a:path>
              <a:path w="6326" h="4764">
                <a:moveTo>
                  <a:pt x="21357" y="10220"/>
                </a:moveTo>
                <a:cubicBezTo>
                  <a:pt x="21377" y="10393"/>
                  <a:pt x="21416" y="10567"/>
                  <a:pt x="21431" y="10740"/>
                </a:cubicBezTo>
                <a:cubicBezTo>
                  <a:pt x="21435" y="10787"/>
                  <a:pt x="21431" y="10840"/>
                  <a:pt x="21431" y="10889"/>
                </a:cubicBezTo>
              </a:path>
              <a:path w="6326" h="4764">
                <a:moveTo>
                  <a:pt x="17587" y="10840"/>
                </a:moveTo>
                <a:cubicBezTo>
                  <a:pt x="17712" y="10871"/>
                  <a:pt x="17821" y="10850"/>
                  <a:pt x="17959" y="10840"/>
                </a:cubicBezTo>
                <a:cubicBezTo>
                  <a:pt x="18020" y="10840"/>
                  <a:pt x="18035" y="10831"/>
                  <a:pt x="18058" y="10864"/>
                </a:cubicBezTo>
              </a:path>
              <a:path w="6326" h="4764">
                <a:moveTo>
                  <a:pt x="17562" y="11112"/>
                </a:moveTo>
                <a:cubicBezTo>
                  <a:pt x="17720" y="11112"/>
                  <a:pt x="17875" y="11092"/>
                  <a:pt x="18033" y="11088"/>
                </a:cubicBezTo>
                <a:cubicBezTo>
                  <a:pt x="18074" y="11088"/>
                  <a:pt x="18082" y="11088"/>
                  <a:pt x="18107" y="11088"/>
                </a:cubicBezTo>
              </a:path>
              <a:path w="6326" h="4764">
                <a:moveTo>
                  <a:pt x="17661" y="10492"/>
                </a:moveTo>
                <a:cubicBezTo>
                  <a:pt x="17859" y="10586"/>
                  <a:pt x="18044" y="10665"/>
                  <a:pt x="18256" y="10716"/>
                </a:cubicBezTo>
                <a:cubicBezTo>
                  <a:pt x="18289" y="10724"/>
                  <a:pt x="18322" y="10732"/>
                  <a:pt x="18355" y="10740"/>
                </a:cubicBezTo>
                <a:cubicBezTo>
                  <a:pt x="18287" y="10945"/>
                  <a:pt x="18116" y="11091"/>
                  <a:pt x="18033" y="11286"/>
                </a:cubicBezTo>
                <a:cubicBezTo>
                  <a:pt x="18033" y="11311"/>
                  <a:pt x="18033" y="11336"/>
                  <a:pt x="18033" y="11361"/>
                </a:cubicBezTo>
              </a:path>
              <a:path w="6326" h="4764">
                <a:moveTo>
                  <a:pt x="20786" y="11261"/>
                </a:moveTo>
                <a:cubicBezTo>
                  <a:pt x="20726" y="11384"/>
                  <a:pt x="20716" y="11519"/>
                  <a:pt x="20712" y="11658"/>
                </a:cubicBezTo>
                <a:cubicBezTo>
                  <a:pt x="20710" y="11711"/>
                  <a:pt x="20751" y="11832"/>
                  <a:pt x="20811" y="11857"/>
                </a:cubicBezTo>
                <a:cubicBezTo>
                  <a:pt x="20898" y="11893"/>
                  <a:pt x="21073" y="11868"/>
                  <a:pt x="21134" y="11782"/>
                </a:cubicBezTo>
                <a:cubicBezTo>
                  <a:pt x="21168" y="11734"/>
                  <a:pt x="21186" y="11683"/>
                  <a:pt x="21158" y="11633"/>
                </a:cubicBezTo>
                <a:cubicBezTo>
                  <a:pt x="21120" y="11566"/>
                  <a:pt x="21030" y="11551"/>
                  <a:pt x="20960" y="11584"/>
                </a:cubicBezTo>
                <a:cubicBezTo>
                  <a:pt x="20855" y="11633"/>
                  <a:pt x="20877" y="11752"/>
                  <a:pt x="20886" y="11832"/>
                </a:cubicBezTo>
                <a:cubicBezTo>
                  <a:pt x="20886" y="11860"/>
                  <a:pt x="20888" y="11870"/>
                  <a:pt x="20910" y="11881"/>
                </a:cubicBezTo>
              </a:path>
              <a:path w="6326" h="4764">
                <a:moveTo>
                  <a:pt x="20464" y="12105"/>
                </a:moveTo>
                <a:cubicBezTo>
                  <a:pt x="20610" y="12177"/>
                  <a:pt x="20717" y="12239"/>
                  <a:pt x="20886" y="12229"/>
                </a:cubicBezTo>
                <a:cubicBezTo>
                  <a:pt x="21039" y="12220"/>
                  <a:pt x="21249" y="12184"/>
                  <a:pt x="21382" y="12105"/>
                </a:cubicBezTo>
                <a:cubicBezTo>
                  <a:pt x="21521" y="12023"/>
                  <a:pt x="21570" y="11883"/>
                  <a:pt x="21580" y="11733"/>
                </a:cubicBezTo>
                <a:cubicBezTo>
                  <a:pt x="21589" y="11601"/>
                  <a:pt x="21526" y="11477"/>
                  <a:pt x="21431" y="11385"/>
                </a:cubicBezTo>
                <a:cubicBezTo>
                  <a:pt x="21347" y="11304"/>
                  <a:pt x="21251" y="11259"/>
                  <a:pt x="21158" y="11212"/>
                </a:cubicBezTo>
                <a:cubicBezTo>
                  <a:pt x="21050" y="11158"/>
                  <a:pt x="20986" y="11162"/>
                  <a:pt x="20861" y="11162"/>
                </a:cubicBezTo>
                <a:cubicBezTo>
                  <a:pt x="20760" y="11162"/>
                  <a:pt x="20674" y="11179"/>
                  <a:pt x="20588" y="11237"/>
                </a:cubicBezTo>
                <a:cubicBezTo>
                  <a:pt x="20487" y="11305"/>
                  <a:pt x="20450" y="11401"/>
                  <a:pt x="20414" y="11509"/>
                </a:cubicBezTo>
                <a:cubicBezTo>
                  <a:pt x="20379" y="11613"/>
                  <a:pt x="20348" y="11721"/>
                  <a:pt x="20365" y="11832"/>
                </a:cubicBezTo>
                <a:cubicBezTo>
                  <a:pt x="20384" y="11956"/>
                  <a:pt x="20429" y="11963"/>
                  <a:pt x="20489" y="12055"/>
                </a:cubicBezTo>
                <a:cubicBezTo>
                  <a:pt x="20540" y="12133"/>
                  <a:pt x="20586" y="12161"/>
                  <a:pt x="20687" y="12179"/>
                </a:cubicBezTo>
                <a:cubicBezTo>
                  <a:pt x="20738" y="12188"/>
                  <a:pt x="20766" y="12194"/>
                  <a:pt x="20811" y="12204"/>
                </a:cubicBezTo>
                <a:cubicBezTo>
                  <a:pt x="20819" y="12204"/>
                  <a:pt x="20828" y="12204"/>
                  <a:pt x="20836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3240" y="4973760"/>
            <a:ext cx="71640" cy="233280"/>
          </a:xfrm>
          <a:custGeom>
            <a:avLst/>
            <a:gdLst/>
            <a:ahLst/>
            <a:rect l="l" t="t" r="r" b="b"/>
            <a:pathLst>
              <a:path w="200" h="646">
                <a:moveTo>
                  <a:pt x="11609" y="13841"/>
                </a:moveTo>
                <a:cubicBezTo>
                  <a:pt x="11609" y="13776"/>
                  <a:pt x="11550" y="13902"/>
                  <a:pt x="11534" y="13965"/>
                </a:cubicBezTo>
                <a:cubicBezTo>
                  <a:pt x="11485" y="14159"/>
                  <a:pt x="11519" y="14267"/>
                  <a:pt x="11633" y="14412"/>
                </a:cubicBezTo>
                <a:cubicBezTo>
                  <a:pt x="11666" y="14454"/>
                  <a:pt x="11652" y="14461"/>
                  <a:pt x="11708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9840" y="49388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3196" y="13717"/>
                </a:moveTo>
                <a:cubicBezTo>
                  <a:pt x="13262" y="13869"/>
                  <a:pt x="13361" y="13998"/>
                  <a:pt x="13345" y="14188"/>
                </a:cubicBezTo>
                <a:cubicBezTo>
                  <a:pt x="13342" y="14228"/>
                  <a:pt x="13266" y="14431"/>
                  <a:pt x="13221" y="14461"/>
                </a:cubicBezTo>
                <a:cubicBezTo>
                  <a:pt x="13213" y="14461"/>
                  <a:pt x="13204" y="14461"/>
                  <a:pt x="13196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57880" y="5045040"/>
            <a:ext cx="438120" cy="108000"/>
          </a:xfrm>
          <a:custGeom>
            <a:avLst/>
            <a:gdLst/>
            <a:ahLst/>
            <a:rect l="l" t="t" r="r" b="b"/>
            <a:pathLst>
              <a:path w="1216" h="298">
                <a:moveTo>
                  <a:pt x="14908" y="14312"/>
                </a:moveTo>
                <a:cubicBezTo>
                  <a:pt x="14900" y="14312"/>
                  <a:pt x="14891" y="14312"/>
                  <a:pt x="14883" y="14312"/>
                </a:cubicBezTo>
              </a:path>
              <a:path w="1216" h="298">
                <a:moveTo>
                  <a:pt x="15478" y="14188"/>
                </a:moveTo>
                <a:lnTo>
                  <a:pt x="15478" y="14188"/>
                </a:lnTo>
              </a:path>
              <a:path w="1216" h="298">
                <a:moveTo>
                  <a:pt x="16098" y="14015"/>
                </a:moveTo>
                <a:cubicBezTo>
                  <a:pt x="16098" y="14023"/>
                  <a:pt x="16098" y="14031"/>
                  <a:pt x="1609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7840" y="5037120"/>
            <a:ext cx="1349280" cy="357120"/>
          </a:xfrm>
          <a:custGeom>
            <a:avLst/>
            <a:gdLst/>
            <a:ahLst/>
            <a:rect l="l" t="t" r="r" b="b"/>
            <a:pathLst>
              <a:path w="3746" h="993">
                <a:moveTo>
                  <a:pt x="13494" y="14684"/>
                </a:moveTo>
                <a:cubicBezTo>
                  <a:pt x="13629" y="14684"/>
                  <a:pt x="13755" y="14678"/>
                  <a:pt x="13891" y="14660"/>
                </a:cubicBezTo>
                <a:cubicBezTo>
                  <a:pt x="13994" y="14646"/>
                  <a:pt x="14062" y="14635"/>
                  <a:pt x="14163" y="14635"/>
                </a:cubicBezTo>
              </a:path>
              <a:path w="3746" h="993">
                <a:moveTo>
                  <a:pt x="13717" y="14436"/>
                </a:moveTo>
                <a:cubicBezTo>
                  <a:pt x="13641" y="14534"/>
                  <a:pt x="13575" y="14639"/>
                  <a:pt x="13494" y="14734"/>
                </a:cubicBezTo>
                <a:cubicBezTo>
                  <a:pt x="13611" y="14834"/>
                  <a:pt x="13734" y="14858"/>
                  <a:pt x="13866" y="14932"/>
                </a:cubicBezTo>
                <a:cubicBezTo>
                  <a:pt x="13874" y="14940"/>
                  <a:pt x="13883" y="14949"/>
                  <a:pt x="13891" y="14957"/>
                </a:cubicBezTo>
              </a:path>
              <a:path w="3746" h="993">
                <a:moveTo>
                  <a:pt x="14808" y="14610"/>
                </a:moveTo>
                <a:cubicBezTo>
                  <a:pt x="14852" y="14595"/>
                  <a:pt x="14876" y="14512"/>
                  <a:pt x="14833" y="14461"/>
                </a:cubicBezTo>
                <a:cubicBezTo>
                  <a:pt x="14709" y="14315"/>
                  <a:pt x="14541" y="14475"/>
                  <a:pt x="14486" y="14585"/>
                </a:cubicBezTo>
                <a:cubicBezTo>
                  <a:pt x="14424" y="14710"/>
                  <a:pt x="14407" y="15009"/>
                  <a:pt x="14635" y="14982"/>
                </a:cubicBezTo>
                <a:cubicBezTo>
                  <a:pt x="14744" y="14927"/>
                  <a:pt x="14783" y="14901"/>
                  <a:pt x="14808" y="14808"/>
                </a:cubicBezTo>
              </a:path>
              <a:path w="3746" h="993">
                <a:moveTo>
                  <a:pt x="14635" y="14139"/>
                </a:moveTo>
                <a:cubicBezTo>
                  <a:pt x="14678" y="14326"/>
                  <a:pt x="14774" y="14501"/>
                  <a:pt x="14833" y="14684"/>
                </a:cubicBezTo>
                <a:cubicBezTo>
                  <a:pt x="14855" y="14792"/>
                  <a:pt x="14858" y="14819"/>
                  <a:pt x="14883" y="14883"/>
                </a:cubicBezTo>
              </a:path>
              <a:path w="3746" h="993">
                <a:moveTo>
                  <a:pt x="15007" y="14461"/>
                </a:moveTo>
                <a:cubicBezTo>
                  <a:pt x="15045" y="14594"/>
                  <a:pt x="15066" y="14722"/>
                  <a:pt x="15081" y="14858"/>
                </a:cubicBezTo>
                <a:cubicBezTo>
                  <a:pt x="15081" y="14850"/>
                  <a:pt x="15081" y="14841"/>
                  <a:pt x="15081" y="14833"/>
                </a:cubicBezTo>
              </a:path>
              <a:path w="3746" h="993">
                <a:moveTo>
                  <a:pt x="15156" y="14337"/>
                </a:moveTo>
                <a:cubicBezTo>
                  <a:pt x="15178" y="14474"/>
                  <a:pt x="15265" y="14580"/>
                  <a:pt x="15354" y="14684"/>
                </a:cubicBezTo>
                <a:cubicBezTo>
                  <a:pt x="15379" y="14709"/>
                  <a:pt x="15404" y="14734"/>
                  <a:pt x="15429" y="14759"/>
                </a:cubicBezTo>
                <a:cubicBezTo>
                  <a:pt x="15429" y="14651"/>
                  <a:pt x="15429" y="14544"/>
                  <a:pt x="15429" y="14436"/>
                </a:cubicBezTo>
              </a:path>
              <a:path w="3746" h="993">
                <a:moveTo>
                  <a:pt x="15602" y="14387"/>
                </a:moveTo>
                <a:cubicBezTo>
                  <a:pt x="15609" y="14427"/>
                  <a:pt x="15652" y="14726"/>
                  <a:pt x="15652" y="14684"/>
                </a:cubicBezTo>
              </a:path>
              <a:path w="3746" h="993">
                <a:moveTo>
                  <a:pt x="15875" y="14188"/>
                </a:moveTo>
                <a:cubicBezTo>
                  <a:pt x="15805" y="14206"/>
                  <a:pt x="15739" y="14290"/>
                  <a:pt x="15677" y="14337"/>
                </a:cubicBezTo>
                <a:cubicBezTo>
                  <a:pt x="15788" y="14332"/>
                  <a:pt x="16091" y="14235"/>
                  <a:pt x="16073" y="14436"/>
                </a:cubicBezTo>
                <a:cubicBezTo>
                  <a:pt x="16062" y="14565"/>
                  <a:pt x="15885" y="14673"/>
                  <a:pt x="15776" y="14585"/>
                </a:cubicBezTo>
                <a:cubicBezTo>
                  <a:pt x="15776" y="14577"/>
                  <a:pt x="15776" y="14568"/>
                  <a:pt x="15776" y="14560"/>
                </a:cubicBezTo>
              </a:path>
              <a:path w="3746" h="993">
                <a:moveTo>
                  <a:pt x="16173" y="14188"/>
                </a:moveTo>
                <a:cubicBezTo>
                  <a:pt x="16210" y="14295"/>
                  <a:pt x="16190" y="14383"/>
                  <a:pt x="16272" y="14461"/>
                </a:cubicBezTo>
              </a:path>
              <a:path w="3746" h="993">
                <a:moveTo>
                  <a:pt x="16470" y="14064"/>
                </a:moveTo>
                <a:cubicBezTo>
                  <a:pt x="16399" y="14151"/>
                  <a:pt x="16337" y="14268"/>
                  <a:pt x="16371" y="14387"/>
                </a:cubicBezTo>
                <a:cubicBezTo>
                  <a:pt x="16388" y="14412"/>
                  <a:pt x="16404" y="14436"/>
                  <a:pt x="16421" y="14461"/>
                </a:cubicBezTo>
                <a:cubicBezTo>
                  <a:pt x="16572" y="14423"/>
                  <a:pt x="16776" y="14280"/>
                  <a:pt x="16619" y="14089"/>
                </a:cubicBezTo>
                <a:cubicBezTo>
                  <a:pt x="16562" y="14020"/>
                  <a:pt x="16471" y="14039"/>
                  <a:pt x="16396" y="14039"/>
                </a:cubicBezTo>
              </a:path>
              <a:path w="3746" h="993">
                <a:moveTo>
                  <a:pt x="16842" y="14188"/>
                </a:moveTo>
                <a:cubicBezTo>
                  <a:pt x="16882" y="14288"/>
                  <a:pt x="16887" y="14306"/>
                  <a:pt x="16917" y="14362"/>
                </a:cubicBezTo>
                <a:cubicBezTo>
                  <a:pt x="16898" y="14269"/>
                  <a:pt x="16829" y="14192"/>
                  <a:pt x="16842" y="14089"/>
                </a:cubicBezTo>
                <a:cubicBezTo>
                  <a:pt x="16858" y="13961"/>
                  <a:pt x="17047" y="13962"/>
                  <a:pt x="17115" y="14039"/>
                </a:cubicBezTo>
                <a:cubicBezTo>
                  <a:pt x="17182" y="14115"/>
                  <a:pt x="17231" y="14264"/>
                  <a:pt x="17239" y="14362"/>
                </a:cubicBezTo>
                <a:cubicBezTo>
                  <a:pt x="17239" y="14370"/>
                  <a:pt x="17239" y="14379"/>
                  <a:pt x="1723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37160" y="585792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5379" y="16272"/>
                </a:moveTo>
                <a:cubicBezTo>
                  <a:pt x="15408" y="16279"/>
                  <a:pt x="15424" y="16289"/>
                  <a:pt x="15453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98960" y="5384880"/>
            <a:ext cx="81000" cy="322200"/>
          </a:xfrm>
          <a:custGeom>
            <a:avLst/>
            <a:gdLst/>
            <a:ahLst/>
            <a:rect l="l" t="t" r="r" b="b"/>
            <a:pathLst>
              <a:path w="225" h="894">
                <a:moveTo>
                  <a:pt x="11435" y="14957"/>
                </a:moveTo>
                <a:cubicBezTo>
                  <a:pt x="11408" y="15118"/>
                  <a:pt x="11388" y="15262"/>
                  <a:pt x="11385" y="15429"/>
                </a:cubicBezTo>
                <a:cubicBezTo>
                  <a:pt x="11384" y="15517"/>
                  <a:pt x="11362" y="15761"/>
                  <a:pt x="11460" y="15825"/>
                </a:cubicBezTo>
                <a:cubicBezTo>
                  <a:pt x="11514" y="15860"/>
                  <a:pt x="11530" y="15837"/>
                  <a:pt x="11609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05200" y="5411880"/>
            <a:ext cx="63720" cy="322200"/>
          </a:xfrm>
          <a:custGeom>
            <a:avLst/>
            <a:gdLst/>
            <a:ahLst/>
            <a:rect l="l" t="t" r="r" b="b"/>
            <a:pathLst>
              <a:path w="175" h="894">
                <a:moveTo>
                  <a:pt x="13122" y="15032"/>
                </a:moveTo>
                <a:cubicBezTo>
                  <a:pt x="13206" y="15146"/>
                  <a:pt x="13254" y="15304"/>
                  <a:pt x="13246" y="15453"/>
                </a:cubicBezTo>
                <a:cubicBezTo>
                  <a:pt x="13237" y="15633"/>
                  <a:pt x="13149" y="15771"/>
                  <a:pt x="1307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9680" y="5688000"/>
            <a:ext cx="1179360" cy="527040"/>
          </a:xfrm>
          <a:custGeom>
            <a:avLst/>
            <a:gdLst/>
            <a:ahLst/>
            <a:rect l="l" t="t" r="r" b="b"/>
            <a:pathLst>
              <a:path w="3275" h="1464">
                <a:moveTo>
                  <a:pt x="14759" y="15925"/>
                </a:moveTo>
                <a:cubicBezTo>
                  <a:pt x="14751" y="15917"/>
                  <a:pt x="14742" y="15908"/>
                  <a:pt x="14734" y="15900"/>
                </a:cubicBezTo>
                <a:cubicBezTo>
                  <a:pt x="14734" y="16042"/>
                  <a:pt x="14716" y="16180"/>
                  <a:pt x="14709" y="16321"/>
                </a:cubicBezTo>
                <a:cubicBezTo>
                  <a:pt x="14709" y="16329"/>
                  <a:pt x="14709" y="16338"/>
                  <a:pt x="14709" y="16346"/>
                </a:cubicBezTo>
              </a:path>
              <a:path w="3275" h="1464">
                <a:moveTo>
                  <a:pt x="15255" y="15801"/>
                </a:moveTo>
                <a:cubicBezTo>
                  <a:pt x="15215" y="15809"/>
                  <a:pt x="15036" y="15815"/>
                  <a:pt x="15007" y="15850"/>
                </a:cubicBezTo>
                <a:cubicBezTo>
                  <a:pt x="14969" y="15896"/>
                  <a:pt x="14963" y="15990"/>
                  <a:pt x="14957" y="16073"/>
                </a:cubicBezTo>
                <a:cubicBezTo>
                  <a:pt x="15053" y="16036"/>
                  <a:pt x="15204" y="15959"/>
                  <a:pt x="15304" y="16024"/>
                </a:cubicBezTo>
                <a:cubicBezTo>
                  <a:pt x="15452" y="16120"/>
                  <a:pt x="15279" y="16253"/>
                  <a:pt x="15180" y="16272"/>
                </a:cubicBezTo>
                <a:cubicBezTo>
                  <a:pt x="15105" y="16272"/>
                  <a:pt x="15079" y="16272"/>
                  <a:pt x="15032" y="16247"/>
                </a:cubicBezTo>
              </a:path>
              <a:path w="3275" h="1464">
                <a:moveTo>
                  <a:pt x="14139" y="16570"/>
                </a:moveTo>
                <a:cubicBezTo>
                  <a:pt x="14395" y="16548"/>
                  <a:pt x="14654" y="16488"/>
                  <a:pt x="14908" y="16446"/>
                </a:cubicBezTo>
                <a:cubicBezTo>
                  <a:pt x="15187" y="16400"/>
                  <a:pt x="15469" y="16361"/>
                  <a:pt x="15751" y="16346"/>
                </a:cubicBezTo>
                <a:cubicBezTo>
                  <a:pt x="15759" y="16346"/>
                  <a:pt x="15768" y="16346"/>
                  <a:pt x="15776" y="16346"/>
                </a:cubicBezTo>
              </a:path>
              <a:path w="3275" h="1464">
                <a:moveTo>
                  <a:pt x="15106" y="16644"/>
                </a:moveTo>
                <a:cubicBezTo>
                  <a:pt x="15178" y="16608"/>
                  <a:pt x="15012" y="16660"/>
                  <a:pt x="14932" y="16669"/>
                </a:cubicBezTo>
                <a:cubicBezTo>
                  <a:pt x="14781" y="16686"/>
                  <a:pt x="14812" y="16632"/>
                  <a:pt x="14833" y="16768"/>
                </a:cubicBezTo>
                <a:cubicBezTo>
                  <a:pt x="14833" y="16818"/>
                  <a:pt x="14833" y="16834"/>
                  <a:pt x="14833" y="16867"/>
                </a:cubicBezTo>
                <a:cubicBezTo>
                  <a:pt x="14849" y="16883"/>
                  <a:pt x="14905" y="16790"/>
                  <a:pt x="14982" y="16793"/>
                </a:cubicBezTo>
                <a:cubicBezTo>
                  <a:pt x="15054" y="16796"/>
                  <a:pt x="15175" y="16909"/>
                  <a:pt x="15156" y="16991"/>
                </a:cubicBezTo>
                <a:cubicBezTo>
                  <a:pt x="15125" y="17126"/>
                  <a:pt x="14967" y="17158"/>
                  <a:pt x="14858" y="17165"/>
                </a:cubicBezTo>
                <a:cubicBezTo>
                  <a:pt x="14833" y="17165"/>
                  <a:pt x="14809" y="17165"/>
                  <a:pt x="14784" y="17165"/>
                </a:cubicBezTo>
              </a:path>
              <a:path w="3275" h="1464">
                <a:moveTo>
                  <a:pt x="15974" y="16470"/>
                </a:moveTo>
                <a:cubicBezTo>
                  <a:pt x="16048" y="16470"/>
                  <a:pt x="16123" y="16470"/>
                  <a:pt x="16197" y="16470"/>
                </a:cubicBezTo>
              </a:path>
              <a:path w="3275" h="1464">
                <a:moveTo>
                  <a:pt x="15949" y="16694"/>
                </a:moveTo>
                <a:cubicBezTo>
                  <a:pt x="16067" y="16688"/>
                  <a:pt x="16180" y="16669"/>
                  <a:pt x="16297" y="16669"/>
                </a:cubicBezTo>
              </a:path>
              <a:path w="3275" h="1464">
                <a:moveTo>
                  <a:pt x="16619" y="16346"/>
                </a:moveTo>
                <a:cubicBezTo>
                  <a:pt x="16666" y="16323"/>
                  <a:pt x="16718" y="16280"/>
                  <a:pt x="16768" y="16247"/>
                </a:cubicBezTo>
                <a:cubicBezTo>
                  <a:pt x="16848" y="16343"/>
                  <a:pt x="16898" y="16444"/>
                  <a:pt x="16842" y="16570"/>
                </a:cubicBezTo>
                <a:cubicBezTo>
                  <a:pt x="16816" y="16628"/>
                  <a:pt x="16751" y="16648"/>
                  <a:pt x="16743" y="16644"/>
                </a:cubicBezTo>
                <a:cubicBezTo>
                  <a:pt x="16800" y="16634"/>
                  <a:pt x="16931" y="16613"/>
                  <a:pt x="16942" y="16718"/>
                </a:cubicBezTo>
                <a:cubicBezTo>
                  <a:pt x="16961" y="16894"/>
                  <a:pt x="16718" y="16966"/>
                  <a:pt x="16594" y="16991"/>
                </a:cubicBezTo>
                <a:cubicBezTo>
                  <a:pt x="16550" y="16991"/>
                  <a:pt x="16536" y="16994"/>
                  <a:pt x="16520" y="16966"/>
                </a:cubicBezTo>
              </a:path>
              <a:path w="3275" h="1464">
                <a:moveTo>
                  <a:pt x="16173" y="17140"/>
                </a:moveTo>
                <a:cubicBezTo>
                  <a:pt x="16299" y="17284"/>
                  <a:pt x="16428" y="17279"/>
                  <a:pt x="16619" y="17264"/>
                </a:cubicBezTo>
                <a:cubicBezTo>
                  <a:pt x="16871" y="17244"/>
                  <a:pt x="17090" y="17159"/>
                  <a:pt x="17264" y="16966"/>
                </a:cubicBezTo>
                <a:cubicBezTo>
                  <a:pt x="17382" y="16834"/>
                  <a:pt x="17455" y="16624"/>
                  <a:pt x="17413" y="16446"/>
                </a:cubicBezTo>
                <a:cubicBezTo>
                  <a:pt x="17382" y="16316"/>
                  <a:pt x="17308" y="16121"/>
                  <a:pt x="17165" y="16073"/>
                </a:cubicBezTo>
                <a:cubicBezTo>
                  <a:pt x="17046" y="16033"/>
                  <a:pt x="16842" y="16037"/>
                  <a:pt x="16718" y="16049"/>
                </a:cubicBezTo>
                <a:cubicBezTo>
                  <a:pt x="16600" y="16060"/>
                  <a:pt x="16418" y="16087"/>
                  <a:pt x="16321" y="16148"/>
                </a:cubicBezTo>
                <a:cubicBezTo>
                  <a:pt x="16222" y="16210"/>
                  <a:pt x="16181" y="16346"/>
                  <a:pt x="16148" y="16446"/>
                </a:cubicBezTo>
                <a:cubicBezTo>
                  <a:pt x="16094" y="16607"/>
                  <a:pt x="16128" y="16743"/>
                  <a:pt x="16197" y="16892"/>
                </a:cubicBezTo>
                <a:cubicBezTo>
                  <a:pt x="16246" y="16998"/>
                  <a:pt x="16297" y="17050"/>
                  <a:pt x="16371" y="17115"/>
                </a:cubicBezTo>
                <a:cubicBezTo>
                  <a:pt x="16379" y="17123"/>
                  <a:pt x="16388" y="17132"/>
                  <a:pt x="16396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28840" y="4483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994" y="12452"/>
                </a:moveTo>
                <a:cubicBezTo>
                  <a:pt x="3958" y="12452"/>
                  <a:pt x="3983" y="12444"/>
                  <a:pt x="3994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35080" y="2500200"/>
            <a:ext cx="223920" cy="71640"/>
          </a:xfrm>
          <a:custGeom>
            <a:avLst/>
            <a:gdLst/>
            <a:ahLst/>
            <a:rect l="l" t="t" r="r" b="b"/>
            <a:pathLst>
              <a:path w="622" h="200">
                <a:moveTo>
                  <a:pt x="5755" y="7144"/>
                </a:moveTo>
                <a:cubicBezTo>
                  <a:pt x="5717" y="7131"/>
                  <a:pt x="5726" y="7122"/>
                  <a:pt x="5705" y="7094"/>
                </a:cubicBezTo>
                <a:cubicBezTo>
                  <a:pt x="5662" y="7037"/>
                  <a:pt x="5584" y="7062"/>
                  <a:pt x="5755" y="7020"/>
                </a:cubicBezTo>
                <a:cubicBezTo>
                  <a:pt x="5862" y="6998"/>
                  <a:pt x="5886" y="6990"/>
                  <a:pt x="5953" y="6995"/>
                </a:cubicBezTo>
                <a:cubicBezTo>
                  <a:pt x="5961" y="6995"/>
                  <a:pt x="5970" y="6995"/>
                  <a:pt x="5978" y="6995"/>
                </a:cubicBezTo>
                <a:cubicBezTo>
                  <a:pt x="5923" y="6995"/>
                  <a:pt x="5742" y="7004"/>
                  <a:pt x="5779" y="6995"/>
                </a:cubicBezTo>
                <a:cubicBezTo>
                  <a:pt x="5917" y="6962"/>
                  <a:pt x="6060" y="6963"/>
                  <a:pt x="6201" y="6945"/>
                </a:cubicBezTo>
                <a:cubicBezTo>
                  <a:pt x="6060" y="6983"/>
                  <a:pt x="5919" y="6990"/>
                  <a:pt x="5779" y="7020"/>
                </a:cubicBezTo>
                <a:cubicBezTo>
                  <a:pt x="5894" y="6971"/>
                  <a:pt x="6046" y="6992"/>
                  <a:pt x="6176" y="6970"/>
                </a:cubicBezTo>
                <a:cubicBezTo>
                  <a:pt x="6234" y="6951"/>
                  <a:pt x="6241" y="6942"/>
                  <a:pt x="6276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74800" y="5295960"/>
            <a:ext cx="465120" cy="71280"/>
          </a:xfrm>
          <a:custGeom>
            <a:avLst/>
            <a:gdLst/>
            <a:ahLst/>
            <a:rect l="l" t="t" r="r" b="b"/>
            <a:pathLst>
              <a:path w="1291" h="200">
                <a:moveTo>
                  <a:pt x="2431" y="14709"/>
                </a:moveTo>
                <a:cubicBezTo>
                  <a:pt x="2490" y="14753"/>
                  <a:pt x="2448" y="14840"/>
                  <a:pt x="2505" y="14883"/>
                </a:cubicBezTo>
                <a:cubicBezTo>
                  <a:pt x="2610" y="14962"/>
                  <a:pt x="2841" y="14888"/>
                  <a:pt x="2952" y="14883"/>
                </a:cubicBezTo>
                <a:cubicBezTo>
                  <a:pt x="3151" y="14873"/>
                  <a:pt x="3349" y="14865"/>
                  <a:pt x="3547" y="14858"/>
                </a:cubicBezTo>
                <a:cubicBezTo>
                  <a:pt x="3608" y="14856"/>
                  <a:pt x="3621" y="14870"/>
                  <a:pt x="3671" y="14883"/>
                </a:cubicBezTo>
                <a:cubicBezTo>
                  <a:pt x="3671" y="14822"/>
                  <a:pt x="3688" y="14783"/>
                  <a:pt x="372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8080" y="54561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3076" y="15156"/>
                </a:moveTo>
                <a:cubicBezTo>
                  <a:pt x="3209" y="15177"/>
                  <a:pt x="3335" y="15180"/>
                  <a:pt x="3473" y="15180"/>
                </a:cubicBezTo>
                <a:cubicBezTo>
                  <a:pt x="3514" y="15180"/>
                  <a:pt x="3522" y="15180"/>
                  <a:pt x="3547" y="15180"/>
                </a:cubicBezTo>
                <a:cubicBezTo>
                  <a:pt x="3518" y="15356"/>
                  <a:pt x="3424" y="15508"/>
                  <a:pt x="3373" y="15677"/>
                </a:cubicBezTo>
                <a:cubicBezTo>
                  <a:pt x="3359" y="15724"/>
                  <a:pt x="3362" y="15789"/>
                  <a:pt x="3398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00120" y="54738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217" y="15205"/>
                </a:moveTo>
                <a:cubicBezTo>
                  <a:pt x="4181" y="15301"/>
                  <a:pt x="4173" y="15440"/>
                  <a:pt x="4167" y="15553"/>
                </a:cubicBezTo>
                <a:cubicBezTo>
                  <a:pt x="4167" y="15561"/>
                  <a:pt x="4167" y="15569"/>
                  <a:pt x="416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28840" y="5545080"/>
            <a:ext cx="160200" cy="97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3969" y="15429"/>
                </a:moveTo>
                <a:cubicBezTo>
                  <a:pt x="4113" y="15429"/>
                  <a:pt x="4282" y="15462"/>
                  <a:pt x="4415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14680" y="5446800"/>
            <a:ext cx="115560" cy="9036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4787" y="15131"/>
                </a:moveTo>
                <a:cubicBezTo>
                  <a:pt x="4778" y="15140"/>
                  <a:pt x="4771" y="15271"/>
                  <a:pt x="4762" y="15329"/>
                </a:cubicBezTo>
                <a:cubicBezTo>
                  <a:pt x="4762" y="15346"/>
                  <a:pt x="4762" y="15362"/>
                  <a:pt x="4762" y="15379"/>
                </a:cubicBezTo>
                <a:cubicBezTo>
                  <a:pt x="4856" y="15366"/>
                  <a:pt x="4939" y="15354"/>
                  <a:pt x="5035" y="15354"/>
                </a:cubicBezTo>
                <a:cubicBezTo>
                  <a:pt x="5060" y="15354"/>
                  <a:pt x="5068" y="15354"/>
                  <a:pt x="5085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375160"/>
            <a:ext cx="972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5011" y="14932"/>
                </a:moveTo>
                <a:cubicBezTo>
                  <a:pt x="5011" y="15090"/>
                  <a:pt x="4989" y="15245"/>
                  <a:pt x="4986" y="15404"/>
                </a:cubicBezTo>
                <a:cubicBezTo>
                  <a:pt x="4984" y="15503"/>
                  <a:pt x="4986" y="15602"/>
                  <a:pt x="4986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0200" y="5670720"/>
            <a:ext cx="420840" cy="125280"/>
          </a:xfrm>
          <a:custGeom>
            <a:avLst/>
            <a:gdLst/>
            <a:ahLst/>
            <a:rect l="l" t="t" r="r" b="b"/>
            <a:pathLst>
              <a:path w="1167" h="348">
                <a:moveTo>
                  <a:pt x="3696" y="15925"/>
                </a:moveTo>
                <a:cubicBezTo>
                  <a:pt x="3705" y="15943"/>
                  <a:pt x="3701" y="16039"/>
                  <a:pt x="3696" y="16098"/>
                </a:cubicBezTo>
                <a:cubicBezTo>
                  <a:pt x="3962" y="16019"/>
                  <a:pt x="4160" y="16016"/>
                  <a:pt x="4440" y="16024"/>
                </a:cubicBezTo>
                <a:cubicBezTo>
                  <a:pt x="4550" y="16027"/>
                  <a:pt x="4654" y="16049"/>
                  <a:pt x="4762" y="16049"/>
                </a:cubicBezTo>
                <a:cubicBezTo>
                  <a:pt x="4780" y="15957"/>
                  <a:pt x="4835" y="15867"/>
                  <a:pt x="4862" y="15776"/>
                </a:cubicBezTo>
                <a:cubicBezTo>
                  <a:pt x="4862" y="15768"/>
                  <a:pt x="4862" y="15759"/>
                  <a:pt x="4862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55840" y="592920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4068" y="16495"/>
                </a:moveTo>
                <a:cubicBezTo>
                  <a:pt x="4068" y="16396"/>
                  <a:pt x="4077" y="16644"/>
                  <a:pt x="4068" y="16743"/>
                </a:cubicBezTo>
                <a:cubicBezTo>
                  <a:pt x="4049" y="16859"/>
                  <a:pt x="4040" y="16875"/>
                  <a:pt x="4043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33680" y="592920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4539" y="16470"/>
                </a:moveTo>
                <a:cubicBezTo>
                  <a:pt x="4558" y="16604"/>
                  <a:pt x="4564" y="16730"/>
                  <a:pt x="4564" y="16867"/>
                </a:cubicBezTo>
                <a:cubicBezTo>
                  <a:pt x="4564" y="16941"/>
                  <a:pt x="4564" y="16950"/>
                  <a:pt x="4564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24000" y="5813280"/>
            <a:ext cx="625320" cy="438120"/>
          </a:xfrm>
          <a:custGeom>
            <a:avLst/>
            <a:gdLst/>
            <a:ahLst/>
            <a:rect l="l" t="t" r="r" b="b"/>
            <a:pathLst>
              <a:path w="1738" h="1216">
                <a:moveTo>
                  <a:pt x="3721" y="17140"/>
                </a:moveTo>
                <a:cubicBezTo>
                  <a:pt x="3846" y="17278"/>
                  <a:pt x="3980" y="17306"/>
                  <a:pt x="4167" y="17338"/>
                </a:cubicBezTo>
                <a:cubicBezTo>
                  <a:pt x="4376" y="17373"/>
                  <a:pt x="4615" y="17350"/>
                  <a:pt x="4812" y="17264"/>
                </a:cubicBezTo>
                <a:cubicBezTo>
                  <a:pt x="4992" y="17185"/>
                  <a:pt x="5109" y="17036"/>
                  <a:pt x="5135" y="16842"/>
                </a:cubicBezTo>
                <a:cubicBezTo>
                  <a:pt x="5152" y="16714"/>
                  <a:pt x="5041" y="16563"/>
                  <a:pt x="4961" y="16470"/>
                </a:cubicBezTo>
                <a:cubicBezTo>
                  <a:pt x="4843" y="16333"/>
                  <a:pt x="4738" y="16240"/>
                  <a:pt x="4564" y="16197"/>
                </a:cubicBezTo>
                <a:cubicBezTo>
                  <a:pt x="4396" y="16155"/>
                  <a:pt x="4240" y="16148"/>
                  <a:pt x="4068" y="16148"/>
                </a:cubicBezTo>
                <a:cubicBezTo>
                  <a:pt x="3909" y="16148"/>
                  <a:pt x="3709" y="16153"/>
                  <a:pt x="3572" y="16247"/>
                </a:cubicBezTo>
                <a:cubicBezTo>
                  <a:pt x="3401" y="16364"/>
                  <a:pt x="3386" y="16581"/>
                  <a:pt x="3398" y="16768"/>
                </a:cubicBezTo>
                <a:cubicBezTo>
                  <a:pt x="3413" y="17004"/>
                  <a:pt x="3485" y="17174"/>
                  <a:pt x="3696" y="17289"/>
                </a:cubicBezTo>
                <a:cubicBezTo>
                  <a:pt x="3784" y="17337"/>
                  <a:pt x="3873" y="17353"/>
                  <a:pt x="3969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x (2+3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x 7 – 5 x 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32 +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(6 -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x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70 -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Challenge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ce parentheses in the following problems to make each statement tr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3.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3 + 9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9 =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 + 4 x 4 = 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15.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 + 9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4 – 1 =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 x 9 – 4 + 3 = 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ourse 1 Homework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Workbook (PW) page 7 odd problems 1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W pg.7 1-11 od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#5 is a challenge prob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8960" y="4116240"/>
            <a:ext cx="3349440" cy="135000"/>
          </a:xfrm>
          <a:custGeom>
            <a:avLst/>
            <a:gdLst/>
            <a:ahLst/>
            <a:rect l="l" t="t" r="r" b="b"/>
            <a:pathLst>
              <a:path w="9303" h="373">
                <a:moveTo>
                  <a:pt x="8136" y="11633"/>
                </a:moveTo>
                <a:cubicBezTo>
                  <a:pt x="8158" y="11625"/>
                  <a:pt x="8208" y="11602"/>
                  <a:pt x="8260" y="11658"/>
                </a:cubicBezTo>
                <a:cubicBezTo>
                  <a:pt x="8308" y="11710"/>
                  <a:pt x="8391" y="11755"/>
                  <a:pt x="8483" y="11733"/>
                </a:cubicBezTo>
                <a:cubicBezTo>
                  <a:pt x="8536" y="11720"/>
                  <a:pt x="8599" y="11659"/>
                  <a:pt x="8632" y="11633"/>
                </a:cubicBezTo>
                <a:cubicBezTo>
                  <a:pt x="8678" y="11725"/>
                  <a:pt x="8695" y="11851"/>
                  <a:pt x="8830" y="11807"/>
                </a:cubicBezTo>
                <a:cubicBezTo>
                  <a:pt x="8887" y="11789"/>
                  <a:pt x="8969" y="11670"/>
                  <a:pt x="9029" y="11683"/>
                </a:cubicBezTo>
                <a:cubicBezTo>
                  <a:pt x="9258" y="11732"/>
                  <a:pt x="9264" y="11867"/>
                  <a:pt x="9525" y="11708"/>
                </a:cubicBezTo>
                <a:cubicBezTo>
                  <a:pt x="9617" y="11635"/>
                  <a:pt x="9629" y="11631"/>
                  <a:pt x="9674" y="11584"/>
                </a:cubicBezTo>
              </a:path>
              <a:path w="9303" h="373">
                <a:moveTo>
                  <a:pt x="11881" y="11485"/>
                </a:moveTo>
                <a:cubicBezTo>
                  <a:pt x="11918" y="11429"/>
                  <a:pt x="12071" y="11439"/>
                  <a:pt x="12154" y="11435"/>
                </a:cubicBezTo>
                <a:cubicBezTo>
                  <a:pt x="12179" y="11435"/>
                  <a:pt x="12187" y="11435"/>
                  <a:pt x="12154" y="11435"/>
                </a:cubicBezTo>
                <a:cubicBezTo>
                  <a:pt x="12094" y="11475"/>
                  <a:pt x="11875" y="11465"/>
                  <a:pt x="11807" y="11534"/>
                </a:cubicBezTo>
                <a:cubicBezTo>
                  <a:pt x="11798" y="11543"/>
                  <a:pt x="12137" y="11537"/>
                  <a:pt x="12179" y="11534"/>
                </a:cubicBezTo>
                <a:cubicBezTo>
                  <a:pt x="12117" y="11551"/>
                  <a:pt x="11887" y="11597"/>
                  <a:pt x="11931" y="11609"/>
                </a:cubicBezTo>
                <a:cubicBezTo>
                  <a:pt x="11989" y="11625"/>
                  <a:pt x="12254" y="11635"/>
                  <a:pt x="12030" y="11658"/>
                </a:cubicBezTo>
                <a:cubicBezTo>
                  <a:pt x="11997" y="11658"/>
                  <a:pt x="11964" y="11658"/>
                  <a:pt x="11931" y="11658"/>
                </a:cubicBezTo>
                <a:cubicBezTo>
                  <a:pt x="11972" y="11658"/>
                  <a:pt x="12141" y="11649"/>
                  <a:pt x="12129" y="11658"/>
                </a:cubicBezTo>
                <a:cubicBezTo>
                  <a:pt x="12121" y="11658"/>
                  <a:pt x="12113" y="11658"/>
                  <a:pt x="12105" y="11658"/>
                </a:cubicBezTo>
              </a:path>
              <a:path w="9303" h="373">
                <a:moveTo>
                  <a:pt x="13022" y="11633"/>
                </a:moveTo>
                <a:cubicBezTo>
                  <a:pt x="13064" y="11627"/>
                  <a:pt x="13054" y="11613"/>
                  <a:pt x="13097" y="11609"/>
                </a:cubicBezTo>
                <a:cubicBezTo>
                  <a:pt x="13287" y="11590"/>
                  <a:pt x="13485" y="11618"/>
                  <a:pt x="13667" y="11633"/>
                </a:cubicBezTo>
                <a:cubicBezTo>
                  <a:pt x="13743" y="11639"/>
                  <a:pt x="13821" y="11651"/>
                  <a:pt x="13891" y="11658"/>
                </a:cubicBezTo>
                <a:cubicBezTo>
                  <a:pt x="14070" y="11676"/>
                  <a:pt x="14260" y="11669"/>
                  <a:pt x="14436" y="11683"/>
                </a:cubicBezTo>
                <a:cubicBezTo>
                  <a:pt x="14529" y="11690"/>
                  <a:pt x="14619" y="11698"/>
                  <a:pt x="14709" y="11708"/>
                </a:cubicBezTo>
                <a:cubicBezTo>
                  <a:pt x="15094" y="11751"/>
                  <a:pt x="15518" y="11709"/>
                  <a:pt x="15900" y="11683"/>
                </a:cubicBezTo>
                <a:cubicBezTo>
                  <a:pt x="16074" y="11671"/>
                  <a:pt x="16248" y="11645"/>
                  <a:pt x="16421" y="11633"/>
                </a:cubicBezTo>
                <a:cubicBezTo>
                  <a:pt x="16566" y="11623"/>
                  <a:pt x="16723" y="11629"/>
                  <a:pt x="16867" y="11609"/>
                </a:cubicBezTo>
                <a:cubicBezTo>
                  <a:pt x="16954" y="11597"/>
                  <a:pt x="17054" y="11600"/>
                  <a:pt x="17140" y="11584"/>
                </a:cubicBezTo>
                <a:cubicBezTo>
                  <a:pt x="17191" y="11575"/>
                  <a:pt x="17213" y="11564"/>
                  <a:pt x="17264" y="11559"/>
                </a:cubicBezTo>
                <a:cubicBezTo>
                  <a:pt x="17318" y="11554"/>
                  <a:pt x="17392" y="11609"/>
                  <a:pt x="17413" y="11559"/>
                </a:cubicBezTo>
                <a:cubicBezTo>
                  <a:pt x="17418" y="11548"/>
                  <a:pt x="17450" y="11576"/>
                  <a:pt x="17338" y="11534"/>
                </a:cubicBezTo>
              </a:path>
              <a:path w="9303" h="373">
                <a:moveTo>
                  <a:pt x="15404" y="11485"/>
                </a:moveTo>
                <a:cubicBezTo>
                  <a:pt x="15470" y="11524"/>
                  <a:pt x="15542" y="11549"/>
                  <a:pt x="15652" y="11534"/>
                </a:cubicBezTo>
                <a:cubicBezTo>
                  <a:pt x="15808" y="11512"/>
                  <a:pt x="15965" y="11490"/>
                  <a:pt x="16123" y="11485"/>
                </a:cubicBezTo>
                <a:cubicBezTo>
                  <a:pt x="16243" y="11481"/>
                  <a:pt x="16365" y="11476"/>
                  <a:pt x="16470" y="11460"/>
                </a:cubicBezTo>
                <a:cubicBezTo>
                  <a:pt x="16621" y="11437"/>
                  <a:pt x="16792" y="11449"/>
                  <a:pt x="16942" y="11435"/>
                </a:cubicBezTo>
                <a:cubicBezTo>
                  <a:pt x="17068" y="11423"/>
                  <a:pt x="17196" y="11441"/>
                  <a:pt x="17314" y="11460"/>
                </a:cubicBezTo>
                <a:cubicBezTo>
                  <a:pt x="17353" y="11466"/>
                  <a:pt x="17398" y="11460"/>
                  <a:pt x="17438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0800" y="4160880"/>
            <a:ext cx="2662200" cy="2367000"/>
          </a:xfrm>
          <a:custGeom>
            <a:avLst/>
            <a:gdLst/>
            <a:ahLst/>
            <a:rect l="l" t="t" r="r" b="b"/>
            <a:pathLst>
              <a:path w="7393" h="6574">
                <a:moveTo>
                  <a:pt x="9674" y="11584"/>
                </a:moveTo>
                <a:lnTo>
                  <a:pt x="9674" y="11584"/>
                </a:lnTo>
              </a:path>
              <a:path w="7393" h="6574">
                <a:moveTo>
                  <a:pt x="9674" y="11559"/>
                </a:moveTo>
                <a:lnTo>
                  <a:pt x="9674" y="11559"/>
                </a:lnTo>
              </a:path>
              <a:path w="7393" h="6574">
                <a:moveTo>
                  <a:pt x="9649" y="11584"/>
                </a:moveTo>
                <a:lnTo>
                  <a:pt x="9649" y="11584"/>
                </a:lnTo>
              </a:path>
              <a:path w="7393" h="6574">
                <a:moveTo>
                  <a:pt x="2282" y="18107"/>
                </a:moveTo>
                <a:cubicBezTo>
                  <a:pt x="2282" y="18115"/>
                  <a:pt x="2282" y="18124"/>
                  <a:pt x="2282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6T19:20:25Z</dcterms:modified>
  <cp:revision>46</cp:revision>
  <dc:subject/>
  <dc:title>Unit 1 – Variables and Equations </dc:title>
</cp:coreProperties>
</file>